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DB0-53ED-4056-9014-03DE01EC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65440"/>
            <a:ext cx="80755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500-2A60-4ED3-B322-46C5BABC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504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01A-8E89-4071-8C18-BEA31677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440" y="76500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7680" y="76500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6544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440" y="356544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7680" y="356544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01D-C330-411B-94CF-74A04CD1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7FA-1D90-4B89-B77E-CE843FF4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214a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3D6C-07FC-4B0F-BA71-4D94D16E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42D2-6BFF-4DB4-B122-80833A19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0FD1-3257-405F-892D-D8AB4AF2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9B82-C0F4-41E8-B3EB-9F7EA26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4000" y="13176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214a"/>
              </a:solidFill>
              <a:latin typeface="Futura LT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8867-B72A-443E-84F1-1C35F623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986-0525-4057-B3DF-C26C82FD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214a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8E1-EC73-4F39-BE6E-B708752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504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1765-1128-419C-8FFD-7F077D0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65440"/>
            <a:ext cx="80755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1B9-1C4A-4269-8083-7E254F0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65440"/>
            <a:ext cx="80755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C92D-09DE-4D70-AB7F-C2019070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504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CDAB-AA53-426F-838D-65E570F5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440" y="76500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680" y="76500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6544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440" y="356544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680" y="3565440"/>
            <a:ext cx="25999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7B63-7F73-4CF1-8935-B23C8E03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D44-7EA2-4BA0-A66F-DBDA2C2A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D33-695A-4FF6-8AC8-E0E5439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616-8092-4A0A-B53A-4718CA2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3176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214a"/>
              </a:solidFill>
              <a:latin typeface="Futura LT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CA0-6533-4F8F-A7E2-B4AEDE7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106-9972-4AF8-AD6F-E743580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5040" y="356544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F69-202D-41DC-BF43-4716DB51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5040" y="765000"/>
            <a:ext cx="394056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65440"/>
            <a:ext cx="80755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C62-3FE0-4AEE-AD28-E3486E05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Click to edit the title text format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db495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db495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db495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698-C49B-4AAE-902F-F112F07A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620640"/>
            <a:ext cx="7343640" cy="0"/>
          </a:xfrm>
          <a:prstGeom prst="line">
            <a:avLst/>
          </a:prstGeom>
          <a:ln w="76320">
            <a:solidFill>
              <a:srgbClr val="db2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644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A4A-9A01-4E38-A6EC-352BA1B9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14a"/>
                </a:solidFill>
                <a:latin typeface="Futura LT Book"/>
              </a:rPr>
              <a:t>Click to edit the outline text format</a:t>
            </a:r>
            <a:endParaRPr b="0" lang="en-US" sz="2400" spc="-1" strike="noStrike">
              <a:solidFill>
                <a:srgbClr val="db214a"/>
              </a:solidFill>
              <a:latin typeface="Futura LT Boo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lvl="2" marL="914400" algn="ctr">
              <a:spcBef>
                <a:spcPts val="499"/>
              </a:spcBef>
              <a:buClr>
                <a:srgbClr val="db4950"/>
              </a:buClr>
              <a:buFont typeface="Franklin Gothic 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4990"/>
              </a:solidFill>
              <a:latin typeface="Franklin Gothic Book"/>
            </a:endParaRPr>
          </a:p>
          <a:p>
            <a:pPr lvl="3" marL="1371600" algn="ctr">
              <a:spcBef>
                <a:spcPts val="451"/>
              </a:spcBef>
              <a:buClr>
                <a:srgbClr val="db4950"/>
              </a:buClr>
              <a:buFont typeface="Franklin Gothic Boo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004990"/>
              </a:solidFill>
              <a:latin typeface="Franklin Gothic Book"/>
            </a:endParaRPr>
          </a:p>
          <a:p>
            <a:pPr lvl="4" marL="1828800" algn="ctr">
              <a:spcBef>
                <a:spcPts val="451"/>
              </a:spcBef>
              <a:buClr>
                <a:srgbClr val="db4950"/>
              </a:buClr>
              <a:buFont typeface="Franklin Gothic Boo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Franklin Gothic Book"/>
              </a:rPr>
              <a:t>Fifth Outline Level</a:t>
            </a:r>
            <a:endParaRPr b="0" lang="en-US" sz="1800" spc="-1" strike="noStrike">
              <a:solidFill>
                <a:srgbClr val="004990"/>
              </a:solidFill>
              <a:latin typeface="Franklin Gothic Book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Franklin Gothic Book"/>
              </a:rPr>
              <a:t>Sixth Outline Level</a:t>
            </a:r>
            <a:endParaRPr b="0" lang="en-US" sz="1800" spc="-1" strike="noStrike">
              <a:solidFill>
                <a:srgbClr val="004990"/>
              </a:solidFill>
              <a:latin typeface="Franklin Gothic Book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990"/>
                </a:solidFill>
                <a:latin typeface="Franklin Gothic Book"/>
              </a:rPr>
              <a:t>Seventh Outline Level</a:t>
            </a:r>
            <a:endParaRPr b="0" lang="en-US" sz="1800" spc="-1" strike="noStrike">
              <a:solidFill>
                <a:srgbClr val="00499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644640"/>
            <a:ext cx="799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4990"/>
                </a:solidFill>
                <a:latin typeface="Futura XBlk BT"/>
              </a:rPr>
              <a:t>Ver Contigo, a.c.</a:t>
            </a:r>
            <a:endParaRPr b="0" lang="en-US" sz="54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2360" y="4508640"/>
            <a:ext cx="7272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214a"/>
              </a:solidFill>
              <a:latin typeface="Futura LT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Psicología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4978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990"/>
                </a:solidFill>
                <a:latin typeface="Franklin Gothic Book"/>
              </a:rPr>
              <a:t>Esta área trabaja con la familia y el niñ@ con visión baja o ceguera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990"/>
                </a:solidFill>
                <a:latin typeface="Franklin Gothic Book"/>
              </a:rPr>
              <a:t>Facilita la funcionalidad del grupo familiar, procurando alcanzar un manejo sano de la situación y los procesos psicológicos que se desarrollan al tener un niñ@ ciego o con visión baja en la familia. 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990"/>
                </a:solidFill>
                <a:latin typeface="Franklin Gothic Book"/>
              </a:rPr>
              <a:t>Brinda asesoría y orientación psicológica al usuario y su familia a fin de anticipar situaciones que impidan el desarrollo adecuado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907920"/>
            <a:ext cx="2614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Resumen de Actividades 2007</a:t>
            </a: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	</a:t>
            </a:r>
            <a:endParaRPr b="0" lang="en-US" sz="32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18" name="2 Marcador de contenido"/>
          <p:cNvSpPr/>
          <p:nvPr/>
        </p:nvSpPr>
        <p:spPr>
          <a:xfrm>
            <a:off x="457200" y="1163520"/>
            <a:ext cx="807552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3,324</a:t>
            </a:r>
            <a:r>
              <a:rPr b="0" lang="en-US" sz="3200" spc="-1" strike="noStrike">
                <a:solidFill>
                  <a:srgbClr val="00499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Asesorías durante el ejercici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275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8548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Entrenamiento Visual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Demi"/>
              </a:rPr>
              <a:t>1,152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 ases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8548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Apoyo Académico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0,</a:t>
            </a:r>
            <a:r>
              <a:rPr b="0" lang="en-US" sz="2400" spc="-1" strike="noStrike">
                <a:solidFill>
                  <a:srgbClr val="004990"/>
                </a:solidFill>
                <a:latin typeface="Franklin Gothic Demi"/>
              </a:rPr>
              <a:t>664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 ases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8548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Atención Temprana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0,</a:t>
            </a:r>
            <a:r>
              <a:rPr b="0" lang="en-US" sz="2400" spc="-1" strike="noStrike">
                <a:solidFill>
                  <a:srgbClr val="004990"/>
                </a:solidFill>
                <a:latin typeface="Franklin Gothic Demi"/>
              </a:rPr>
              <a:t>353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 ases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8548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Desarrollo de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Habilidades Físicas 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0,</a:t>
            </a:r>
            <a:r>
              <a:rPr b="0" lang="en-US" sz="2400" spc="-1" strike="noStrike">
                <a:solidFill>
                  <a:srgbClr val="004990"/>
                </a:solidFill>
                <a:latin typeface="Franklin Gothic Demi"/>
              </a:rPr>
              <a:t>882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 ases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8548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Braille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0,</a:t>
            </a:r>
            <a:r>
              <a:rPr b="0" lang="en-US" sz="2400" spc="-1" strike="noStrike">
                <a:solidFill>
                  <a:srgbClr val="004990"/>
                </a:solidFill>
                <a:latin typeface="Franklin Gothic Demi"/>
              </a:rPr>
              <a:t>182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 ases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-285480">
              <a:lnSpc>
                <a:spcPct val="10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Psicología 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0,0</a:t>
            </a:r>
            <a:r>
              <a:rPr b="0" lang="en-US" sz="2400" spc="-1" strike="noStrike">
                <a:solidFill>
                  <a:srgbClr val="004990"/>
                </a:solidFill>
                <a:latin typeface="Franklin Gothic Demi"/>
              </a:rPr>
              <a:t>91</a:t>
            </a:r>
            <a:r>
              <a:rPr b="0" lang="en-US" sz="2400" spc="-1" strike="noStrike">
                <a:solidFill>
                  <a:srgbClr val="004990"/>
                </a:solidFill>
                <a:latin typeface="Franklin Gothic Book"/>
              </a:rPr>
              <a:t> ases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4990"/>
                </a:solidFill>
                <a:latin typeface="Futura XBlk BT"/>
              </a:rPr>
              <a:t>63</a:t>
            </a:r>
            <a:r>
              <a:rPr b="0" lang="es-MX" sz="2000" spc="-1" strike="noStrike">
                <a:solidFill>
                  <a:srgbClr val="004990"/>
                </a:solidFill>
                <a:latin typeface="Franklin Gothic Book"/>
              </a:rPr>
              <a:t> </a:t>
            </a:r>
            <a:r>
              <a:rPr b="0" lang="es-MX" sz="2000" spc="-1" strike="noStrike">
                <a:solidFill>
                  <a:srgbClr val="004990"/>
                </a:solidFill>
                <a:latin typeface="Franklin Gothic Demi"/>
              </a:rPr>
              <a:t>Canalizaciones </a:t>
            </a:r>
            <a:r>
              <a:rPr b="0" lang="es-MX" sz="2000" spc="-1" strike="noStrike">
                <a:solidFill>
                  <a:srgbClr val="004990"/>
                </a:solidFill>
                <a:latin typeface="Franklin Gothic Book"/>
              </a:rPr>
              <a:t>con Médicos Voluntarios</a:t>
            </a:r>
            <a:endParaRPr b="0" lang="en-US" sz="20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4990"/>
                </a:solidFill>
                <a:latin typeface="Futura XBlk BT"/>
              </a:rPr>
              <a:t>80</a:t>
            </a:r>
            <a:r>
              <a:rPr b="0" lang="es-MX" sz="2000" spc="-1" strike="noStrike">
                <a:solidFill>
                  <a:srgbClr val="004990"/>
                </a:solidFill>
                <a:latin typeface="Franklin Gothic Book"/>
              </a:rPr>
              <a:t> </a:t>
            </a:r>
            <a:r>
              <a:rPr b="0" lang="es-MX" sz="2000" spc="-1" strike="noStrike">
                <a:solidFill>
                  <a:srgbClr val="004990"/>
                </a:solidFill>
                <a:latin typeface="Franklin Gothic Demi"/>
              </a:rPr>
              <a:t>Evaluaciones Optométricas</a:t>
            </a:r>
            <a:endParaRPr b="0" lang="en-US" sz="20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4990"/>
                </a:solidFill>
                <a:latin typeface="Futura XBlk BT"/>
              </a:rPr>
              <a:t>106</a:t>
            </a:r>
            <a:r>
              <a:rPr b="0" lang="es-MX" sz="2000" spc="-1" strike="noStrike">
                <a:solidFill>
                  <a:srgbClr val="004990"/>
                </a:solidFill>
                <a:latin typeface="Franklin Gothic Demi"/>
              </a:rPr>
              <a:t> Asesorías </a:t>
            </a:r>
            <a:r>
              <a:rPr b="0" lang="es-MX" sz="2000" spc="-1" strike="noStrike">
                <a:solidFill>
                  <a:srgbClr val="004990"/>
                </a:solidFill>
                <a:latin typeface="Franklin Gothic Book"/>
              </a:rPr>
              <a:t>de Rehabilitación Visual</a:t>
            </a:r>
            <a:endParaRPr b="0" lang="en-US" sz="20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4990"/>
                </a:solidFill>
                <a:latin typeface="Futura XBlk BT"/>
              </a:rPr>
              <a:t>616</a:t>
            </a:r>
            <a:r>
              <a:rPr b="0" lang="es-MX" sz="2000" spc="-1" strike="noStrike">
                <a:solidFill>
                  <a:srgbClr val="004990"/>
                </a:solidFill>
                <a:latin typeface="Franklin Gothic Demi"/>
              </a:rPr>
              <a:t> Apoyos </a:t>
            </a:r>
            <a:r>
              <a:rPr b="0" lang="es-MX" sz="2000" spc="-1" strike="noStrike">
                <a:solidFill>
                  <a:srgbClr val="004990"/>
                </a:solidFill>
                <a:latin typeface="Franklin Gothic Book"/>
              </a:rPr>
              <a:t>a Usuarios y sus familias</a:t>
            </a:r>
            <a:endParaRPr b="0" lang="en-US" sz="20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4990"/>
                </a:solidFill>
                <a:latin typeface="Franklin Gothic Book"/>
              </a:rPr>
              <a:t>Consiguiendo un ahorro para los usuarios de:</a:t>
            </a:r>
            <a:br>
              <a:rPr sz="2800"/>
            </a:br>
            <a:r>
              <a:rPr b="0" lang="es-MX" sz="3600" spc="-1" strike="noStrike">
                <a:solidFill>
                  <a:srgbClr val="004990"/>
                </a:solidFill>
                <a:latin typeface="Futura XBlk BT"/>
              </a:rPr>
              <a:t>$195,440 </a:t>
            </a:r>
            <a:r>
              <a:rPr b="0" lang="es-MX" sz="2400" spc="-1" strike="noStrike">
                <a:solidFill>
                  <a:srgbClr val="004990"/>
                </a:solidFill>
                <a:latin typeface="Franklin Gothic Book"/>
              </a:rPr>
              <a:t>pesos mexicanos  (</a:t>
            </a:r>
            <a:r>
              <a:rPr b="1" lang="es-MX" sz="1800" spc="-1" strike="noStrike">
                <a:solidFill>
                  <a:srgbClr val="004990"/>
                </a:solidFill>
                <a:latin typeface="Franklin Gothic Book"/>
              </a:rPr>
              <a:t>USD</a:t>
            </a:r>
            <a:r>
              <a:rPr b="0" lang="es-MX" sz="2400" spc="-1" strike="noStrike">
                <a:solidFill>
                  <a:srgbClr val="004990"/>
                </a:solidFill>
                <a:latin typeface="Franklin Gothic Book"/>
              </a:rPr>
              <a:t>$18,124)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121" name="4 Imagen" descr="Lensómetro-2.JPG"/>
          <p:cNvPicPr/>
          <p:nvPr/>
        </p:nvPicPr>
        <p:blipFill>
          <a:blip r:embed="rId1"/>
          <a:stretch/>
        </p:blipFill>
        <p:spPr>
          <a:xfrm>
            <a:off x="6227640" y="836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22" name="4 Imagen" descr="Reyes (473).JPG"/>
          <p:cNvPicPr/>
          <p:nvPr/>
        </p:nvPicPr>
        <p:blipFill>
          <a:blip r:embed="rId2"/>
          <a:stretch/>
        </p:blipFill>
        <p:spPr>
          <a:xfrm>
            <a:off x="6227640" y="2781360"/>
            <a:ext cx="22338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Personas en Impacto Directo</a:t>
            </a:r>
            <a:endParaRPr b="0" lang="en-US" sz="32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4990"/>
                </a:solidFill>
                <a:latin typeface="Futura XBlk BT"/>
              </a:rPr>
              <a:t>70</a:t>
            </a:r>
            <a:r>
              <a:rPr b="0" lang="es-MX" sz="2800" spc="-1" strike="noStrike">
                <a:solidFill>
                  <a:srgbClr val="004990"/>
                </a:solidFill>
                <a:latin typeface="Franklin Gothic Book"/>
              </a:rPr>
              <a:t> usuarios en atención personalizada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4990"/>
                </a:solidFill>
                <a:latin typeface="Futura XBlk BT"/>
              </a:rPr>
              <a:t>110</a:t>
            </a:r>
            <a:r>
              <a:rPr b="0" lang="es-MX" sz="2800" spc="-1" strike="noStrike">
                <a:solidFill>
                  <a:srgbClr val="004990"/>
                </a:solidFill>
                <a:latin typeface="Franklin Gothic Book"/>
              </a:rPr>
              <a:t> niños, niñas y jóvenes con D.V. en registro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4990"/>
                </a:solidFill>
                <a:latin typeface="Futura XBlk BT"/>
              </a:rPr>
              <a:t>574</a:t>
            </a:r>
            <a:r>
              <a:rPr b="0" lang="es-MX" sz="2800" spc="-1" strike="noStrike">
                <a:solidFill>
                  <a:srgbClr val="004990"/>
                </a:solidFill>
                <a:latin typeface="Franklin Gothic Book"/>
              </a:rPr>
              <a:t> Personas Capacitadas en la D.V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4990"/>
                </a:solidFill>
                <a:latin typeface="Futura XBlk BT"/>
              </a:rPr>
              <a:t>1,304</a:t>
            </a:r>
            <a:r>
              <a:rPr b="0" lang="es-MX" sz="2800" spc="-1" strike="noStrike">
                <a:solidFill>
                  <a:srgbClr val="004990"/>
                </a:solidFill>
                <a:latin typeface="Franklin Gothic Book"/>
              </a:rPr>
              <a:t> sensibilizados en la D.V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b4950"/>
              </a:buClr>
              <a:buFont typeface="Futura XBl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4990"/>
                </a:solidFill>
                <a:latin typeface="Futura XBlk BT"/>
              </a:rPr>
              <a:t>739</a:t>
            </a:r>
            <a:r>
              <a:rPr b="0" lang="es-MX" sz="2800" spc="-1" strike="noStrike">
                <a:solidFill>
                  <a:srgbClr val="004990"/>
                </a:solidFill>
                <a:latin typeface="Franklin Gothic Book"/>
              </a:rPr>
              <a:t> asistentes a actividades de integración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Actividades destacadas</a:t>
            </a:r>
            <a:endParaRPr b="0" lang="en-US" sz="32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Realización de un Diplomado por segundo año en conjunto con la Universidad Iberoamericana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Realización de cursos de educación ambiental en escuelas y empresas, promoviendo el desarrollo sustentable de la asociación mediante el reciclado. 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Actividades de procuración de derechos humanos en infantes con discapacidad y la educación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Franklin Gothic Book"/>
              </a:rPr>
              <a:t>Sensibilización a la comunidad para lograr una integración de nuestros usuarios. 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50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57862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Misión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933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Franklin Gothic Book"/>
              </a:rPr>
              <a:t>Desarrollar en las personas ciegas y de visión baja las habilidades que les den la oportunidad de ser autónomos, integrados a su familia, la escuela, el ámbito laboral y la sociedad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98880" y="1065240"/>
            <a:ext cx="3318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Visión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4114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4990"/>
                </a:solidFill>
                <a:latin typeface="Franklin Gothic Book"/>
              </a:rPr>
              <a:t>Ser líderes a nivel local y regional en la atención a personas con discapacidad visual contando con metodología e instalaciones propias y adecuadas, con tecnología de punta y personal en constante capacitación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4990"/>
                </a:solidFill>
                <a:latin typeface="Franklin Gothic Book"/>
              </a:rPr>
              <a:t>En base al impacto social, ser reconocidos por la sociedad e instituciones públicas y privadas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7320" y="981000"/>
            <a:ext cx="38592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60200"/>
            <a:ext cx="7416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Atención Temprana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990"/>
                </a:solidFill>
                <a:latin typeface="Franklin Gothic Book"/>
              </a:rPr>
              <a:t>Guía al pequeño y a su familia hacia el descubrimiento de caminos alternativos de adaptación que les permitan alcanzar un desarrollo integral, como individuo y como grupo familiar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990"/>
                </a:solidFill>
                <a:latin typeface="Franklin Gothic Book"/>
              </a:rPr>
              <a:t>Favorece  un desarrollo evolutivo de acuerdo a su edad  cronológica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6356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Futura XBlk BT"/>
              </a:rPr>
              <a:t>Desarrollo de Habilidades Físicas</a:t>
            </a:r>
            <a:endParaRPr b="0" lang="en-US" sz="32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19280" y="981000"/>
            <a:ext cx="5483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4990"/>
                </a:solidFill>
                <a:latin typeface="Franklin Gothic Book"/>
              </a:rPr>
              <a:t>Favorece el desenvolvimiento del infante en los espacios, además de promover su desarrollo físico.</a:t>
            </a:r>
            <a:endParaRPr b="0" lang="en-US" sz="26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4990"/>
                </a:solidFill>
                <a:latin typeface="Franklin Gothic Book"/>
              </a:rPr>
              <a:t>Estimula los reflejos en el niñ@.</a:t>
            </a:r>
            <a:endParaRPr b="0" lang="en-US" sz="26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4990"/>
                </a:solidFill>
                <a:latin typeface="Franklin Gothic Book"/>
              </a:rPr>
              <a:t>Facilita tono normal del niñ@ y patrones de movimientos, ofreciendo experiencias sensorio-motoras normales.</a:t>
            </a:r>
            <a:endParaRPr b="0" lang="en-US" sz="26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spcBef>
                <a:spcPts val="649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4990"/>
                </a:solidFill>
                <a:latin typeface="Franklin Gothic Book"/>
              </a:rPr>
              <a:t>Previene tempranamente contracturas o deformidades.</a:t>
            </a:r>
            <a:endParaRPr b="0" lang="en-US" sz="26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9196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Orientación y Movilidad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30480" y="765000"/>
            <a:ext cx="46022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990"/>
                </a:solidFill>
                <a:latin typeface="Franklin Gothic Book"/>
              </a:rPr>
              <a:t>Desarrolla en el  niñ@ cieg@ y  con visión baja  las habilidades  necesarias  para que  pueda orientarse y desplazarse en forma segura, eficaz y  cómoda de  un lugar a  otro  dentro del medio ambiente, utilizando los  sentidos  remanentes (incluyendo la  vista).</a:t>
            </a: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07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Apoyo Académico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502776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990"/>
                </a:solidFill>
                <a:latin typeface="Franklin Gothic Book"/>
              </a:rPr>
              <a:t>Se apoya el proceso educativo formal del niñ@ facilitando los procesos de maduración (cognitivo, de comunicación, social, afectivo, motriz) para lograr una adaptación exitosa en su entorno, principalmente en la escuela preescolar, primaria o secundaria regular. 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663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Entrenamiento Visual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0" y="1052280"/>
            <a:ext cx="5016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990"/>
                </a:solidFill>
                <a:latin typeface="Franklin Gothic Book"/>
              </a:rPr>
              <a:t>En esta área se atiende a pequeños a partir de los  45 días de nacidos, siempre y  cuando el niñ@ con ceguera legal conserve algún grado de visión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990"/>
                </a:solidFill>
                <a:latin typeface="Franklin Gothic Book"/>
              </a:rPr>
              <a:t>El objetivo es hacer que el niño utilice la visión residual para provocar su eficiencia visual, a través de técnicas de estimulación y entrenamiento visual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473200" cy="217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2448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31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990"/>
                </a:solidFill>
                <a:latin typeface="Futura XBlk BT"/>
              </a:rPr>
              <a:t>Braille</a:t>
            </a:r>
            <a:endParaRPr b="0" lang="en-US" sz="3600" spc="-1" strike="noStrike">
              <a:solidFill>
                <a:srgbClr val="004990"/>
              </a:solidFill>
              <a:latin typeface="Futura XBlk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43909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495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990"/>
                </a:solidFill>
                <a:latin typeface="Franklin Gothic Book"/>
              </a:rPr>
              <a:t>Se enfoca en el desarrollo de las habilidades necesarias para el aprendizaje y el uso cotidiano del sistema Braille para lectura y escritura, permitiendo así un desarrollo de alfabetización en el niñ@ cieg@.</a:t>
            </a:r>
            <a:endParaRPr b="0" lang="en-US" sz="2800" spc="-1" strike="noStrike">
              <a:solidFill>
                <a:srgbClr val="004990"/>
              </a:solidFill>
              <a:latin typeface="Franklin Gothic 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0360" y="1052640"/>
            <a:ext cx="216072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160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21:07:57Z</dcterms:created>
  <dc:creator>usuario</dc:creator>
  <dc:description/>
  <dc:language>en-US</dc:language>
  <cp:lastModifiedBy>usuario</cp:lastModifiedBy>
  <dcterms:modified xsi:type="dcterms:W3CDTF">2008-09-24T22:27:27Z</dcterms:modified>
  <cp:revision>6</cp:revision>
  <dc:subject/>
  <dc:title>Ver Contigo, a.c.</dc:title>
</cp:coreProperties>
</file>