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126-5B16-422A-A0B8-23A6FF0A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2D6-DBE6-4006-8C51-1A6F5140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A8C-508C-42FB-8601-C6201A43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C71-B45A-4366-A3F5-BD5A091C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025-EDDB-4967-9097-8EAFE6CF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503-E332-4F56-B6F8-C861C120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2F1-576E-4AE8-9A57-2847B9FB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B23-686F-44CA-9AFF-AA1F96AD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DD4-5370-492D-A910-D328DDDA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C3C-62AE-47D6-8EE6-363BD293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C5DF-1AB3-4242-A345-25A20434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B1E-0451-4F8B-86B4-60DF17B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CA3-4EF5-4C76-8D2C-959C3381A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457200"/>
            <a:ext cx="358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SERCIÓN 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6019920"/>
            <a:ext cx="358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657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PLEO INDE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657600"/>
            <a:ext cx="358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PLE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838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660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4038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6172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400440" y="6172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038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seguimiento es un servicio complementario que ayuda a los usuarios a conservar y promoverse en un empleo y afirma una relación profesional con los patro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8280" y="914400"/>
            <a:ext cx="29718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4038480"/>
            <a:ext cx="33530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1371600"/>
            <a:ext cx="28191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INSER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LAB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828800"/>
            <a:ext cx="1447920" cy="39625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3276720"/>
            <a:ext cx="2743200" cy="121896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163080 h 1218960"/>
              <a:gd name="textAreaBottom" fmla="*/ 10558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95480" y="228600"/>
            <a:ext cx="3733920" cy="1066680"/>
          </a:xfrm>
          <a:custGeom>
            <a:avLst/>
            <a:gdLst>
              <a:gd name="textAreaLeft" fmla="*/ 0 w 3733920"/>
              <a:gd name="textAreaRight" fmla="*/ 3734280 w 373392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42840" y="12952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4479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209680"/>
            <a:ext cx="2819520" cy="14479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320" y="34290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191120"/>
            <a:ext cx="14475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209680"/>
            <a:ext cx="2819520" cy="14479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419720"/>
            <a:ext cx="18288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200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4114800"/>
            <a:ext cx="18288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o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876920"/>
            <a:ext cx="251460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est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ba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Arial"/>
              </a:rPr>
              <a:t>EVALUACIÓN FUN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mover la independencia funcional de la persona con ceguera total y baja visión con miras a su integración sociolabo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Arial"/>
              </a:rPr>
              <a:t>EVALUACIÓN OCUP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 un medio para orientar o dirigir a la persona hacia sus expectativas o intereses. Debe ser concebida como un sistema abierto, se debe tener absoluta claridad que la evaluación ocupacional esta orientada hacia la futura ubicación laboral de la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br>
              <a:rPr sz="4400"/>
            </a:b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 PUESTOS REALES DE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yor relación con entorno y organizativo del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evalúa: intereses de la pers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fil más amplio, claro de actividades, tareas u operaciones que la persona puede reali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yor información sobre capacidades, para buscar mejores alternativas, para que puedan conservar y promoverse en una actividad produ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Arial"/>
              </a:rPr>
              <a:t>ADAPTACIÓN LAB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templa la preparación del individuo para adecuarse a las exigencias del medio laboral y social, satisfaciendo sus necesidades a través de esta intera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algunos casos se requiere adaptar el puesto de trabajo al individ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Arial"/>
              </a:rPr>
              <a:t>CAPACITACIÓN LAB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acilitar el acceso a la formación de acuerdo a las características e intereses individuales y necesidades del mercado lab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38280" y="1523880"/>
            <a:ext cx="3810240" cy="1447920"/>
          </a:xfrm>
          <a:prstGeom prst="leftRightArrow">
            <a:avLst>
              <a:gd name="adj1" fmla="val 58333"/>
              <a:gd name="adj2" fmla="val 523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1600200"/>
            <a:ext cx="2361960" cy="12193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1600200"/>
            <a:ext cx="2590560" cy="121932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NO 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Arial"/>
              </a:rPr>
              <a:t>INSERCIÓN LAB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acilitar la inserción laboral identificación mercados de empleo posible de acuerdo a las característica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21:15:53Z</dcterms:created>
  <dc:creator>HELEN KELLER</dc:creator>
  <dc:description/>
  <dc:language>en-US</dc:language>
  <cp:lastModifiedBy>HELEN KELLER</cp:lastModifiedBy>
  <dcterms:modified xsi:type="dcterms:W3CDTF">2004-10-20T21:47:04Z</dcterms:modified>
  <cp:revision>2</cp:revision>
  <dc:subject/>
  <dc:title>Presentación de PowerPoint</dc:title>
</cp:coreProperties>
</file>