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CC89-42EB-4A52-9DD7-8FB96A84C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D7AA-E648-4DFA-97F5-6FB221AA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3A0C-5CAF-4481-9DE9-D6352F595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8B65-E20A-4688-B3AD-E7EDE5564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CBDE-DB4B-4729-8523-A9F3E5C78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5E8E-2136-43DE-8B2F-B70D1B90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AC41-6CD6-4916-B4C7-9F82B617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5B98-5E65-4CB9-94A4-3324F3F9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6EAA-AE9F-4EC4-8B86-4B0CA470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AD71-3BEB-4E78-81A7-39D3E013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CCC2-C25E-4587-B2B5-7387DEB6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4CF4-7293-44A6-B767-39DC225D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6243-BE3E-475B-9E74-B02B7CE0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D203-67F6-4EF6-B149-2C422550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C409-CB38-434D-8F2C-F39E4C0A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2812-0598-4B2E-BC55-CA93D471B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577D-3AD4-4B8E-8002-A8ABE2B87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D429-7E76-4D22-9948-F86506E8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D33F-78C0-41C9-9233-2CE0E34B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086E-26E9-40D1-8B38-77EE3FBE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940F-2035-4B53-BFEC-253C1E2F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F506-29A0-4088-BD45-C35DDE76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707A-7494-4AC6-AADD-BF20D305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5084-438E-4B6E-B9EB-A38C3C3C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7E66-E373-4CC4-8859-D4E65B5D097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0618-D48A-4E9E-A1DF-4ED80FBCA2D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66680" y="1447920"/>
            <a:ext cx="76201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Promueve la adquisición de conocimientos, el desarrollo de destreza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actitudes para el trabajo y la inserción labor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Se ofrece asesoramiento técnico especializado para las adaptaciones al puesto  de  traba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BD07053_" descr=""/>
          <p:cNvPicPr/>
          <p:nvPr/>
        </p:nvPicPr>
        <p:blipFill>
          <a:blip r:embed="rId1"/>
          <a:stretch/>
        </p:blipFill>
        <p:spPr>
          <a:xfrm>
            <a:off x="2590920" y="4648320"/>
            <a:ext cx="3733560" cy="1981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276200" y="343080"/>
            <a:ext cx="6648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989898"/>
                  </a:outerShdw>
                </a:effectLst>
                <a:latin typeface="Arial Black"/>
              </a:rPr>
              <a:t>PROCESO SOCIOLABORAL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989898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400" spc="-1" strike="noStrike">
                <a:solidFill>
                  <a:srgbClr val="ffff00"/>
                </a:solidFill>
                <a:latin typeface="Arial"/>
              </a:rPr>
              <a:t>INSERCIÓN</a:t>
            </a:r>
            <a:r>
              <a:rPr b="1" lang="es-CR" sz="5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R" sz="4400" spc="-1" strike="noStrike">
                <a:solidFill>
                  <a:srgbClr val="ffff00"/>
                </a:solidFill>
                <a:latin typeface="Arial"/>
              </a:rPr>
              <a:t>LABORA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38080" y="24379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ffffff"/>
                </a:solidFill>
                <a:latin typeface="Arial"/>
              </a:rPr>
              <a:t>Facilitar la inserción laboral identificando mercados de empleo posible de acuerdo a las características individual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743200" y="228600"/>
            <a:ext cx="41911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NSERCIÓN  LABORAL.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608400" y="4195800"/>
            <a:ext cx="377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CR" sz="3200" spc="-1" strike="noStrike">
                <a:solidFill>
                  <a:srgbClr val="ffffff"/>
                </a:solidFill>
                <a:latin typeface="Times New Roman"/>
              </a:rPr>
              <a:t>COMPETI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BD07068_" descr=""/>
          <p:cNvPicPr/>
          <p:nvPr/>
        </p:nvPicPr>
        <p:blipFill>
          <a:blip r:embed="rId1"/>
          <a:stretch/>
        </p:blipFill>
        <p:spPr>
          <a:xfrm>
            <a:off x="5715000" y="2057400"/>
            <a:ext cx="2782800" cy="2170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410080" y="44956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Times New Roman"/>
              </a:rPr>
              <a:t>AUTOGEST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BD10470_" descr=""/>
          <p:cNvPicPr/>
          <p:nvPr/>
        </p:nvPicPr>
        <p:blipFill>
          <a:blip r:embed="rId2"/>
          <a:stretch/>
        </p:blipFill>
        <p:spPr>
          <a:xfrm>
            <a:off x="1295280" y="242424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438280" y="2133720"/>
            <a:ext cx="3505320" cy="2361960"/>
          </a:xfrm>
          <a:custGeom>
            <a:avLst/>
            <a:gdLst>
              <a:gd name="textAreaLeft" fmla="*/ 800280 w 3505320"/>
              <a:gd name="textAreaRight" fmla="*/ 2705040 w 35053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OCUP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24480" y="2666880"/>
            <a:ext cx="2362320" cy="1371600"/>
          </a:xfrm>
          <a:prstGeom prst="wedgeEllipseCallout">
            <a:avLst>
              <a:gd name="adj1" fmla="val -31652"/>
              <a:gd name="adj2" fmla="val 51157"/>
            </a:avLst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00400" y="5029200"/>
            <a:ext cx="2514600" cy="1219320"/>
          </a:xfrm>
          <a:prstGeom prst="wedgeEllipseCallout">
            <a:avLst>
              <a:gd name="adj1" fmla="val -60796"/>
              <a:gd name="adj2" fmla="val 4375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514600"/>
            <a:ext cx="2209680" cy="1447920"/>
          </a:xfrm>
          <a:prstGeom prst="wedgeEllipseCallout">
            <a:avLst>
              <a:gd name="adj1" fmla="val -31467"/>
              <a:gd name="adj2" fmla="val 6688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65440" y="5493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99360" y="29876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04120" y="2895480"/>
            <a:ext cx="2563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cc0000"/>
                </a:solidFill>
                <a:latin typeface="Arial"/>
              </a:rPr>
              <a:t>Semicalif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es-CR" sz="2800" spc="-1" strike="noStrike">
                <a:solidFill>
                  <a:srgbClr val="cc0000"/>
                </a:solidFill>
                <a:latin typeface="Arial"/>
              </a:rPr>
              <a:t>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70760" y="5383080"/>
            <a:ext cx="19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cc0000"/>
                </a:solidFill>
                <a:latin typeface="Arial"/>
              </a:rPr>
              <a:t>Calific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3720" y="2666880"/>
            <a:ext cx="184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cc0000"/>
                </a:solidFill>
                <a:latin typeface="Arial"/>
              </a:rPr>
              <a:t>Alta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cc0000"/>
                </a:solidFill>
                <a:latin typeface="Arial"/>
              </a:rPr>
              <a:t>calific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228600"/>
            <a:ext cx="2667240" cy="1447920"/>
          </a:xfrm>
          <a:prstGeom prst="wedgeEllipseCallout">
            <a:avLst>
              <a:gd name="adj1" fmla="val -44106"/>
              <a:gd name="adj2" fmla="val 63708"/>
            </a:avLst>
          </a:prstGeom>
          <a:solidFill>
            <a:srgbClr val="66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22640" y="65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2360" y="304920"/>
            <a:ext cx="216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es-CR" sz="3200" spc="-1" strike="noStrike">
                <a:solidFill>
                  <a:srgbClr val="cc0000"/>
                </a:solidFill>
                <a:latin typeface="Arial"/>
              </a:rPr>
              <a:t>N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cc0000"/>
                </a:solidFill>
                <a:latin typeface="Arial"/>
              </a:rPr>
              <a:t>Califica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Arial"/>
              </a:rPr>
              <a:t>Ocupaciones en las que fueron ubicados los usuarios en el 2003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24000" y="1981080"/>
          <a:ext cx="85518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981080"/>
                    <a:ext cx="85518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09480" y="838080"/>
            <a:ext cx="4800600" cy="1676520"/>
          </a:xfrm>
          <a:prstGeom prst="flowChartPunchedTap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33720" y="12193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 Black"/>
              </a:rPr>
              <a:t>Leyes</a:t>
            </a:r>
            <a:r>
              <a:rPr b="0" lang="es-MX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19810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66"/>
                </a:solidFill>
                <a:latin typeface="Arial Black"/>
              </a:rPr>
              <a:t>76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167652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66"/>
                </a:solidFill>
                <a:latin typeface="Arial Black"/>
              </a:rPr>
              <a:t>217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4343400"/>
            <a:ext cx="4800600" cy="1752480"/>
          </a:xfrm>
          <a:prstGeom prst="flowChartPunchedTap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52880" y="47242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Arial Black"/>
              </a:rPr>
              <a:t>Conven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55627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 Black"/>
              </a:rPr>
              <a:t>C.C.S.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9920" y="53341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 Black"/>
              </a:rPr>
              <a:t>Poder Jud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5400" spc="-1" strike="noStrike">
                <a:solidFill>
                  <a:srgbClr val="ffff00"/>
                </a:solidFill>
                <a:latin typeface="Arial"/>
              </a:rPr>
              <a:t>SEGUIMIENTO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761760" y="2590560"/>
            <a:ext cx="75438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ff"/>
                </a:solidFill>
                <a:latin typeface="Arial"/>
              </a:rPr>
              <a:t>El seguimiento es un servicio complementario que ayuda a los usuarios a conservar y promoverse en un empleo y afirma una relación profesional con los patrono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76212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 Black"/>
              </a:rPr>
              <a:t>Características de un Buen Coloca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2514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Aspecto Huma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2590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Discipl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36720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Humil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36576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ontrol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48006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rea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48006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xig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228600" y="6324480"/>
            <a:ext cx="8763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0033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Instituto de Rehabilitación y Formación Helen Keller</a:t>
            </a:r>
            <a:endParaRPr b="0" lang="en-US" sz="2400" spc="1" strike="noStrike">
              <a:ln w="3240">
                <a:solidFill>
                  <a:srgbClr val="ff0033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09480" y="1523880"/>
            <a:ext cx="807732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8900000" blurRad="0" rotWithShape="0">
                    <a:srgbClr val="c0c0c0"/>
                  </a:outerShdw>
                </a:effectLst>
                <a:latin typeface="Arial Black"/>
              </a:rPr>
              <a:t>Muchas </a:t>
            </a:r>
            <a:endParaRPr b="0" lang="en-US" sz="2400" spc="1" strike="noStrike">
              <a:ln w="1260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89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8900000" blurRad="0" rotWithShape="0">
                    <a:srgbClr val="c0c0c0"/>
                  </a:outerShdw>
                </a:effectLst>
                <a:latin typeface="Arial Black"/>
              </a:rPr>
              <a:t>Gracias </a:t>
            </a:r>
            <a:endParaRPr b="0" lang="en-US" sz="2400" spc="1" strike="noStrike">
              <a:ln w="1260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89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8900000" blurRad="0" rotWithShape="0">
                    <a:srgbClr val="c0c0c0"/>
                  </a:outerShdw>
                </a:effectLst>
                <a:latin typeface="Arial Black"/>
              </a:rPr>
              <a:t>por su atención</a:t>
            </a:r>
            <a:endParaRPr b="0" lang="en-US" sz="2400" spc="1" strike="noStrike">
              <a:ln w="1260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89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666880" y="2590920"/>
            <a:ext cx="4038840" cy="1676160"/>
          </a:xfrm>
          <a:custGeom>
            <a:avLst/>
            <a:gdLst>
              <a:gd name="textAreaLeft" fmla="*/ 921960 w 4038840"/>
              <a:gd name="textAreaRight" fmla="*/ 3116880 w 4038840"/>
              <a:gd name="textAreaTop" fmla="*/ 382680 h 1676160"/>
              <a:gd name="textAreaBottom" fmla="*/ 129348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CESO SOCIOLABO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43600" y="990720"/>
            <a:ext cx="2514600" cy="1066680"/>
          </a:xfrm>
          <a:prstGeom prst="cloudCallout">
            <a:avLst>
              <a:gd name="adj1" fmla="val -35226"/>
              <a:gd name="adj2" fmla="val 69939"/>
            </a:avLst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48880" y="1295280"/>
            <a:ext cx="192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VALU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05720" y="2819520"/>
            <a:ext cx="2209680" cy="1143000"/>
          </a:xfrm>
          <a:prstGeom prst="cloudCallout">
            <a:avLst>
              <a:gd name="adj1" fmla="val -27587"/>
              <a:gd name="adj2" fmla="val 45972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360" y="31384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DAPT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4800600"/>
            <a:ext cx="2971800" cy="990720"/>
          </a:xfrm>
          <a:prstGeom prst="cloudCallout">
            <a:avLst>
              <a:gd name="adj1" fmla="val -26921"/>
              <a:gd name="adj2" fmla="val 68430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37040" y="5119560"/>
            <a:ext cx="21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APACIT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4800600"/>
            <a:ext cx="2514600" cy="10666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50896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SER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71400">
            <a:off x="226800" y="2887200"/>
            <a:ext cx="2361960" cy="1295640"/>
          </a:xfrm>
          <a:prstGeom prst="cloudCallout">
            <a:avLst>
              <a:gd name="adj1" fmla="val -43699"/>
              <a:gd name="adj2" fmla="val 25425"/>
            </a:avLst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7680" y="3260880"/>
            <a:ext cx="20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EGU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8120" y="762120"/>
            <a:ext cx="3352680" cy="1066680"/>
          </a:xfrm>
          <a:custGeom>
            <a:avLst/>
            <a:gdLst>
              <a:gd name="textAreaLeft" fmla="*/ 0 w 3352680"/>
              <a:gd name="textAreaRight" fmla="*/ 3353040 w 3352680"/>
              <a:gd name="textAreaTop" fmla="*/ 138240 h 1066680"/>
              <a:gd name="textAreaBottom" fmla="*/ 9284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EVALUAC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2743200"/>
            <a:ext cx="2133720" cy="685800"/>
          </a:xfrm>
          <a:custGeom>
            <a:avLst/>
            <a:gdLst>
              <a:gd name="textAreaLeft" fmla="*/ 487080 w 2133720"/>
              <a:gd name="textAreaRight" fmla="*/ 1646640 w 21337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un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2743200"/>
            <a:ext cx="2210040" cy="685800"/>
          </a:xfrm>
          <a:custGeom>
            <a:avLst/>
            <a:gdLst>
              <a:gd name="textAreaLeft" fmla="*/ 504360 w 2210040"/>
              <a:gd name="textAreaRight" fmla="*/ 1705680 w 221004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Ocup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600200" y="3429000"/>
            <a:ext cx="8380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342900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34290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276720" y="1676520"/>
            <a:ext cx="76176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1828800"/>
            <a:ext cx="60948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4724280"/>
            <a:ext cx="190512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omunidad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4120" y="4267080"/>
            <a:ext cx="29718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n el puesto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rabaj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4114800"/>
            <a:ext cx="16002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stitu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3276720"/>
            <a:ext cx="38124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4038480"/>
            <a:ext cx="1371600" cy="762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5400" spc="-1" strike="noStrike">
                <a:solidFill>
                  <a:srgbClr val="ffff00"/>
                </a:solidFill>
                <a:latin typeface="Arial"/>
              </a:rPr>
              <a:t>EVALUACIÓN FUNCIONAL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14400" y="2971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ffffff"/>
                </a:solidFill>
                <a:latin typeface="Arial"/>
              </a:rPr>
              <a:t>Promover la independencia funcional de la persona con ceguera total y baja visión con miras a su integración sociolabora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400" spc="-1" strike="noStrike">
                <a:solidFill>
                  <a:srgbClr val="ffff00"/>
                </a:solidFill>
                <a:latin typeface="Arial"/>
              </a:rPr>
              <a:t>EVALUACION</a:t>
            </a:r>
            <a:r>
              <a:rPr b="1" lang="es-C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R" sz="4400" spc="-1" strike="noStrike">
                <a:solidFill>
                  <a:srgbClr val="ffff00"/>
                </a:solidFill>
                <a:latin typeface="Arial"/>
              </a:rPr>
              <a:t>OCUPACIONA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09120" y="236196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Es un medio para orientar o dirigir a la persona hacia sus expectativas o intereses. Debe ser concebida como un sistema abierto, se debe tener absoluta claridad que la evaluación ocupacional esta orientada hacia la futura ubicación laboral de la persona.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600200" y="304920"/>
            <a:ext cx="5715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es-CR" sz="3200" spc="-1" strike="noStrike">
                <a:solidFill>
                  <a:srgbClr val="ffff00"/>
                </a:solidFill>
                <a:latin typeface="Arial"/>
              </a:rPr>
              <a:t>EVALU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00"/>
                </a:solidFill>
                <a:latin typeface="Arial"/>
              </a:rPr>
              <a:t>PUESTOS REALES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es-CR" sz="3200" spc="-1" strike="noStrike">
                <a:solidFill>
                  <a:srgbClr val="ffff00"/>
                </a:solidFill>
                <a:latin typeface="Arial"/>
              </a:rPr>
              <a:t>TRABAJ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8600" y="2133720"/>
            <a:ext cx="88063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Mayor relación con entorno y organizativo de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CR" sz="3600" spc="-1" strike="noStrike">
                <a:solidFill>
                  <a:srgbClr val="ffffff"/>
                </a:solidFill>
                <a:latin typeface="Arial"/>
              </a:rPr>
              <a:t>trabaj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1560" y="3124080"/>
            <a:ext cx="68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Se evalúa: intereses de la perso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5360" y="3657600"/>
            <a:ext cx="878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Perfil más amplio, claro de actividades, t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u operaciones que la persona puede realiz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9520" y="4648320"/>
            <a:ext cx="889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Mayor información sobre capacidades, pa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buscar mejores alternativas, para que pued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conservar y promoverse en una activida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productiv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800" spc="-1" strike="noStrike">
                <a:solidFill>
                  <a:srgbClr val="ffff00"/>
                </a:solidFill>
                <a:latin typeface="Arial"/>
              </a:rPr>
              <a:t>ADAPTACIÓN</a:t>
            </a:r>
            <a:r>
              <a:rPr b="1" lang="es-CR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R" sz="5400" spc="-1" strike="noStrike">
                <a:solidFill>
                  <a:srgbClr val="ffff00"/>
                </a:solidFill>
                <a:latin typeface="Arial"/>
              </a:rPr>
              <a:t>LABORAL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304560" y="220932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ffffff"/>
                </a:solidFill>
                <a:latin typeface="Arial"/>
              </a:rPr>
              <a:t>Contempla la preparación del individuo para adecuarse a las exigencias del medio laboral y social, satisfaciendo sus necesidades a través de esta interac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ffffff"/>
                </a:solidFill>
                <a:latin typeface="Arial"/>
              </a:rPr>
              <a:t>En algunos casos se requiere adaptar el puesto de trabajo al individu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800" spc="-1" strike="noStrike">
                <a:solidFill>
                  <a:srgbClr val="ffff00"/>
                </a:solidFill>
                <a:latin typeface="Arial"/>
              </a:rPr>
              <a:t>CAPACITACION LABORAL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61760" y="2514600"/>
            <a:ext cx="73911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ff"/>
                </a:solidFill>
                <a:latin typeface="Arial"/>
              </a:rPr>
              <a:t>Facilitar el acceso a la formación de acuerdo a las características e intereses individuales y necesidades del mercado labora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124080" y="2057400"/>
            <a:ext cx="3048120" cy="990720"/>
          </a:xfrm>
          <a:prstGeom prst="leftRightArrow">
            <a:avLst>
              <a:gd name="adj1" fmla="val 50000"/>
              <a:gd name="adj2" fmla="val 6124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imes New Roman"/>
              </a:rPr>
              <a:t>CAPACITA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1752480"/>
            <a:ext cx="2286000" cy="16002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imes New Roman"/>
              </a:rPr>
              <a:t>FOR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00800" y="1676520"/>
            <a:ext cx="2438280" cy="16761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Times New Roman"/>
              </a:rPr>
              <a:t>NO FOR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BD07164_" descr=""/>
          <p:cNvPicPr/>
          <p:nvPr/>
        </p:nvPicPr>
        <p:blipFill>
          <a:blip r:embed="rId1"/>
          <a:stretch/>
        </p:blipFill>
        <p:spPr>
          <a:xfrm>
            <a:off x="3048120" y="4191120"/>
            <a:ext cx="3276360" cy="16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6T19:36:13Z</dcterms:created>
  <dc:creator>*</dc:creator>
  <dc:description/>
  <dc:language>en-US</dc:language>
  <cp:lastModifiedBy>HK</cp:lastModifiedBy>
  <dcterms:modified xsi:type="dcterms:W3CDTF">2004-10-22T16:59:54Z</dcterms:modified>
  <cp:revision>40</cp:revision>
  <dc:subject/>
  <dc:title>Presentación de PowerPoint</dc:title>
</cp:coreProperties>
</file>