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FDE-C3F1-42A9-8847-271C6B57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B49-F330-4444-80E4-3D037C28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5611-3549-4E38-849E-047B7CC2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7EA-0D1B-4856-B802-691013DA9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74BA-73E7-43EB-9236-8B6CE748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85E1-237E-4F48-9B7E-959EBEE3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C164-915D-44CF-A834-A798469B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449A-EF43-4C7C-AC34-D885ADE4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4C34-BDA5-4C6B-8898-9975B83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AC75-BB47-4F77-8DC4-565B080C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1504-8C20-4C17-9321-2E68C298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1F8E-9429-4E8C-961F-D75646B0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1B5F-428A-4B11-9235-48A096D7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452D-EFFC-455A-99DB-9F637A7B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764D-CEEA-44CE-9A38-EF5B4317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AFC8-CC49-4067-9FEC-16768747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742B-4D4F-4CF4-AF86-5322ECB1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5F7-1D20-4653-8CD4-9B59A1ECC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1CD5-63ED-4D76-835E-9370BC1D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24BA-43BD-44CA-BB91-0F2DF640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284E-BAF2-4EAF-B2C9-97BC5641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353-9371-4AF8-A2BD-2D480FBE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A15B-AE18-469A-AF1C-877B8143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EC1-81FB-409D-A39C-B2ED9E1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2726-42E6-4E12-A573-B053B7FCB5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498B-77E7-49E0-8FA9-CC4EB83289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GRUPOS DE APOYO PSICOSOCIA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341360"/>
          <a:ext cx="8686800" cy="5516640"/>
        </p:xfrm>
        <a:graphic>
          <a:graphicData uri="http://schemas.openxmlformats.org/drawingml/2006/table">
            <a:tbl>
              <a:tblPr/>
              <a:tblGrid>
                <a:gridCol w="1882800"/>
                <a:gridCol w="6804000"/>
              </a:tblGrid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TIV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R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GNITIVOS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rcionar información sobre el diagnóstico del niño o niña de cada familia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 las familias: Tener referentes que permitan comparar la conducta de los demás con la propia, en situaciones similares, con respecto al diagnóstico de los hijo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mentar los recursos personales, al conocer la actuación de otros padres en situaciones comunes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• 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ar de habilidades para regular la propia conduct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GRUPOS DE APOYO PSICOSOCIAL (cont. 2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UCTUA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r asistencia en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udar al cumplimiento de prescripciones médicas, psicológicas, etc..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quirir conocimiento sobre estrategias concretas de afrontamiento de situaciones estresantes.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GRUPOS DE APOYO PSICOSOCIAL( cont. 1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ECTIV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ner conocimiento de otras familias con hijos con defici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porcionar comunicación-retroalimentación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eed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artir preocupaciones comunes, dentro de un nivel de comprensión mutua, por tener vivencias comunes con el niño/a con défic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ar la red social, previniendo el aislamiento en el que suelen caer las familias con hijos con discapac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orzar la intimidad de la pareja ( a las sesiones asisten ambos pad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resar sentimientos acerca del hijo /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r sentimientos de pertenencia.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51:48Z</dcterms:created>
  <dc:creator>ONCE</dc:creator>
  <dc:description/>
  <dc:language>en-US</dc:language>
  <cp:lastModifiedBy>ONCE</cp:lastModifiedBy>
  <dcterms:modified xsi:type="dcterms:W3CDTF">2008-09-25T11:09:01Z</dcterms:modified>
  <cp:revision>2</cp:revision>
  <dc:subject/>
  <dc:title>GRUPOS DE APOYO PSICOSOCIAL</dc:title>
</cp:coreProperties>
</file>