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9838-6589-42B4-AD10-6488CC36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5148-60A2-481E-A897-A944760E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EA27-88B1-433B-A53B-2F29DA620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C7F9-48B8-4F42-AA1A-62502057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FE8E-54DA-4A1C-BC98-C2A95634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A5AF-E337-4D74-9E26-1F949DC2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BF3E-C480-44A1-A80F-416D52C2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C34B-0103-45C5-B809-F6C934B3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C516-6CD5-4281-B919-861C2E06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9184-0D04-407D-8AF1-28A9E840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8E4D-2A00-4579-85E7-8BF5B3FD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423-0229-4787-9EF5-347EF32DC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CB80-ED20-4152-B9A3-85772812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5B0-B047-4F23-BC41-743D8B1F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589-8187-4DA0-A14F-1928ED2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777-B321-4D2B-9D1B-5433EF48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90D8-5F12-4A2E-8AC1-7DB1D5206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586-0B6A-41F2-A461-196DFC95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EFA0-7191-408A-BB10-E4B5FB92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5F1E-08E8-41E3-A755-0541B5BD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C93-1569-43A0-B99D-80BAB34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FCE3-B025-43D1-87E2-DF0CB946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AFEB-EA08-4A5C-9E5D-60FACCE2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5581-8CE0-4103-BB29-A13C9B2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1236-C8F6-46C7-BAD6-C8F2F530CC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94DA-D37B-4933-AE34-58F106C963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TRODUCCIÓN: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PRINCIPIOS DE LA ESCUELA INCLUS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EGUERA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ódigo lector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ra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tilización de: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erramientas para l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cri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cnologías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ocimiento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       programas informáticos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 vo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utonomía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 y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daptaci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urriculares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cce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¿Cuáles son los principios de la Escuela Inclusiva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ye un sentido de comunidad promoviendo la pertenencia y participación de todos los individuos. Contribuye al logro de la igual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arrolla el sentido de que todas las personas tienen características y habilidades únicas y promueve el respeto hacia la diversidad, favoreciendo el desarrollo de la empat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yuda a reconocer que todos/as los/as alumnos/as tienen fortalezas, cultiva la autoestima, fortalece el sentido del auto respeto y favorece la afirmación de la individualida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menta las maneras creativas de afrontar los desafíos, enseña acerca de la resolución de problemas en forma colectiva y desarrolla habilidades para el trabajo en equip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vee un entorno diverso y estimulante en el cual crecer y apren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ACTORES QUE CONDICONAN EL AJUSTE PARA LA INCLUSIÓ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- BIOLÓG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- FAM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º Biológica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idad del défic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Apariencia, estigmas, aspecto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postural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Momento de apari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Condiciones oftálm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        Necesidades educativas 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herramientas necesarias para 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desplaza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ecff"/>
                </a:solidFill>
                <a:latin typeface="Arial"/>
              </a:rPr>
              <a:t>SEVERIDAD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T: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ás defini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Sobrevaloran a los compañeros/as viden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Manifiestan inseguridad en su re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BV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consideran cieg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Presentan problemas en si ident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n ocasiones inventan la realida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Los demás no entienden su funciona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VL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No se consideran D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ificultades para asistir y recibir apoy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Dificultades en la construcción de Autoes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PARIENCIA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stigmas Fí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ovimientos Estereotip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spectos postu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HH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CONDICIONES OFTÁLMICA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Necesidad de utilización de ayudas técn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iagnóst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CESIDADES EDUCATIVA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 RESTO VI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 RESTO DE VI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NCIONAMIENTO VISUAL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Pérdida de campo inferior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               la movil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      “                    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dcho/izdo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           lecto-escritura, ignorando la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parte de la págin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 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Visión central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            favorece los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 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Periférica: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  actividades fís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 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Lectura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 - visión periférica: más imperfecta. Posiciones anorm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                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- visión central: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uede afectar a la velocidad lector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 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Escritura: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     disgrafías, disortografías, (la ejecución, es má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imperfecta, no hay autorregulación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    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Recreos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  demasiada información visual en movimient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En general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: los niños/as corren el riesgo de formarse conceptos de la realidad parcelados y confus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11:08Z</dcterms:created>
  <dc:creator>ONCE</dc:creator>
  <dc:description/>
  <dc:language>en-US</dc:language>
  <cp:lastModifiedBy>COMPUTO1</cp:lastModifiedBy>
  <dcterms:modified xsi:type="dcterms:W3CDTF">2008-10-02T16:10:19Z</dcterms:modified>
  <cp:revision>6</cp:revision>
  <dc:subject/>
  <dc:title>¿Cuáles son los principios de la Escuela Inclusiva? </dc:title>
</cp:coreProperties>
</file>