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03EFD-FDBD-42FE-9DF7-A4EB861ED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5228-D08E-4A60-B6A6-8082E7C8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3D70B-0922-4893-9E4E-997B349A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81DC4-02DA-49D6-B044-F9068D8D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7ABC-B59C-4CF0-B98B-C8C6876B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9E2F-D3F1-4767-8EF6-E137A454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F957-49CA-4C81-80DB-48CA1A94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564D8-9803-43F6-B0C6-043D134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68A-2E51-4B2E-9038-56C21C1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C60EC-08D2-4D22-AFEF-3B78A6BD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E9C-8706-45B7-BDE4-9D5240A1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89D8-E406-4D07-AEAB-EC70860B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04E8-DFC0-4741-A8F3-B29B0CD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5FD-E972-419A-AB31-C8BBF8CE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62B-A513-4132-9A3D-1674F522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A115-018D-46E4-929D-FAA9C8B0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475A-3174-412B-9ABD-1EBBC215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64F1-35F7-471C-8B8B-022EDF29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BF61-5F2F-4E28-8175-B8AC67A2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181DF-9964-4ADB-88F8-4F350436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9B3CE-0E37-45B6-9331-95B7DA7F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13BF-A3E4-4F3E-AA1B-E01220AC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1EF2-8C97-4A16-B66E-6DA31267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0143-E5B0-4197-9052-8AC866AE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553E-8591-484B-B571-33C9818AC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A709-09EA-45C2-B260-5EC12E961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38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e5e5ff"/>
                </a:solidFill>
                <a:latin typeface="Arial"/>
              </a:rPr>
              <a:t>VARIABLES MODULADORAS PARA EL AJUSTE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8000" y="3213000"/>
            <a:ext cx="730404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unción Cognitiv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asgos de Personal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arrollo Soc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rategias de Afrontamient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diciones Oftálm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0:06:15Z</dcterms:created>
  <dc:creator>ONCE</dc:creator>
  <dc:description/>
  <dc:language>en-US</dc:language>
  <cp:lastModifiedBy>ONCE</cp:lastModifiedBy>
  <dcterms:modified xsi:type="dcterms:W3CDTF">2008-09-25T10:10:07Z</dcterms:modified>
  <cp:revision>1</cp:revision>
  <dc:subject/>
  <dc:title>VARIABLES MODULADORAS PARA EL AJUSTE</dc:title>
</cp:coreProperties>
</file>