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985-3566-477A-A11D-3D67666C6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EB0C-B1CD-41B7-9336-9A5F699B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6ECB-2E43-4FD7-B3A4-C707F0B3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B01-70DA-4B81-A2ED-4EA2F9A8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9E3E-0284-4905-83CE-8A448558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45DD-9A42-445B-A858-F78D9BEF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EB0A-E600-4468-B107-F15D85C5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B2F3-8712-44FA-8433-DEE2D910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418A-4214-4902-B718-A20C9CD0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62D-2B33-4986-A2C1-A542E34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A984-8C1D-42B3-A7B6-1C8B640E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387-8E27-479C-A62D-DDE0A792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501F-D1E8-4098-9875-72CFEBFA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13B2-E1D8-44D0-A31E-7CA7928E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BA6F-75A4-4329-AEF8-A27359F6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06BF-8869-4C61-B842-FAA94F7C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5B60-DB44-4B92-BE48-FD7DFBFC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74FB-36B9-448A-B08A-CC684D7A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C5C-7933-4020-8759-ED1EA9EFF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E0FE-F911-4102-8DF5-A7C04751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87A-1BF1-41E5-B747-ED66E99F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56F-5A99-4D18-8158-E24D7EEC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430-3E1D-4377-90D7-EDF0B2C6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012D-5B5F-4A29-B7E7-15FCA09C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AADA-7F92-4FA5-AE7A-ED8A71AB49C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9857-9F8E-41E0-B209-AE2A65712B8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EL AJUST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o Proce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on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1. Pensami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2. Comportamie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.3. Emo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Ámbitos Implicad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.1. Pers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.2. 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.3.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9:43:27Z</dcterms:created>
  <dc:creator>ONCE</dc:creator>
  <dc:description/>
  <dc:language>en-US</dc:language>
  <cp:lastModifiedBy>ONCE</cp:lastModifiedBy>
  <dcterms:modified xsi:type="dcterms:W3CDTF">2008-09-25T10:00:54Z</dcterms:modified>
  <cp:revision>9</cp:revision>
  <dc:subject/>
  <dc:title>EL AJUSTE</dc:title>
</cp:coreProperties>
</file>