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66E76-C1CA-4537-AD36-B2E93830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3BEE-B433-45EC-A438-709D689A8869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C6C9-A4E6-4024-891E-5E064BAB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CF8A-6A00-4722-BDB4-0EB541D2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7E94-E179-445A-A9D2-43C0C2147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ABD-8CB3-4473-9089-25DAE8F8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A154-10A7-4931-8364-733EC9EF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3400-9B3D-4D18-B5A2-BDC9399B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AEEC-EF8E-41A8-A9CD-9153EE73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2C46-32AC-4333-B43C-0145EDB0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23B2-E34C-4D9A-80E6-EFD8B19A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DE23-58D0-4A05-95CD-575DD492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7488-1896-4FA7-BA76-482F438B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28C3-6AAA-4BBD-BB87-132CA5D5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60C6-8D05-43D2-9068-7FC02938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865EF-09E2-4FAB-945E-D2D62E08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11C8-3FD1-4E48-9D1D-637A63D0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F56C-97B3-413D-9D6A-15CD17861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1316-E7B4-42D9-B04E-5D569A0B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E9D-BA73-4279-A5BA-D4F9C8C9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329-1B16-46DA-BA3B-E8D28643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806-A769-4D04-809C-5C42BFB3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C28-C2E1-44FA-94F2-DA9DBD66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1FF4-EDB9-41AF-B147-9B394188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F3E-AFFF-4501-8413-96995EB3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2A1-DFE1-4A09-8F83-8B6DF21E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C5CF-5C6D-4D61-AC3F-58413F78A0E2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976D-9CFC-4AFE-9891-733C4A372F41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INCLUSIÓN SOCIAL DE 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LOS </a:t>
            </a: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JÓVENES CON DISCAPACIDAD VISUAL DESDE EL ÁMBITO EDUCATIV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"/>
              </a:rPr>
              <a:t>Entorno social y ajuste. Estrategias que facilitan la inclusión. El reto del ajuste de la sociedad</a:t>
            </a: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PECTOS NUCLEA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 ACTIVIDADES CARGADAS DE CONTENIDOS VISU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 IDEAS ACERCA DEL OTRO: “YO PIENSO QUE TU PIENSAS QUE YO…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S ACTIVIDAD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REND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BILIT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VERSIFIC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-685800" algn="ctr">
              <a:lnSpc>
                <a:spcPct val="90000"/>
              </a:lnSpc>
              <a:buClr>
                <a:srgbClr val="0033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¿CÓMO PODEMOS FACILITAR LA INCLUSIÓN EN LA COMUNIDAD DESDE LA ESCUELA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BAJANDO LA INCLUSIÓN EN LAS AULAS Y RECRE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BAJANDO LA INCLUSIÓN EN LOS CENTROS EDUCATIV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BAJANDO LA INCLUSIÓN EN EL BARRI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BAJANDO LA INCLUSIÓN EN LA COMUNIDA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EJEMPLIFICACIONES.</a:t>
            </a:r>
            <a:br>
              <a:rPr sz="3200"/>
            </a:b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PRÁCTICAS INCLUSIV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65360" y="2349360"/>
            <a:ext cx="42386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29160" y="929160"/>
            <a:ext cx="75898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JEMPLIFICACIÓN DE UN POSIBLE SISTEMA DE TRABAJ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TRABAJO CON LOS RECRE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CLUB DE LAS DOS MITAD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XTOS AFECTA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OCIO Y EL TIEMPO LIB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TRABAJ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2.2. ¿QUÉ DIFICULTADES TIENE LA SOCIEDAD PARA INCLUIR A LOS JÓVENES?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SPECTOS DESENCADENAN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 ACTIVIDADES CARGADAS DE CONTENIDOS VISU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S IDEAS PRE – EXISTENTES ACERCA DE LA DISCAPACIDAD VISU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MEJORAR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NUESTRO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CONOCIMIENTO ACERCA DE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 NIVEL DE </a:t>
            </a:r>
            <a:r>
              <a:rPr b="1" i="1" lang="es-ES" sz="2800" spc="-1" strike="noStrike">
                <a:solidFill>
                  <a:srgbClr val="003366"/>
                </a:solidFill>
                <a:latin typeface="Arial"/>
              </a:rPr>
              <a:t>INCLUSIÓN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DE LOS JÓVENES CON D.V.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N LA SOCIEDA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DENTIFICAR FACTORES ESENCIALES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ARA CONSTRUIR UNA </a:t>
            </a:r>
            <a:r>
              <a:rPr b="1" i="1" lang="es-ES" sz="2800" spc="-1" strike="noStrike">
                <a:solidFill>
                  <a:srgbClr val="003366"/>
                </a:solidFill>
                <a:latin typeface="Arial"/>
              </a:rPr>
              <a:t>SOCIEDAD INCLUSIVA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ROMOVER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UN BANCO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 ACTIVIDADES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QUE RECOJA BUENAS PRÁCTICAS DE </a:t>
            </a:r>
            <a:r>
              <a:rPr b="1" i="1" lang="es-ES_tradnl" sz="2800" spc="-1" strike="noStrike">
                <a:solidFill>
                  <a:srgbClr val="003366"/>
                </a:solidFill>
                <a:latin typeface="Arial"/>
              </a:rPr>
              <a:t>INCLUSIÓN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OCIAL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METODOLOG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565360"/>
            <a:ext cx="2735280" cy="1224000"/>
          </a:xfrm>
          <a:prstGeom prst="rightArrow">
            <a:avLst>
              <a:gd name="adj1" fmla="val 50000"/>
              <a:gd name="adj2" fmla="val 5586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NENC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3860640"/>
            <a:ext cx="2735280" cy="1224000"/>
          </a:xfrm>
          <a:prstGeom prst="rightArrow">
            <a:avLst>
              <a:gd name="adj1" fmla="val 50000"/>
              <a:gd name="adj2" fmla="val 5586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MINAR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229360"/>
            <a:ext cx="2735280" cy="1224000"/>
          </a:xfrm>
          <a:prstGeom prst="rightArrow">
            <a:avLst>
              <a:gd name="adj1" fmla="val 50000"/>
              <a:gd name="adj2" fmla="val 5586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CUEN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3573360"/>
            <a:ext cx="4680000" cy="174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DENTIFICAR FACTORES ESENCI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MOVER BANCO ACTIVIDA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5516640"/>
            <a:ext cx="4680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CUENTRO CON JÓVE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2924280"/>
            <a:ext cx="381636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MARQUE DEL TE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1. ¿INCLUIRSE EN LA ESCUELA O INCLUIRSE EN LA SOCIEDAD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2. ¿QUÉ DIFICULTADES PUEDEN APARECER EN EL PROCESO DE INCLUSIÓN?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S CA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¿QUÉ DIFICULTADES TIENEN LOS JÓVENES PARA INCLUIRSE EN LA SOCIEDA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¿QUÉ DIFICULTADES TIENE LA SOCIEDAD PARA INCLUIR A LOS JÓVEN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TU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 PORCENTAJE IMPORTANTE DEL ALUMNADO CON DISCAPACIDAD VISUAL (60%) DICE QUE NO TIENE AMIGOS FUERA DEL INSTITUTO Y NO SALIR NUNCA O CASI NUNCA (MENOS DE 1 VEZ AL MES) CON IGU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US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jóvenes con discapacidad visual que no salen nunca o casi nunca justifican esta situación p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s compañeros los aíslan o los rechaza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enten vergüenz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pueden realizar las mismas activida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AUS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compañeros de los jóvenes con discapacidad visual explican esta situación por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sconocen la situ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en que los jóvenes con discapacidad no quieren sali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iensan que es por otros motivos no relacionados con su situación visual (aspecto físico, personalidad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0:23:14Z</dcterms:created>
  <dc:creator>ONCE</dc:creator>
  <dc:description/>
  <dc:language>en-US</dc:language>
  <cp:lastModifiedBy>usuario</cp:lastModifiedBy>
  <dcterms:modified xsi:type="dcterms:W3CDTF">2008-10-02T15:50:56Z</dcterms:modified>
  <cp:revision>81</cp:revision>
  <dc:subject/>
  <dc:title>INCLUSIÓN SOCIAL DE JÓVENES CON DISCAPACIDAD VISUAL DESDE EL ÁMBITO EDUCATIVO</dc:title>
</cp:coreProperties>
</file>