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8ED-A7C7-4BFE-A751-6D35A241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AB2B-13AB-40E0-89D9-E1B91B0E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36E-4624-4F0A-B199-65774003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05A2-BA1F-4DB1-9908-88575C20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1F31-D3FB-4EC1-8ACF-0318C451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DC2E-C0F3-44D2-B498-2E674D21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1031-C8BD-41E8-87A2-6919391CE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EDBB-04C0-411A-95C5-3F9BC4A08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A949-1C10-4754-AE9C-BB0DD52C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66E9-EA5A-484B-BEE6-D6383AFF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F7C5-3C4D-422A-B6CA-5C1C94B1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162-1CEC-4E12-8077-740E37B3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C828-8D4A-4E47-B0C4-7CDE8E32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5E5D-0A80-4511-B327-1DB868C4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FB8C-7134-4006-9814-8553ADC5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DBEA-6E1F-4987-9A75-8F95642C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7316-5C02-45EE-A154-5A708061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B5F-4EE6-471C-AFA5-96F6E4C5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544F-A0C3-4526-9FE2-139E88C1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6CA-7101-486D-8D4C-D5299016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DA78-5E7A-4005-9FB2-7C941126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AE11-86F9-4A48-9472-1F0D3F9B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3534-DC79-46E5-8067-850D7A4A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895-CACC-48DC-8C9D-2E28CB1D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CBFF-767D-4595-92B2-9A5ABD2492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085B-7F09-42EE-9631-830C44400E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EL AJUSTE A LA CEGUERA SE CARACTERIZA POR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7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sencia de ansiedad y depre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        Alto nivel de autoest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        Alta percepción de eficacia 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        Actitud positiva hacia las persona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con D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        Aceptación de responsabilidad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        Creencia de que la ceguera no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significa el final de la v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ETAPA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NFA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DOLESC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INFANCIA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ínculos Afe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poyo Informa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ntimiento de depend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ficultad para ponerse en el lugar del otr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ajo  nivel de autoest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úsqueda de pertenencia e ident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ADOLESCEN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risis de ident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tapa de amigos, igua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ntimiento de perten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ope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inculación al grup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utoest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dentif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DIFICULTADES INTRAPERSONALES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ocimiento del déficit vi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itu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utoefica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utoest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ocus de control y E. Atribu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ep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ptitu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r. Afrontamiento y Motiv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trol de respuestas emo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DIFICULTADES INTERPERSONA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 los miembros de la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n la escue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iv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iempo lib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fesores/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añeros/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LA ORIENTACIÓN EN LA ESCUEL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Informació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- dominio del espa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obje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mater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compañ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itmo más lent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- la vista sentido globaliz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los demás sentidos analí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- Imitación gestua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- el ju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conceptos vivenci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modelos posturales-so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0:00:58Z</dcterms:created>
  <dc:creator>ONCE</dc:creator>
  <dc:description/>
  <dc:language>en-US</dc:language>
  <cp:lastModifiedBy>COMPUTO1</cp:lastModifiedBy>
  <dcterms:modified xsi:type="dcterms:W3CDTF">2008-10-02T16:11:39Z</dcterms:modified>
  <cp:revision>8</cp:revision>
  <dc:subject/>
  <dc:title>EL AJUSTE A LA CEGUERA SE CARACTERIZA POR:</dc:title>
</cp:coreProperties>
</file>