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3E32B-F828-4F86-9FD1-0D72B7301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FB02F-4A7E-4763-9D3E-7E78C018C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699B8-DE3A-463D-8FF8-F1DF46EDC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3CB16-A6B4-4DC2-8F30-6BCE4F3D7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05A87-EB69-40C1-AD37-BE63389BC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6EAA4-C17C-48E1-9E3E-330AC2C9B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75422-BD2F-4FD4-B4C3-0A2061247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A3E7D-9B03-432A-9F0F-BE022D781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4554E-ADC8-4B41-A429-54F3B4258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07E7B-32EE-4A20-A9A6-AA865C454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AF639-269F-4FBD-BB50-AB3EAC97A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59F25-CABC-4305-A439-3CB2D1717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88659-DB94-4F01-AEA2-8BFD1ECF5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DF8E1-76FA-4172-9BBC-89224F5C9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C0108-DF2A-462E-BC90-BE22E34D5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89D1D-CF08-475C-993F-7D3780725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18CC5-44F9-418C-88B8-8B49279FF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DCBCB-CACF-4966-8DFC-8C073BCDF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1FBFB-0FDE-4857-B11D-B6CA92862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E1463-E488-4659-B1FB-0744948F2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B23DC-78C2-4595-94B9-BE678B710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C62A6-7193-4815-A6AA-67398E358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BEE7F-98F6-464B-AFED-7B3A821F9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9B804-A8E1-4F28-B719-E25BECE0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AC6D1-1E4A-4010-BAF7-473F1657F7A5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F808E-D72E-4E9C-A580-949629B163E5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e5e5ff"/>
                </a:solidFill>
                <a:latin typeface="Garamond"/>
              </a:rPr>
              <a:t>¨LA FAMILIA ANTE EL DIAGNÓSTICO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11280" y="2924280"/>
            <a:ext cx="792144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1. La situación emocional de la famil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s-ES_tradnl" sz="3200" spc="-1" strike="noStrike">
                <a:solidFill>
                  <a:srgbClr val="ffffff"/>
                </a:solidFill>
                <a:latin typeface="Garamond"/>
              </a:rPr>
              <a:t>2.  Las condiciones del hijo/a con discapacidad visu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SITUACIÓN EMOCIONA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Garamond"/>
              </a:rPr>
              <a:t>Negac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Garamond"/>
              </a:rPr>
              <a:t>Desahogo Emocio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Garamond"/>
              </a:rPr>
              <a:t>Huíd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Garamond"/>
              </a:rPr>
              <a:t>Búsqueda de Apoy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e5e5ff"/>
                </a:solidFill>
                <a:latin typeface="Arial"/>
              </a:rPr>
              <a:t>Á</a:t>
            </a:r>
            <a:r>
              <a:rPr b="1" lang="es-ES_tradnl" sz="5400" spc="-1" strike="noStrike">
                <a:solidFill>
                  <a:srgbClr val="e5e5ff"/>
                </a:solidFill>
                <a:latin typeface="Garamond"/>
              </a:rPr>
              <a:t>MBITOS AFECTADOS POR EL IMPACTO: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68000" y="2565000"/>
            <a:ext cx="7304040" cy="30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Garamond"/>
              </a:rPr>
              <a:t>PSICOLÓGIC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Garamond"/>
              </a:rPr>
              <a:t>FÍSIC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Garamond"/>
              </a:rPr>
              <a:t>SOCIA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Garamond"/>
              </a:rPr>
              <a:t>FAMILIA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e5e5ff"/>
                </a:solidFill>
                <a:latin typeface="Arial"/>
              </a:rPr>
              <a:t>RESPUESTAS DE LA FAMILIA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0" y="1052640"/>
          <a:ext cx="9144000" cy="738504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iagnóstico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mpact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mportamiento observab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sicológic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Ansieda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Bajo nivel autoestim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Actitud pasiv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cc00"/>
                        </a:buClr>
                        <a:buSzPct val="7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eas culpabilizant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cc00"/>
                        </a:buClr>
                        <a:buSzPct val="7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presió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cc00"/>
                        </a:buClr>
                        <a:buSzPct val="7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ajuste emocion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yor activación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olumen alto/bajo de voz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gresividad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stado Depresiv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eas recurrentes</a:t>
                      </a: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5e5ff"/>
                </a:solidFill>
                <a:latin typeface="Garamond"/>
              </a:rPr>
              <a:t>Respuestas de la familia (cont. 1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0" y="1600200"/>
          <a:ext cx="9144000" cy="4503600"/>
        </p:xfrm>
        <a:graphic>
          <a:graphicData uri="http://schemas.openxmlformats.org/drawingml/2006/table">
            <a:tbl>
              <a:tblPr/>
              <a:tblGrid>
                <a:gridCol w="1612800"/>
                <a:gridCol w="4471920"/>
                <a:gridCol w="3059280"/>
              </a:tblGrid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ISIC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Sobrecarga físic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Conductas de alto riesgo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Se medic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Duermen poc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Pesadilla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5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OCI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Se apartan de amigos    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Sienten vergüenz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Abandono de relaciones sociale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Salen poco de cas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Se sienten “obligados a dar explicaciones</a:t>
                      </a: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e5e5ff"/>
                </a:solidFill>
                <a:latin typeface="Garamond"/>
              </a:rPr>
              <a:t>RESPYUESTAS DE LA FAMILIA (CONT. 2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57200" y="1600200"/>
          <a:ext cx="8435880" cy="4525920"/>
        </p:xfrm>
        <a:graphic>
          <a:graphicData uri="http://schemas.openxmlformats.org/drawingml/2006/table">
            <a:tbl>
              <a:tblPr/>
              <a:tblGrid>
                <a:gridCol w="2170080"/>
                <a:gridCol w="3316320"/>
                <a:gridCol w="2949480"/>
              </a:tblGrid>
              <a:tr h="45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AMILI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 </a:t>
                      </a: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bandono de relaciones familiar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00"/>
                        </a:buClr>
                        <a:buSzPct val="7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 encierran en la familia nucle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cc00"/>
                        </a:buClr>
                        <a:buSzPct val="7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ejamiento de la pareja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 </a:t>
                      </a: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se sienten incluidos en la dinámica de la familia extensa o sólo con ell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Acercamiento o evitación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5e5ff"/>
                </a:solidFill>
                <a:latin typeface="Arial"/>
              </a:rPr>
              <a:t>Evaluación de los recursos de la familia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PERSONALE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ECONÓMICO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SOCIO-FAMILIARE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Vulnerabilidad al estré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Estrategias de afrontamiento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Resistencia al cambio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Ideas distorsionada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Rasgos de personalidad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apacidad para hacer frente a gastos que se prevé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ersonas proveedoras de ayud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ipos de ayud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Interacción del niño con las figuras de apego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ignificado de la ceguera en el grupo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Recursos comunitario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5T10:11:28Z</dcterms:created>
  <dc:creator>ONCE</dc:creator>
  <dc:description/>
  <dc:language>en-US</dc:language>
  <cp:lastModifiedBy>COMPUTO1</cp:lastModifiedBy>
  <dcterms:modified xsi:type="dcterms:W3CDTF">2008-10-02T16:36:17Z</dcterms:modified>
  <cp:revision>8</cp:revision>
  <dc:subject/>
  <dc:title>ÁMBITOS AFECTADOS POR EL IMPACTO:</dc:title>
</cp:coreProperties>
</file>