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gif" ContentType="image/gif"/>
  <Override PartName="/ppt/media/image16.gif" ContentType="image/gif"/>
  <Override PartName="/ppt/media/image15.gif" ContentType="image/gif"/>
  <Override PartName="/ppt/media/image3.jpeg" ContentType="image/jpeg"/>
  <Override PartName="/ppt/media/image14.gif" ContentType="image/gif"/>
  <Override PartName="/ppt/media/image10.png" ContentType="image/png"/>
  <Override PartName="/ppt/media/image5.wmf" ContentType="image/x-wmf"/>
  <Override PartName="/ppt/media/image13.wmf" ContentType="image/x-wmf"/>
  <Override PartName="/ppt/media/image8.jpeg" ContentType="image/jpeg"/>
  <Override PartName="/ppt/media/image2.gif" ContentType="image/gif"/>
  <Override PartName="/ppt/media/image6.wmf" ContentType="image/x-wmf"/>
  <Override PartName="/ppt/media/image7.wmf" ContentType="image/x-wmf"/>
  <Override PartName="/ppt/media/image1.gif" ContentType="image/gif"/>
  <Override PartName="/ppt/media/image12.wmf" ContentType="image/x-wmf"/>
  <Override PartName="/ppt/media/image4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BA9D-85AA-4A2C-9058-A73C095C1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563F-FA02-41C0-87D0-2E7DBBE5537D}" type="slidenum">
              <a:rPr b="0" lang="es-ES_trad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5048-9E2C-4C8C-8E97-21314B3339E5}" type="slidenum">
              <a:rPr b="0" lang="es-ES_trad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87A3-2B2E-44B4-97D1-9DCFD1E3F23D}" type="slidenum">
              <a:rPr b="0" lang="es-ES_trad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F83B-F8E6-4A09-AF5D-03F2C3B4DB0E}" type="slidenum">
              <a:rPr b="0" lang="es-ES_trad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7D32-9E46-4D0B-9629-B053643420C3}" type="slidenum">
              <a:rPr b="0" lang="es-ES_trad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4082-3E7E-4D83-9250-5A2031CB76CC}" type="slidenum">
              <a:rPr b="0" lang="es-ES_trad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98C4-41D8-4406-A761-5E33B9BD0057}" type="slidenum">
              <a:rPr b="0" lang="es-ES_trad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0DFA-DF57-40E0-9DEA-838338D760E2}" type="slidenum">
              <a:rPr b="0" lang="es-ES_trad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93CE-BF9A-4015-8AAA-20E83CB506A9}" type="slidenum">
              <a:rPr b="0" lang="es-ES_trad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1E5F-B328-4B0D-9D49-5DC953278D81}" type="slidenum">
              <a:rPr b="0" lang="es-ES_trad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6868-BCEA-405A-A874-B4402C747E70}" type="slidenum">
              <a:rPr b="0" lang="es-ES_trad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EFD4-ED68-407F-A53B-ACD048DCA87A}" type="slidenum">
              <a:rPr b="0" lang="es-ES_trad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2793-D414-4141-BB05-A2245A58A7DA}" type="slidenum">
              <a:rPr b="0" lang="es-ES_trad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92A5-9414-44D4-A264-0742C559E1AE}" type="slidenum">
              <a:rPr b="0" lang="es-ES_trad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3D2F-7682-4BA7-8C27-9CC8BF0AB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602D-2675-4678-8F01-C4E6DFC1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C947-AF99-4C19-B1AC-F693132C7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E8D1-48F0-4662-8702-194181705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B6B4-2F49-4274-8754-B4EBA93E8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F106-BC8E-48BD-87B0-5FA35770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7F74-244F-42A9-8C8B-13DA7887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627B-A7F3-44A9-86F6-CADC987F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C0C5-39AF-4838-9536-2AC9BF73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616D-C7C1-4854-912A-B6291F21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65D91-0C75-4DE0-BE01-D57E2C3C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BCCE-F6A9-4AB7-8293-3A12E0D4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5077-9602-40BF-B084-3DDCADF2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D535-FCF5-49C2-B1B9-EA9F0FF0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F0FB-4C2A-4407-878F-7751134D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5F21-97F3-42F3-B919-F1E0CCB22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36C73-1744-492F-AC95-4EB858F72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D618-C867-498A-8B13-551909D7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F6BE-81D3-477D-99B4-8B82D123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AE96-1591-4CD0-A517-441CDDF7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CDD0-F9E8-45A1-BF67-E99AA1DC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B77E-AAB9-47C7-A2BC-527C7E3F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63BE-9FBB-4D0E-851F-19EC9542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08D5-A269-405D-8C3F-905E19B3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4FF9-D02A-45C8-8D6C-33F949A4134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BF7C-61F6-4D05-8FAE-D188B90B093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Arial"/>
              </a:rPr>
              <a:t>INCLUSIÓN SOCIAL DE </a:t>
            </a: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LOS </a:t>
            </a:r>
            <a:r>
              <a:rPr b="1" lang="es-ES_tradnl" sz="3200" spc="-1" strike="noStrike">
                <a:solidFill>
                  <a:srgbClr val="003366"/>
                </a:solidFill>
                <a:latin typeface="Arial"/>
              </a:rPr>
              <a:t>JÓVENES CON DISCAPACIDAD VISUAL DESDE EL ÁMBITO EDUCATIVO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66"/>
                </a:solidFill>
                <a:latin typeface="Arial"/>
              </a:rPr>
              <a:t>AJUSTE ESCOLAR Y ESTRATEGIAS QUE FACILITAN LA INCLUSIÓ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AJUSTE A LA DISCAPAC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068640" y="2608200"/>
            <a:ext cx="323208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CEPTO DE AJUS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 el proceso por el que las personas nos adaptamos a las situaciones y demandas del entorn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LACIÓN AJUSTE - INCLUS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-2592360" y="4076640"/>
            <a:ext cx="2592000" cy="1768320"/>
            <a:chOff x="-2592360" y="4076640"/>
            <a:chExt cx="2592000" cy="1768320"/>
          </a:xfrm>
        </p:grpSpPr>
        <p:grpSp>
          <p:nvGrpSpPr>
            <p:cNvPr id="200" name=""/>
            <p:cNvGrpSpPr/>
            <p:nvPr/>
          </p:nvGrpSpPr>
          <p:grpSpPr>
            <a:xfrm>
              <a:off x="-2592360" y="4076640"/>
              <a:ext cx="2592000" cy="1768320"/>
              <a:chOff x="-2592360" y="4076640"/>
              <a:chExt cx="2592000" cy="1768320"/>
            </a:xfrm>
          </p:grpSpPr>
          <p:sp>
            <p:nvSpPr>
              <p:cNvPr id="201" name=""/>
              <p:cNvSpPr/>
              <p:nvPr/>
            </p:nvSpPr>
            <p:spPr>
              <a:xfrm>
                <a:off x="-2584800" y="4087080"/>
                <a:ext cx="2568240" cy="1737000"/>
              </a:xfrm>
              <a:custGeom>
                <a:avLst/>
                <a:gdLst/>
                <a:ahLst/>
                <a:rect l="l" t="t" r="r" b="b"/>
                <a:pathLst>
                  <a:path w="1416" h="827">
                    <a:moveTo>
                      <a:pt x="612" y="795"/>
                    </a:moveTo>
                    <a:lnTo>
                      <a:pt x="621" y="795"/>
                    </a:lnTo>
                    <a:lnTo>
                      <a:pt x="635" y="790"/>
                    </a:lnTo>
                    <a:lnTo>
                      <a:pt x="640" y="790"/>
                    </a:lnTo>
                    <a:lnTo>
                      <a:pt x="649" y="785"/>
                    </a:lnTo>
                    <a:lnTo>
                      <a:pt x="654" y="776"/>
                    </a:lnTo>
                    <a:lnTo>
                      <a:pt x="659" y="771"/>
                    </a:lnTo>
                    <a:lnTo>
                      <a:pt x="659" y="766"/>
                    </a:lnTo>
                    <a:lnTo>
                      <a:pt x="663" y="757"/>
                    </a:lnTo>
                    <a:lnTo>
                      <a:pt x="663" y="748"/>
                    </a:lnTo>
                    <a:lnTo>
                      <a:pt x="659" y="738"/>
                    </a:lnTo>
                    <a:lnTo>
                      <a:pt x="659" y="729"/>
                    </a:lnTo>
                    <a:lnTo>
                      <a:pt x="654" y="719"/>
                    </a:lnTo>
                    <a:lnTo>
                      <a:pt x="645" y="710"/>
                    </a:lnTo>
                    <a:lnTo>
                      <a:pt x="640" y="696"/>
                    </a:lnTo>
                    <a:lnTo>
                      <a:pt x="631" y="686"/>
                    </a:lnTo>
                    <a:lnTo>
                      <a:pt x="621" y="672"/>
                    </a:lnTo>
                    <a:lnTo>
                      <a:pt x="612" y="668"/>
                    </a:lnTo>
                    <a:lnTo>
                      <a:pt x="607" y="658"/>
                    </a:lnTo>
                    <a:lnTo>
                      <a:pt x="607" y="654"/>
                    </a:lnTo>
                    <a:lnTo>
                      <a:pt x="602" y="644"/>
                    </a:lnTo>
                    <a:lnTo>
                      <a:pt x="598" y="630"/>
                    </a:lnTo>
                    <a:lnTo>
                      <a:pt x="593" y="616"/>
                    </a:lnTo>
                    <a:lnTo>
                      <a:pt x="593" y="602"/>
                    </a:lnTo>
                    <a:lnTo>
                      <a:pt x="598" y="583"/>
                    </a:lnTo>
                    <a:lnTo>
                      <a:pt x="602" y="569"/>
                    </a:lnTo>
                    <a:lnTo>
                      <a:pt x="612" y="555"/>
                    </a:lnTo>
                    <a:lnTo>
                      <a:pt x="621" y="541"/>
                    </a:lnTo>
                    <a:lnTo>
                      <a:pt x="631" y="531"/>
                    </a:lnTo>
                    <a:lnTo>
                      <a:pt x="645" y="517"/>
                    </a:lnTo>
                    <a:lnTo>
                      <a:pt x="659" y="508"/>
                    </a:lnTo>
                    <a:lnTo>
                      <a:pt x="673" y="503"/>
                    </a:lnTo>
                    <a:lnTo>
                      <a:pt x="692" y="494"/>
                    </a:lnTo>
                    <a:lnTo>
                      <a:pt x="706" y="489"/>
                    </a:lnTo>
                    <a:lnTo>
                      <a:pt x="725" y="489"/>
                    </a:lnTo>
                    <a:lnTo>
                      <a:pt x="743" y="489"/>
                    </a:lnTo>
                    <a:lnTo>
                      <a:pt x="757" y="494"/>
                    </a:lnTo>
                    <a:lnTo>
                      <a:pt x="776" y="503"/>
                    </a:lnTo>
                    <a:lnTo>
                      <a:pt x="786" y="508"/>
                    </a:lnTo>
                    <a:lnTo>
                      <a:pt x="800" y="522"/>
                    </a:lnTo>
                    <a:lnTo>
                      <a:pt x="809" y="531"/>
                    </a:lnTo>
                    <a:lnTo>
                      <a:pt x="819" y="541"/>
                    </a:lnTo>
                    <a:lnTo>
                      <a:pt x="828" y="555"/>
                    </a:lnTo>
                    <a:lnTo>
                      <a:pt x="833" y="574"/>
                    </a:lnTo>
                    <a:lnTo>
                      <a:pt x="837" y="588"/>
                    </a:lnTo>
                    <a:lnTo>
                      <a:pt x="842" y="602"/>
                    </a:lnTo>
                    <a:lnTo>
                      <a:pt x="842" y="616"/>
                    </a:lnTo>
                    <a:lnTo>
                      <a:pt x="837" y="630"/>
                    </a:lnTo>
                    <a:lnTo>
                      <a:pt x="833" y="644"/>
                    </a:lnTo>
                    <a:lnTo>
                      <a:pt x="828" y="658"/>
                    </a:lnTo>
                    <a:lnTo>
                      <a:pt x="819" y="668"/>
                    </a:lnTo>
                    <a:lnTo>
                      <a:pt x="800" y="686"/>
                    </a:lnTo>
                    <a:lnTo>
                      <a:pt x="781" y="705"/>
                    </a:lnTo>
                    <a:lnTo>
                      <a:pt x="776" y="715"/>
                    </a:lnTo>
                    <a:lnTo>
                      <a:pt x="772" y="724"/>
                    </a:lnTo>
                    <a:lnTo>
                      <a:pt x="767" y="729"/>
                    </a:lnTo>
                    <a:lnTo>
                      <a:pt x="762" y="738"/>
                    </a:lnTo>
                    <a:lnTo>
                      <a:pt x="762" y="748"/>
                    </a:lnTo>
                    <a:lnTo>
                      <a:pt x="762" y="752"/>
                    </a:lnTo>
                    <a:lnTo>
                      <a:pt x="762" y="762"/>
                    </a:lnTo>
                    <a:lnTo>
                      <a:pt x="762" y="766"/>
                    </a:lnTo>
                    <a:lnTo>
                      <a:pt x="767" y="771"/>
                    </a:lnTo>
                    <a:lnTo>
                      <a:pt x="772" y="780"/>
                    </a:lnTo>
                    <a:lnTo>
                      <a:pt x="776" y="785"/>
                    </a:lnTo>
                    <a:lnTo>
                      <a:pt x="786" y="795"/>
                    </a:lnTo>
                    <a:lnTo>
                      <a:pt x="800" y="799"/>
                    </a:lnTo>
                    <a:lnTo>
                      <a:pt x="809" y="809"/>
                    </a:lnTo>
                    <a:lnTo>
                      <a:pt x="828" y="813"/>
                    </a:lnTo>
                    <a:lnTo>
                      <a:pt x="847" y="818"/>
                    </a:lnTo>
                    <a:lnTo>
                      <a:pt x="870" y="823"/>
                    </a:lnTo>
                    <a:lnTo>
                      <a:pt x="889" y="823"/>
                    </a:lnTo>
                    <a:lnTo>
                      <a:pt x="913" y="827"/>
                    </a:lnTo>
                    <a:lnTo>
                      <a:pt x="936" y="827"/>
                    </a:lnTo>
                    <a:lnTo>
                      <a:pt x="960" y="827"/>
                    </a:lnTo>
                    <a:lnTo>
                      <a:pt x="983" y="827"/>
                    </a:lnTo>
                    <a:lnTo>
                      <a:pt x="1011" y="823"/>
                    </a:lnTo>
                    <a:lnTo>
                      <a:pt x="1030" y="823"/>
                    </a:lnTo>
                    <a:lnTo>
                      <a:pt x="1054" y="818"/>
                    </a:lnTo>
                    <a:lnTo>
                      <a:pt x="1077" y="813"/>
                    </a:lnTo>
                    <a:lnTo>
                      <a:pt x="1091" y="804"/>
                    </a:lnTo>
                    <a:lnTo>
                      <a:pt x="1110" y="795"/>
                    </a:lnTo>
                    <a:lnTo>
                      <a:pt x="1115" y="785"/>
                    </a:lnTo>
                    <a:lnTo>
                      <a:pt x="1115" y="776"/>
                    </a:lnTo>
                    <a:lnTo>
                      <a:pt x="1120" y="771"/>
                    </a:lnTo>
                    <a:lnTo>
                      <a:pt x="1120" y="762"/>
                    </a:lnTo>
                    <a:lnTo>
                      <a:pt x="1120" y="743"/>
                    </a:lnTo>
                    <a:lnTo>
                      <a:pt x="1120" y="724"/>
                    </a:lnTo>
                    <a:lnTo>
                      <a:pt x="1120" y="701"/>
                    </a:lnTo>
                    <a:lnTo>
                      <a:pt x="1120" y="677"/>
                    </a:lnTo>
                    <a:lnTo>
                      <a:pt x="1115" y="658"/>
                    </a:lnTo>
                    <a:lnTo>
                      <a:pt x="1110" y="635"/>
                    </a:lnTo>
                    <a:lnTo>
                      <a:pt x="1101" y="592"/>
                    </a:lnTo>
                    <a:lnTo>
                      <a:pt x="1091" y="550"/>
                    </a:lnTo>
                    <a:lnTo>
                      <a:pt x="1091" y="531"/>
                    </a:lnTo>
                    <a:lnTo>
                      <a:pt x="1091" y="512"/>
                    </a:lnTo>
                    <a:lnTo>
                      <a:pt x="1091" y="498"/>
                    </a:lnTo>
                    <a:lnTo>
                      <a:pt x="1096" y="484"/>
                    </a:lnTo>
                    <a:lnTo>
                      <a:pt x="1101" y="475"/>
                    </a:lnTo>
                    <a:lnTo>
                      <a:pt x="1105" y="461"/>
                    </a:lnTo>
                    <a:lnTo>
                      <a:pt x="1115" y="451"/>
                    </a:lnTo>
                    <a:lnTo>
                      <a:pt x="1124" y="447"/>
                    </a:lnTo>
                    <a:lnTo>
                      <a:pt x="1134" y="437"/>
                    </a:lnTo>
                    <a:lnTo>
                      <a:pt x="1143" y="428"/>
                    </a:lnTo>
                    <a:lnTo>
                      <a:pt x="1157" y="423"/>
                    </a:lnTo>
                    <a:lnTo>
                      <a:pt x="1167" y="418"/>
                    </a:lnTo>
                    <a:lnTo>
                      <a:pt x="1176" y="418"/>
                    </a:lnTo>
                    <a:lnTo>
                      <a:pt x="1190" y="414"/>
                    </a:lnTo>
                    <a:lnTo>
                      <a:pt x="1199" y="414"/>
                    </a:lnTo>
                    <a:lnTo>
                      <a:pt x="1214" y="418"/>
                    </a:lnTo>
                    <a:lnTo>
                      <a:pt x="1223" y="418"/>
                    </a:lnTo>
                    <a:lnTo>
                      <a:pt x="1232" y="428"/>
                    </a:lnTo>
                    <a:lnTo>
                      <a:pt x="1242" y="433"/>
                    </a:lnTo>
                    <a:lnTo>
                      <a:pt x="1251" y="442"/>
                    </a:lnTo>
                    <a:lnTo>
                      <a:pt x="1261" y="451"/>
                    </a:lnTo>
                    <a:lnTo>
                      <a:pt x="1270" y="456"/>
                    </a:lnTo>
                    <a:lnTo>
                      <a:pt x="1279" y="465"/>
                    </a:lnTo>
                    <a:lnTo>
                      <a:pt x="1294" y="470"/>
                    </a:lnTo>
                    <a:lnTo>
                      <a:pt x="1308" y="470"/>
                    </a:lnTo>
                    <a:lnTo>
                      <a:pt x="1322" y="470"/>
                    </a:lnTo>
                    <a:lnTo>
                      <a:pt x="1336" y="465"/>
                    </a:lnTo>
                    <a:lnTo>
                      <a:pt x="1350" y="461"/>
                    </a:lnTo>
                    <a:lnTo>
                      <a:pt x="1364" y="456"/>
                    </a:lnTo>
                    <a:lnTo>
                      <a:pt x="1373" y="447"/>
                    </a:lnTo>
                    <a:lnTo>
                      <a:pt x="1388" y="442"/>
                    </a:lnTo>
                    <a:lnTo>
                      <a:pt x="1397" y="433"/>
                    </a:lnTo>
                    <a:lnTo>
                      <a:pt x="1402" y="423"/>
                    </a:lnTo>
                    <a:lnTo>
                      <a:pt x="1411" y="409"/>
                    </a:lnTo>
                    <a:lnTo>
                      <a:pt x="1411" y="395"/>
                    </a:lnTo>
                    <a:lnTo>
                      <a:pt x="1416" y="386"/>
                    </a:lnTo>
                    <a:lnTo>
                      <a:pt x="1411" y="367"/>
                    </a:lnTo>
                    <a:lnTo>
                      <a:pt x="1411" y="348"/>
                    </a:lnTo>
                    <a:lnTo>
                      <a:pt x="1402" y="334"/>
                    </a:lnTo>
                    <a:lnTo>
                      <a:pt x="1397" y="320"/>
                    </a:lnTo>
                    <a:lnTo>
                      <a:pt x="1388" y="306"/>
                    </a:lnTo>
                    <a:lnTo>
                      <a:pt x="1373" y="296"/>
                    </a:lnTo>
                    <a:lnTo>
                      <a:pt x="1364" y="292"/>
                    </a:lnTo>
                    <a:lnTo>
                      <a:pt x="1350" y="282"/>
                    </a:lnTo>
                    <a:lnTo>
                      <a:pt x="1336" y="277"/>
                    </a:lnTo>
                    <a:lnTo>
                      <a:pt x="1322" y="273"/>
                    </a:lnTo>
                    <a:lnTo>
                      <a:pt x="1308" y="273"/>
                    </a:lnTo>
                    <a:lnTo>
                      <a:pt x="1294" y="273"/>
                    </a:lnTo>
                    <a:lnTo>
                      <a:pt x="1279" y="277"/>
                    </a:lnTo>
                    <a:lnTo>
                      <a:pt x="1270" y="282"/>
                    </a:lnTo>
                    <a:lnTo>
                      <a:pt x="1261" y="287"/>
                    </a:lnTo>
                    <a:lnTo>
                      <a:pt x="1251" y="292"/>
                    </a:lnTo>
                    <a:lnTo>
                      <a:pt x="1242" y="301"/>
                    </a:lnTo>
                    <a:lnTo>
                      <a:pt x="1232" y="306"/>
                    </a:lnTo>
                    <a:lnTo>
                      <a:pt x="1218" y="310"/>
                    </a:lnTo>
                    <a:lnTo>
                      <a:pt x="1209" y="315"/>
                    </a:lnTo>
                    <a:lnTo>
                      <a:pt x="1195" y="315"/>
                    </a:lnTo>
                    <a:lnTo>
                      <a:pt x="1181" y="315"/>
                    </a:lnTo>
                    <a:lnTo>
                      <a:pt x="1167" y="315"/>
                    </a:lnTo>
                    <a:lnTo>
                      <a:pt x="1157" y="315"/>
                    </a:lnTo>
                    <a:lnTo>
                      <a:pt x="1143" y="310"/>
                    </a:lnTo>
                    <a:lnTo>
                      <a:pt x="1129" y="306"/>
                    </a:lnTo>
                    <a:lnTo>
                      <a:pt x="1120" y="306"/>
                    </a:lnTo>
                    <a:lnTo>
                      <a:pt x="1110" y="296"/>
                    </a:lnTo>
                    <a:lnTo>
                      <a:pt x="1101" y="292"/>
                    </a:lnTo>
                    <a:lnTo>
                      <a:pt x="1091" y="282"/>
                    </a:lnTo>
                    <a:lnTo>
                      <a:pt x="1091" y="273"/>
                    </a:lnTo>
                    <a:lnTo>
                      <a:pt x="1087" y="263"/>
                    </a:lnTo>
                    <a:lnTo>
                      <a:pt x="1087" y="249"/>
                    </a:lnTo>
                    <a:lnTo>
                      <a:pt x="1087" y="221"/>
                    </a:lnTo>
                    <a:lnTo>
                      <a:pt x="1087" y="188"/>
                    </a:lnTo>
                    <a:lnTo>
                      <a:pt x="1091" y="150"/>
                    </a:lnTo>
                    <a:lnTo>
                      <a:pt x="1096" y="113"/>
                    </a:lnTo>
                    <a:lnTo>
                      <a:pt x="1101" y="75"/>
                    </a:lnTo>
                    <a:lnTo>
                      <a:pt x="1105" y="47"/>
                    </a:lnTo>
                    <a:lnTo>
                      <a:pt x="1110" y="19"/>
                    </a:lnTo>
                    <a:lnTo>
                      <a:pt x="1105" y="19"/>
                    </a:lnTo>
                    <a:lnTo>
                      <a:pt x="1105" y="19"/>
                    </a:lnTo>
                    <a:lnTo>
                      <a:pt x="1063" y="19"/>
                    </a:lnTo>
                    <a:lnTo>
                      <a:pt x="1021" y="14"/>
                    </a:lnTo>
                    <a:lnTo>
                      <a:pt x="983" y="14"/>
                    </a:lnTo>
                    <a:lnTo>
                      <a:pt x="950" y="9"/>
                    </a:lnTo>
                    <a:lnTo>
                      <a:pt x="917" y="5"/>
                    </a:lnTo>
                    <a:lnTo>
                      <a:pt x="889" y="5"/>
                    </a:lnTo>
                    <a:lnTo>
                      <a:pt x="870" y="0"/>
                    </a:lnTo>
                    <a:lnTo>
                      <a:pt x="856" y="0"/>
                    </a:lnTo>
                    <a:lnTo>
                      <a:pt x="847" y="0"/>
                    </a:lnTo>
                    <a:lnTo>
                      <a:pt x="842" y="5"/>
                    </a:lnTo>
                    <a:lnTo>
                      <a:pt x="833" y="9"/>
                    </a:lnTo>
                    <a:lnTo>
                      <a:pt x="823" y="19"/>
                    </a:lnTo>
                    <a:lnTo>
                      <a:pt x="819" y="24"/>
                    </a:lnTo>
                    <a:lnTo>
                      <a:pt x="809" y="33"/>
                    </a:lnTo>
                    <a:lnTo>
                      <a:pt x="809" y="47"/>
                    </a:lnTo>
                    <a:lnTo>
                      <a:pt x="805" y="56"/>
                    </a:lnTo>
                    <a:lnTo>
                      <a:pt x="800" y="71"/>
                    </a:lnTo>
                    <a:lnTo>
                      <a:pt x="800" y="85"/>
                    </a:lnTo>
                    <a:lnTo>
                      <a:pt x="800" y="99"/>
                    </a:lnTo>
                    <a:lnTo>
                      <a:pt x="805" y="108"/>
                    </a:lnTo>
                    <a:lnTo>
                      <a:pt x="809" y="122"/>
                    </a:lnTo>
                    <a:lnTo>
                      <a:pt x="814" y="136"/>
                    </a:lnTo>
                    <a:lnTo>
                      <a:pt x="823" y="150"/>
                    </a:lnTo>
                    <a:lnTo>
                      <a:pt x="833" y="160"/>
                    </a:lnTo>
                    <a:lnTo>
                      <a:pt x="847" y="169"/>
                    </a:lnTo>
                    <a:lnTo>
                      <a:pt x="852" y="183"/>
                    </a:lnTo>
                    <a:lnTo>
                      <a:pt x="861" y="202"/>
                    </a:lnTo>
                    <a:lnTo>
                      <a:pt x="866" y="212"/>
                    </a:lnTo>
                    <a:lnTo>
                      <a:pt x="866" y="230"/>
                    </a:lnTo>
                    <a:lnTo>
                      <a:pt x="866" y="244"/>
                    </a:lnTo>
                    <a:lnTo>
                      <a:pt x="866" y="259"/>
                    </a:lnTo>
                    <a:lnTo>
                      <a:pt x="856" y="268"/>
                    </a:lnTo>
                    <a:lnTo>
                      <a:pt x="852" y="282"/>
                    </a:lnTo>
                    <a:lnTo>
                      <a:pt x="842" y="296"/>
                    </a:lnTo>
                    <a:lnTo>
                      <a:pt x="833" y="306"/>
                    </a:lnTo>
                    <a:lnTo>
                      <a:pt x="819" y="315"/>
                    </a:lnTo>
                    <a:lnTo>
                      <a:pt x="805" y="324"/>
                    </a:lnTo>
                    <a:lnTo>
                      <a:pt x="786" y="329"/>
                    </a:lnTo>
                    <a:lnTo>
                      <a:pt x="767" y="334"/>
                    </a:lnTo>
                    <a:lnTo>
                      <a:pt x="748" y="339"/>
                    </a:lnTo>
                    <a:lnTo>
                      <a:pt x="739" y="339"/>
                    </a:lnTo>
                    <a:lnTo>
                      <a:pt x="729" y="339"/>
                    </a:lnTo>
                    <a:lnTo>
                      <a:pt x="720" y="334"/>
                    </a:lnTo>
                    <a:lnTo>
                      <a:pt x="710" y="334"/>
                    </a:lnTo>
                    <a:lnTo>
                      <a:pt x="701" y="329"/>
                    </a:lnTo>
                    <a:lnTo>
                      <a:pt x="692" y="324"/>
                    </a:lnTo>
                    <a:lnTo>
                      <a:pt x="687" y="320"/>
                    </a:lnTo>
                    <a:lnTo>
                      <a:pt x="678" y="315"/>
                    </a:lnTo>
                    <a:lnTo>
                      <a:pt x="663" y="306"/>
                    </a:lnTo>
                    <a:lnTo>
                      <a:pt x="654" y="296"/>
                    </a:lnTo>
                    <a:lnTo>
                      <a:pt x="645" y="282"/>
                    </a:lnTo>
                    <a:lnTo>
                      <a:pt x="640" y="268"/>
                    </a:lnTo>
                    <a:lnTo>
                      <a:pt x="635" y="254"/>
                    </a:lnTo>
                    <a:lnTo>
                      <a:pt x="635" y="235"/>
                    </a:lnTo>
                    <a:lnTo>
                      <a:pt x="631" y="221"/>
                    </a:lnTo>
                    <a:lnTo>
                      <a:pt x="635" y="207"/>
                    </a:lnTo>
                    <a:lnTo>
                      <a:pt x="635" y="188"/>
                    </a:lnTo>
                    <a:lnTo>
                      <a:pt x="645" y="179"/>
                    </a:lnTo>
                    <a:lnTo>
                      <a:pt x="649" y="165"/>
                    </a:lnTo>
                    <a:lnTo>
                      <a:pt x="659" y="155"/>
                    </a:lnTo>
                    <a:lnTo>
                      <a:pt x="668" y="146"/>
                    </a:lnTo>
                    <a:lnTo>
                      <a:pt x="673" y="136"/>
                    </a:lnTo>
                    <a:lnTo>
                      <a:pt x="678" y="127"/>
                    </a:lnTo>
                    <a:lnTo>
                      <a:pt x="682" y="118"/>
                    </a:lnTo>
                    <a:lnTo>
                      <a:pt x="687" y="108"/>
                    </a:lnTo>
                    <a:lnTo>
                      <a:pt x="687" y="99"/>
                    </a:lnTo>
                    <a:lnTo>
                      <a:pt x="687" y="89"/>
                    </a:lnTo>
                    <a:lnTo>
                      <a:pt x="682" y="80"/>
                    </a:lnTo>
                    <a:lnTo>
                      <a:pt x="678" y="71"/>
                    </a:lnTo>
                    <a:lnTo>
                      <a:pt x="673" y="61"/>
                    </a:lnTo>
                    <a:lnTo>
                      <a:pt x="663" y="52"/>
                    </a:lnTo>
                    <a:lnTo>
                      <a:pt x="649" y="47"/>
                    </a:lnTo>
                    <a:lnTo>
                      <a:pt x="635" y="38"/>
                    </a:lnTo>
                    <a:lnTo>
                      <a:pt x="621" y="33"/>
                    </a:lnTo>
                    <a:lnTo>
                      <a:pt x="602" y="24"/>
                    </a:lnTo>
                    <a:lnTo>
                      <a:pt x="579" y="19"/>
                    </a:lnTo>
                    <a:lnTo>
                      <a:pt x="555" y="19"/>
                    </a:lnTo>
                    <a:lnTo>
                      <a:pt x="522" y="14"/>
                    </a:lnTo>
                    <a:lnTo>
                      <a:pt x="485" y="14"/>
                    </a:lnTo>
                    <a:lnTo>
                      <a:pt x="447" y="19"/>
                    </a:lnTo>
                    <a:lnTo>
                      <a:pt x="405" y="19"/>
                    </a:lnTo>
                    <a:lnTo>
                      <a:pt x="367" y="24"/>
                    </a:lnTo>
                    <a:lnTo>
                      <a:pt x="334" y="28"/>
                    </a:lnTo>
                    <a:lnTo>
                      <a:pt x="311" y="33"/>
                    </a:lnTo>
                    <a:lnTo>
                      <a:pt x="315" y="61"/>
                    </a:lnTo>
                    <a:lnTo>
                      <a:pt x="330" y="94"/>
                    </a:lnTo>
                    <a:lnTo>
                      <a:pt x="339" y="136"/>
                    </a:lnTo>
                    <a:lnTo>
                      <a:pt x="348" y="179"/>
                    </a:lnTo>
                    <a:lnTo>
                      <a:pt x="348" y="197"/>
                    </a:lnTo>
                    <a:lnTo>
                      <a:pt x="353" y="221"/>
                    </a:lnTo>
                    <a:lnTo>
                      <a:pt x="353" y="240"/>
                    </a:lnTo>
                    <a:lnTo>
                      <a:pt x="353" y="259"/>
                    </a:lnTo>
                    <a:lnTo>
                      <a:pt x="353" y="273"/>
                    </a:lnTo>
                    <a:lnTo>
                      <a:pt x="348" y="287"/>
                    </a:lnTo>
                    <a:lnTo>
                      <a:pt x="344" y="292"/>
                    </a:lnTo>
                    <a:lnTo>
                      <a:pt x="344" y="301"/>
                    </a:lnTo>
                    <a:lnTo>
                      <a:pt x="339" y="306"/>
                    </a:lnTo>
                    <a:lnTo>
                      <a:pt x="334" y="306"/>
                    </a:lnTo>
                    <a:lnTo>
                      <a:pt x="330" y="315"/>
                    </a:lnTo>
                    <a:lnTo>
                      <a:pt x="315" y="320"/>
                    </a:lnTo>
                    <a:lnTo>
                      <a:pt x="311" y="324"/>
                    </a:lnTo>
                    <a:lnTo>
                      <a:pt x="297" y="329"/>
                    </a:lnTo>
                    <a:lnTo>
                      <a:pt x="287" y="334"/>
                    </a:lnTo>
                    <a:lnTo>
                      <a:pt x="278" y="334"/>
                    </a:lnTo>
                    <a:lnTo>
                      <a:pt x="268" y="334"/>
                    </a:lnTo>
                    <a:lnTo>
                      <a:pt x="259" y="334"/>
                    </a:lnTo>
                    <a:lnTo>
                      <a:pt x="250" y="334"/>
                    </a:lnTo>
                    <a:lnTo>
                      <a:pt x="240" y="334"/>
                    </a:lnTo>
                    <a:lnTo>
                      <a:pt x="231" y="329"/>
                    </a:lnTo>
                    <a:lnTo>
                      <a:pt x="221" y="329"/>
                    </a:lnTo>
                    <a:lnTo>
                      <a:pt x="212" y="324"/>
                    </a:lnTo>
                    <a:lnTo>
                      <a:pt x="203" y="320"/>
                    </a:lnTo>
                    <a:lnTo>
                      <a:pt x="198" y="315"/>
                    </a:lnTo>
                    <a:lnTo>
                      <a:pt x="193" y="306"/>
                    </a:lnTo>
                    <a:lnTo>
                      <a:pt x="184" y="301"/>
                    </a:lnTo>
                    <a:lnTo>
                      <a:pt x="170" y="292"/>
                    </a:lnTo>
                    <a:lnTo>
                      <a:pt x="156" y="287"/>
                    </a:lnTo>
                    <a:lnTo>
                      <a:pt x="141" y="282"/>
                    </a:lnTo>
                    <a:lnTo>
                      <a:pt x="127" y="282"/>
                    </a:lnTo>
                    <a:lnTo>
                      <a:pt x="113" y="282"/>
                    </a:lnTo>
                    <a:lnTo>
                      <a:pt x="94" y="282"/>
                    </a:lnTo>
                    <a:lnTo>
                      <a:pt x="80" y="287"/>
                    </a:lnTo>
                    <a:lnTo>
                      <a:pt x="66" y="292"/>
                    </a:lnTo>
                    <a:lnTo>
                      <a:pt x="52" y="301"/>
                    </a:lnTo>
                    <a:lnTo>
                      <a:pt x="38" y="315"/>
                    </a:lnTo>
                    <a:lnTo>
                      <a:pt x="24" y="324"/>
                    </a:lnTo>
                    <a:lnTo>
                      <a:pt x="19" y="334"/>
                    </a:lnTo>
                    <a:lnTo>
                      <a:pt x="15" y="339"/>
                    </a:lnTo>
                    <a:lnTo>
                      <a:pt x="15" y="348"/>
                    </a:lnTo>
                    <a:lnTo>
                      <a:pt x="10" y="357"/>
                    </a:lnTo>
                    <a:lnTo>
                      <a:pt x="5" y="367"/>
                    </a:lnTo>
                    <a:lnTo>
                      <a:pt x="5" y="376"/>
                    </a:lnTo>
                    <a:lnTo>
                      <a:pt x="0" y="390"/>
                    </a:lnTo>
                    <a:lnTo>
                      <a:pt x="0" y="400"/>
                    </a:lnTo>
                    <a:lnTo>
                      <a:pt x="0" y="409"/>
                    </a:lnTo>
                    <a:lnTo>
                      <a:pt x="5" y="418"/>
                    </a:lnTo>
                    <a:lnTo>
                      <a:pt x="5" y="428"/>
                    </a:lnTo>
                    <a:lnTo>
                      <a:pt x="10" y="433"/>
                    </a:lnTo>
                    <a:lnTo>
                      <a:pt x="10" y="442"/>
                    </a:lnTo>
                    <a:lnTo>
                      <a:pt x="15" y="447"/>
                    </a:lnTo>
                    <a:lnTo>
                      <a:pt x="19" y="456"/>
                    </a:lnTo>
                    <a:lnTo>
                      <a:pt x="24" y="461"/>
                    </a:lnTo>
                    <a:lnTo>
                      <a:pt x="33" y="475"/>
                    </a:lnTo>
                    <a:lnTo>
                      <a:pt x="47" y="484"/>
                    </a:lnTo>
                    <a:lnTo>
                      <a:pt x="62" y="489"/>
                    </a:lnTo>
                    <a:lnTo>
                      <a:pt x="76" y="494"/>
                    </a:lnTo>
                    <a:lnTo>
                      <a:pt x="90" y="498"/>
                    </a:lnTo>
                    <a:lnTo>
                      <a:pt x="104" y="503"/>
                    </a:lnTo>
                    <a:lnTo>
                      <a:pt x="123" y="503"/>
                    </a:lnTo>
                    <a:lnTo>
                      <a:pt x="137" y="503"/>
                    </a:lnTo>
                    <a:lnTo>
                      <a:pt x="146" y="498"/>
                    </a:lnTo>
                    <a:lnTo>
                      <a:pt x="160" y="494"/>
                    </a:lnTo>
                    <a:lnTo>
                      <a:pt x="170" y="489"/>
                    </a:lnTo>
                    <a:lnTo>
                      <a:pt x="174" y="480"/>
                    </a:lnTo>
                    <a:lnTo>
                      <a:pt x="184" y="475"/>
                    </a:lnTo>
                    <a:lnTo>
                      <a:pt x="193" y="470"/>
                    </a:lnTo>
                    <a:lnTo>
                      <a:pt x="203" y="465"/>
                    </a:lnTo>
                    <a:lnTo>
                      <a:pt x="212" y="461"/>
                    </a:lnTo>
                    <a:lnTo>
                      <a:pt x="221" y="461"/>
                    </a:lnTo>
                    <a:lnTo>
                      <a:pt x="236" y="461"/>
                    </a:lnTo>
                    <a:lnTo>
                      <a:pt x="245" y="465"/>
                    </a:lnTo>
                    <a:lnTo>
                      <a:pt x="254" y="465"/>
                    </a:lnTo>
                    <a:lnTo>
                      <a:pt x="268" y="470"/>
                    </a:lnTo>
                    <a:lnTo>
                      <a:pt x="278" y="475"/>
                    </a:lnTo>
                    <a:lnTo>
                      <a:pt x="283" y="480"/>
                    </a:lnTo>
                    <a:lnTo>
                      <a:pt x="292" y="489"/>
                    </a:lnTo>
                    <a:lnTo>
                      <a:pt x="297" y="498"/>
                    </a:lnTo>
                    <a:lnTo>
                      <a:pt x="306" y="503"/>
                    </a:lnTo>
                    <a:lnTo>
                      <a:pt x="306" y="512"/>
                    </a:lnTo>
                    <a:lnTo>
                      <a:pt x="311" y="522"/>
                    </a:lnTo>
                    <a:lnTo>
                      <a:pt x="306" y="545"/>
                    </a:lnTo>
                    <a:lnTo>
                      <a:pt x="306" y="574"/>
                    </a:lnTo>
                    <a:lnTo>
                      <a:pt x="301" y="607"/>
                    </a:lnTo>
                    <a:lnTo>
                      <a:pt x="301" y="644"/>
                    </a:lnTo>
                    <a:lnTo>
                      <a:pt x="297" y="686"/>
                    </a:lnTo>
                    <a:lnTo>
                      <a:pt x="297" y="724"/>
                    </a:lnTo>
                    <a:lnTo>
                      <a:pt x="301" y="743"/>
                    </a:lnTo>
                    <a:lnTo>
                      <a:pt x="301" y="762"/>
                    </a:lnTo>
                    <a:lnTo>
                      <a:pt x="306" y="776"/>
                    </a:lnTo>
                    <a:lnTo>
                      <a:pt x="311" y="795"/>
                    </a:lnTo>
                    <a:lnTo>
                      <a:pt x="315" y="799"/>
                    </a:lnTo>
                    <a:lnTo>
                      <a:pt x="330" y="799"/>
                    </a:lnTo>
                    <a:lnTo>
                      <a:pt x="344" y="804"/>
                    </a:lnTo>
                    <a:lnTo>
                      <a:pt x="358" y="804"/>
                    </a:lnTo>
                    <a:lnTo>
                      <a:pt x="395" y="804"/>
                    </a:lnTo>
                    <a:lnTo>
                      <a:pt x="433" y="804"/>
                    </a:lnTo>
                    <a:lnTo>
                      <a:pt x="480" y="799"/>
                    </a:lnTo>
                    <a:lnTo>
                      <a:pt x="522" y="799"/>
                    </a:lnTo>
                    <a:lnTo>
                      <a:pt x="569" y="795"/>
                    </a:lnTo>
                    <a:lnTo>
                      <a:pt x="612" y="795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-2592360" y="4076640"/>
                <a:ext cx="2592000" cy="1768320"/>
              </a:xfrm>
              <a:custGeom>
                <a:avLst/>
                <a:gdLst/>
                <a:ahLst/>
                <a:rect l="l" t="t" r="r" b="b"/>
                <a:pathLst>
                  <a:path w="1429" h="842">
                    <a:moveTo>
                      <a:pt x="625" y="809"/>
                    </a:moveTo>
                    <a:lnTo>
                      <a:pt x="630" y="809"/>
                    </a:lnTo>
                    <a:lnTo>
                      <a:pt x="630" y="809"/>
                    </a:lnTo>
                    <a:lnTo>
                      <a:pt x="644" y="804"/>
                    </a:lnTo>
                    <a:lnTo>
                      <a:pt x="639" y="795"/>
                    </a:lnTo>
                    <a:lnTo>
                      <a:pt x="639" y="804"/>
                    </a:lnTo>
                    <a:lnTo>
                      <a:pt x="644" y="804"/>
                    </a:lnTo>
                    <a:lnTo>
                      <a:pt x="649" y="804"/>
                    </a:lnTo>
                    <a:lnTo>
                      <a:pt x="649" y="804"/>
                    </a:lnTo>
                    <a:lnTo>
                      <a:pt x="658" y="800"/>
                    </a:lnTo>
                    <a:lnTo>
                      <a:pt x="658" y="795"/>
                    </a:lnTo>
                    <a:lnTo>
                      <a:pt x="663" y="795"/>
                    </a:lnTo>
                    <a:lnTo>
                      <a:pt x="667" y="785"/>
                    </a:lnTo>
                    <a:lnTo>
                      <a:pt x="658" y="781"/>
                    </a:lnTo>
                    <a:lnTo>
                      <a:pt x="663" y="785"/>
                    </a:lnTo>
                    <a:lnTo>
                      <a:pt x="667" y="781"/>
                    </a:lnTo>
                    <a:lnTo>
                      <a:pt x="672" y="781"/>
                    </a:lnTo>
                    <a:lnTo>
                      <a:pt x="672" y="776"/>
                    </a:lnTo>
                    <a:lnTo>
                      <a:pt x="672" y="771"/>
                    </a:lnTo>
                    <a:lnTo>
                      <a:pt x="663" y="771"/>
                    </a:lnTo>
                    <a:lnTo>
                      <a:pt x="672" y="776"/>
                    </a:lnTo>
                    <a:lnTo>
                      <a:pt x="677" y="767"/>
                    </a:lnTo>
                    <a:lnTo>
                      <a:pt x="677" y="767"/>
                    </a:lnTo>
                    <a:lnTo>
                      <a:pt x="677" y="762"/>
                    </a:lnTo>
                    <a:lnTo>
                      <a:pt x="677" y="753"/>
                    </a:lnTo>
                    <a:lnTo>
                      <a:pt x="677" y="753"/>
                    </a:lnTo>
                    <a:lnTo>
                      <a:pt x="677" y="753"/>
                    </a:lnTo>
                    <a:lnTo>
                      <a:pt x="672" y="743"/>
                    </a:lnTo>
                    <a:lnTo>
                      <a:pt x="663" y="743"/>
                    </a:lnTo>
                    <a:lnTo>
                      <a:pt x="672" y="743"/>
                    </a:lnTo>
                    <a:lnTo>
                      <a:pt x="672" y="734"/>
                    </a:lnTo>
                    <a:lnTo>
                      <a:pt x="672" y="734"/>
                    </a:lnTo>
                    <a:lnTo>
                      <a:pt x="672" y="734"/>
                    </a:lnTo>
                    <a:lnTo>
                      <a:pt x="667" y="724"/>
                    </a:lnTo>
                    <a:lnTo>
                      <a:pt x="667" y="724"/>
                    </a:lnTo>
                    <a:lnTo>
                      <a:pt x="663" y="720"/>
                    </a:lnTo>
                    <a:lnTo>
                      <a:pt x="653" y="710"/>
                    </a:lnTo>
                    <a:lnTo>
                      <a:pt x="649" y="715"/>
                    </a:lnTo>
                    <a:lnTo>
                      <a:pt x="658" y="715"/>
                    </a:lnTo>
                    <a:lnTo>
                      <a:pt x="653" y="701"/>
                    </a:lnTo>
                    <a:lnTo>
                      <a:pt x="653" y="701"/>
                    </a:lnTo>
                    <a:lnTo>
                      <a:pt x="649" y="696"/>
                    </a:lnTo>
                    <a:lnTo>
                      <a:pt x="639" y="687"/>
                    </a:lnTo>
                    <a:lnTo>
                      <a:pt x="635" y="691"/>
                    </a:lnTo>
                    <a:lnTo>
                      <a:pt x="644" y="691"/>
                    </a:lnTo>
                    <a:lnTo>
                      <a:pt x="635" y="677"/>
                    </a:lnTo>
                    <a:lnTo>
                      <a:pt x="630" y="673"/>
                    </a:lnTo>
                    <a:lnTo>
                      <a:pt x="630" y="673"/>
                    </a:lnTo>
                    <a:lnTo>
                      <a:pt x="620" y="668"/>
                    </a:lnTo>
                    <a:lnTo>
                      <a:pt x="616" y="673"/>
                    </a:lnTo>
                    <a:lnTo>
                      <a:pt x="625" y="673"/>
                    </a:lnTo>
                    <a:lnTo>
                      <a:pt x="620" y="663"/>
                    </a:lnTo>
                    <a:lnTo>
                      <a:pt x="611" y="663"/>
                    </a:lnTo>
                    <a:lnTo>
                      <a:pt x="620" y="663"/>
                    </a:lnTo>
                    <a:lnTo>
                      <a:pt x="620" y="659"/>
                    </a:lnTo>
                    <a:lnTo>
                      <a:pt x="620" y="659"/>
                    </a:lnTo>
                    <a:lnTo>
                      <a:pt x="620" y="659"/>
                    </a:lnTo>
                    <a:lnTo>
                      <a:pt x="616" y="649"/>
                    </a:lnTo>
                    <a:lnTo>
                      <a:pt x="611" y="635"/>
                    </a:lnTo>
                    <a:lnTo>
                      <a:pt x="606" y="621"/>
                    </a:lnTo>
                    <a:lnTo>
                      <a:pt x="597" y="621"/>
                    </a:lnTo>
                    <a:lnTo>
                      <a:pt x="606" y="621"/>
                    </a:lnTo>
                    <a:lnTo>
                      <a:pt x="606" y="607"/>
                    </a:lnTo>
                    <a:lnTo>
                      <a:pt x="597" y="607"/>
                    </a:lnTo>
                    <a:lnTo>
                      <a:pt x="606" y="612"/>
                    </a:lnTo>
                    <a:lnTo>
                      <a:pt x="611" y="593"/>
                    </a:lnTo>
                    <a:lnTo>
                      <a:pt x="616" y="579"/>
                    </a:lnTo>
                    <a:lnTo>
                      <a:pt x="625" y="564"/>
                    </a:lnTo>
                    <a:lnTo>
                      <a:pt x="635" y="550"/>
                    </a:lnTo>
                    <a:lnTo>
                      <a:pt x="625" y="546"/>
                    </a:lnTo>
                    <a:lnTo>
                      <a:pt x="630" y="550"/>
                    </a:lnTo>
                    <a:lnTo>
                      <a:pt x="639" y="541"/>
                    </a:lnTo>
                    <a:lnTo>
                      <a:pt x="653" y="527"/>
                    </a:lnTo>
                    <a:lnTo>
                      <a:pt x="649" y="522"/>
                    </a:lnTo>
                    <a:lnTo>
                      <a:pt x="653" y="532"/>
                    </a:lnTo>
                    <a:lnTo>
                      <a:pt x="667" y="522"/>
                    </a:lnTo>
                    <a:lnTo>
                      <a:pt x="682" y="517"/>
                    </a:lnTo>
                    <a:lnTo>
                      <a:pt x="700" y="508"/>
                    </a:lnTo>
                    <a:lnTo>
                      <a:pt x="714" y="503"/>
                    </a:lnTo>
                    <a:lnTo>
                      <a:pt x="710" y="494"/>
                    </a:lnTo>
                    <a:lnTo>
                      <a:pt x="710" y="503"/>
                    </a:lnTo>
                    <a:lnTo>
                      <a:pt x="729" y="503"/>
                    </a:lnTo>
                    <a:lnTo>
                      <a:pt x="747" y="503"/>
                    </a:lnTo>
                    <a:lnTo>
                      <a:pt x="747" y="494"/>
                    </a:lnTo>
                    <a:lnTo>
                      <a:pt x="747" y="503"/>
                    </a:lnTo>
                    <a:lnTo>
                      <a:pt x="761" y="508"/>
                    </a:lnTo>
                    <a:lnTo>
                      <a:pt x="780" y="517"/>
                    </a:lnTo>
                    <a:lnTo>
                      <a:pt x="790" y="522"/>
                    </a:lnTo>
                    <a:lnTo>
                      <a:pt x="790" y="513"/>
                    </a:lnTo>
                    <a:lnTo>
                      <a:pt x="785" y="517"/>
                    </a:lnTo>
                    <a:lnTo>
                      <a:pt x="799" y="532"/>
                    </a:lnTo>
                    <a:lnTo>
                      <a:pt x="809" y="541"/>
                    </a:lnTo>
                    <a:lnTo>
                      <a:pt x="818" y="550"/>
                    </a:lnTo>
                    <a:lnTo>
                      <a:pt x="823" y="546"/>
                    </a:lnTo>
                    <a:lnTo>
                      <a:pt x="818" y="550"/>
                    </a:lnTo>
                    <a:lnTo>
                      <a:pt x="827" y="564"/>
                    </a:lnTo>
                    <a:lnTo>
                      <a:pt x="832" y="583"/>
                    </a:lnTo>
                    <a:lnTo>
                      <a:pt x="837" y="597"/>
                    </a:lnTo>
                    <a:lnTo>
                      <a:pt x="841" y="612"/>
                    </a:lnTo>
                    <a:lnTo>
                      <a:pt x="846" y="607"/>
                    </a:lnTo>
                    <a:lnTo>
                      <a:pt x="841" y="607"/>
                    </a:lnTo>
                    <a:lnTo>
                      <a:pt x="841" y="621"/>
                    </a:lnTo>
                    <a:lnTo>
                      <a:pt x="846" y="621"/>
                    </a:lnTo>
                    <a:lnTo>
                      <a:pt x="841" y="621"/>
                    </a:lnTo>
                    <a:lnTo>
                      <a:pt x="837" y="635"/>
                    </a:lnTo>
                    <a:lnTo>
                      <a:pt x="832" y="649"/>
                    </a:lnTo>
                    <a:lnTo>
                      <a:pt x="827" y="663"/>
                    </a:lnTo>
                    <a:lnTo>
                      <a:pt x="832" y="663"/>
                    </a:lnTo>
                    <a:lnTo>
                      <a:pt x="827" y="659"/>
                    </a:lnTo>
                    <a:lnTo>
                      <a:pt x="818" y="668"/>
                    </a:lnTo>
                    <a:lnTo>
                      <a:pt x="799" y="687"/>
                    </a:lnTo>
                    <a:lnTo>
                      <a:pt x="780" y="706"/>
                    </a:lnTo>
                    <a:lnTo>
                      <a:pt x="780" y="710"/>
                    </a:lnTo>
                    <a:lnTo>
                      <a:pt x="780" y="710"/>
                    </a:lnTo>
                    <a:lnTo>
                      <a:pt x="776" y="720"/>
                    </a:lnTo>
                    <a:lnTo>
                      <a:pt x="771" y="729"/>
                    </a:lnTo>
                    <a:lnTo>
                      <a:pt x="776" y="729"/>
                    </a:lnTo>
                    <a:lnTo>
                      <a:pt x="771" y="724"/>
                    </a:lnTo>
                    <a:lnTo>
                      <a:pt x="766" y="729"/>
                    </a:lnTo>
                    <a:lnTo>
                      <a:pt x="766" y="734"/>
                    </a:lnTo>
                    <a:lnTo>
                      <a:pt x="766" y="734"/>
                    </a:lnTo>
                    <a:lnTo>
                      <a:pt x="761" y="743"/>
                    </a:lnTo>
                    <a:lnTo>
                      <a:pt x="761" y="743"/>
                    </a:lnTo>
                    <a:lnTo>
                      <a:pt x="761" y="743"/>
                    </a:lnTo>
                    <a:lnTo>
                      <a:pt x="761" y="753"/>
                    </a:lnTo>
                    <a:lnTo>
                      <a:pt x="761" y="757"/>
                    </a:lnTo>
                    <a:lnTo>
                      <a:pt x="761" y="767"/>
                    </a:lnTo>
                    <a:lnTo>
                      <a:pt x="761" y="771"/>
                    </a:lnTo>
                    <a:lnTo>
                      <a:pt x="761" y="776"/>
                    </a:lnTo>
                    <a:lnTo>
                      <a:pt x="761" y="776"/>
                    </a:lnTo>
                    <a:lnTo>
                      <a:pt x="766" y="781"/>
                    </a:lnTo>
                    <a:lnTo>
                      <a:pt x="771" y="776"/>
                    </a:lnTo>
                    <a:lnTo>
                      <a:pt x="766" y="781"/>
                    </a:lnTo>
                    <a:lnTo>
                      <a:pt x="771" y="790"/>
                    </a:lnTo>
                    <a:lnTo>
                      <a:pt x="771" y="790"/>
                    </a:lnTo>
                    <a:lnTo>
                      <a:pt x="771" y="790"/>
                    </a:lnTo>
                    <a:lnTo>
                      <a:pt x="776" y="795"/>
                    </a:lnTo>
                    <a:lnTo>
                      <a:pt x="785" y="804"/>
                    </a:lnTo>
                    <a:lnTo>
                      <a:pt x="790" y="809"/>
                    </a:lnTo>
                    <a:lnTo>
                      <a:pt x="790" y="809"/>
                    </a:lnTo>
                    <a:lnTo>
                      <a:pt x="804" y="814"/>
                    </a:lnTo>
                    <a:lnTo>
                      <a:pt x="804" y="804"/>
                    </a:lnTo>
                    <a:lnTo>
                      <a:pt x="799" y="809"/>
                    </a:lnTo>
                    <a:lnTo>
                      <a:pt x="809" y="818"/>
                    </a:lnTo>
                    <a:lnTo>
                      <a:pt x="809" y="818"/>
                    </a:lnTo>
                    <a:lnTo>
                      <a:pt x="813" y="823"/>
                    </a:lnTo>
                    <a:lnTo>
                      <a:pt x="832" y="828"/>
                    </a:lnTo>
                    <a:lnTo>
                      <a:pt x="851" y="832"/>
                    </a:lnTo>
                    <a:lnTo>
                      <a:pt x="874" y="837"/>
                    </a:lnTo>
                    <a:lnTo>
                      <a:pt x="893" y="837"/>
                    </a:lnTo>
                    <a:lnTo>
                      <a:pt x="917" y="842"/>
                    </a:lnTo>
                    <a:lnTo>
                      <a:pt x="940" y="842"/>
                    </a:lnTo>
                    <a:lnTo>
                      <a:pt x="964" y="842"/>
                    </a:lnTo>
                    <a:lnTo>
                      <a:pt x="987" y="842"/>
                    </a:lnTo>
                    <a:lnTo>
                      <a:pt x="1015" y="837"/>
                    </a:lnTo>
                    <a:lnTo>
                      <a:pt x="1034" y="837"/>
                    </a:lnTo>
                    <a:lnTo>
                      <a:pt x="1058" y="832"/>
                    </a:lnTo>
                    <a:lnTo>
                      <a:pt x="1081" y="828"/>
                    </a:lnTo>
                    <a:lnTo>
                      <a:pt x="1086" y="823"/>
                    </a:lnTo>
                    <a:lnTo>
                      <a:pt x="1086" y="828"/>
                    </a:lnTo>
                    <a:lnTo>
                      <a:pt x="1100" y="818"/>
                    </a:lnTo>
                    <a:lnTo>
                      <a:pt x="1119" y="809"/>
                    </a:lnTo>
                    <a:lnTo>
                      <a:pt x="1119" y="804"/>
                    </a:lnTo>
                    <a:lnTo>
                      <a:pt x="1124" y="804"/>
                    </a:lnTo>
                    <a:lnTo>
                      <a:pt x="1128" y="795"/>
                    </a:lnTo>
                    <a:lnTo>
                      <a:pt x="1128" y="795"/>
                    </a:lnTo>
                    <a:lnTo>
                      <a:pt x="1128" y="790"/>
                    </a:lnTo>
                    <a:lnTo>
                      <a:pt x="1128" y="781"/>
                    </a:lnTo>
                    <a:lnTo>
                      <a:pt x="1119" y="781"/>
                    </a:lnTo>
                    <a:lnTo>
                      <a:pt x="1124" y="785"/>
                    </a:lnTo>
                    <a:lnTo>
                      <a:pt x="1128" y="781"/>
                    </a:lnTo>
                    <a:lnTo>
                      <a:pt x="1133" y="781"/>
                    </a:lnTo>
                    <a:lnTo>
                      <a:pt x="1133" y="776"/>
                    </a:lnTo>
                    <a:lnTo>
                      <a:pt x="1133" y="767"/>
                    </a:lnTo>
                    <a:lnTo>
                      <a:pt x="1133" y="748"/>
                    </a:lnTo>
                    <a:lnTo>
                      <a:pt x="1133" y="729"/>
                    </a:lnTo>
                    <a:lnTo>
                      <a:pt x="1133" y="706"/>
                    </a:lnTo>
                    <a:lnTo>
                      <a:pt x="1133" y="682"/>
                    </a:lnTo>
                    <a:lnTo>
                      <a:pt x="1133" y="682"/>
                    </a:lnTo>
                    <a:lnTo>
                      <a:pt x="1133" y="682"/>
                    </a:lnTo>
                    <a:lnTo>
                      <a:pt x="1128" y="663"/>
                    </a:lnTo>
                    <a:lnTo>
                      <a:pt x="1119" y="663"/>
                    </a:lnTo>
                    <a:lnTo>
                      <a:pt x="1128" y="663"/>
                    </a:lnTo>
                    <a:lnTo>
                      <a:pt x="1124" y="640"/>
                    </a:lnTo>
                    <a:lnTo>
                      <a:pt x="1119" y="616"/>
                    </a:lnTo>
                    <a:lnTo>
                      <a:pt x="1124" y="640"/>
                    </a:lnTo>
                    <a:lnTo>
                      <a:pt x="1114" y="597"/>
                    </a:lnTo>
                    <a:lnTo>
                      <a:pt x="1105" y="555"/>
                    </a:lnTo>
                    <a:lnTo>
                      <a:pt x="1095" y="555"/>
                    </a:lnTo>
                    <a:lnTo>
                      <a:pt x="1105" y="555"/>
                    </a:lnTo>
                    <a:lnTo>
                      <a:pt x="1105" y="536"/>
                    </a:lnTo>
                    <a:lnTo>
                      <a:pt x="1105" y="517"/>
                    </a:lnTo>
                    <a:lnTo>
                      <a:pt x="1105" y="503"/>
                    </a:lnTo>
                    <a:lnTo>
                      <a:pt x="1095" y="503"/>
                    </a:lnTo>
                    <a:lnTo>
                      <a:pt x="1105" y="508"/>
                    </a:lnTo>
                    <a:lnTo>
                      <a:pt x="1109" y="494"/>
                    </a:lnTo>
                    <a:lnTo>
                      <a:pt x="1114" y="485"/>
                    </a:lnTo>
                    <a:lnTo>
                      <a:pt x="1119" y="470"/>
                    </a:lnTo>
                    <a:lnTo>
                      <a:pt x="1109" y="466"/>
                    </a:lnTo>
                    <a:lnTo>
                      <a:pt x="1114" y="470"/>
                    </a:lnTo>
                    <a:lnTo>
                      <a:pt x="1124" y="461"/>
                    </a:lnTo>
                    <a:lnTo>
                      <a:pt x="1119" y="456"/>
                    </a:lnTo>
                    <a:lnTo>
                      <a:pt x="1124" y="466"/>
                    </a:lnTo>
                    <a:lnTo>
                      <a:pt x="1133" y="461"/>
                    </a:lnTo>
                    <a:lnTo>
                      <a:pt x="1133" y="461"/>
                    </a:lnTo>
                    <a:lnTo>
                      <a:pt x="1133" y="456"/>
                    </a:lnTo>
                    <a:lnTo>
                      <a:pt x="1142" y="447"/>
                    </a:lnTo>
                    <a:lnTo>
                      <a:pt x="1152" y="438"/>
                    </a:lnTo>
                    <a:lnTo>
                      <a:pt x="1147" y="433"/>
                    </a:lnTo>
                    <a:lnTo>
                      <a:pt x="1152" y="442"/>
                    </a:lnTo>
                    <a:lnTo>
                      <a:pt x="1166" y="438"/>
                    </a:lnTo>
                    <a:lnTo>
                      <a:pt x="1175" y="433"/>
                    </a:lnTo>
                    <a:lnTo>
                      <a:pt x="1171" y="423"/>
                    </a:lnTo>
                    <a:lnTo>
                      <a:pt x="1171" y="433"/>
                    </a:lnTo>
                    <a:lnTo>
                      <a:pt x="1180" y="433"/>
                    </a:lnTo>
                    <a:lnTo>
                      <a:pt x="1185" y="433"/>
                    </a:lnTo>
                    <a:lnTo>
                      <a:pt x="1185" y="433"/>
                    </a:lnTo>
                    <a:lnTo>
                      <a:pt x="1199" y="428"/>
                    </a:lnTo>
                    <a:lnTo>
                      <a:pt x="1194" y="419"/>
                    </a:lnTo>
                    <a:lnTo>
                      <a:pt x="1194" y="428"/>
                    </a:lnTo>
                    <a:lnTo>
                      <a:pt x="1203" y="428"/>
                    </a:lnTo>
                    <a:lnTo>
                      <a:pt x="1203" y="419"/>
                    </a:lnTo>
                    <a:lnTo>
                      <a:pt x="1203" y="428"/>
                    </a:lnTo>
                    <a:lnTo>
                      <a:pt x="1218" y="433"/>
                    </a:lnTo>
                    <a:lnTo>
                      <a:pt x="1218" y="433"/>
                    </a:lnTo>
                    <a:lnTo>
                      <a:pt x="1218" y="433"/>
                    </a:lnTo>
                    <a:lnTo>
                      <a:pt x="1227" y="433"/>
                    </a:lnTo>
                    <a:lnTo>
                      <a:pt x="1227" y="423"/>
                    </a:lnTo>
                    <a:lnTo>
                      <a:pt x="1222" y="428"/>
                    </a:lnTo>
                    <a:lnTo>
                      <a:pt x="1232" y="438"/>
                    </a:lnTo>
                    <a:lnTo>
                      <a:pt x="1236" y="442"/>
                    </a:lnTo>
                    <a:lnTo>
                      <a:pt x="1236" y="442"/>
                    </a:lnTo>
                    <a:lnTo>
                      <a:pt x="1246" y="447"/>
                    </a:lnTo>
                    <a:lnTo>
                      <a:pt x="1246" y="438"/>
                    </a:lnTo>
                    <a:lnTo>
                      <a:pt x="1241" y="442"/>
                    </a:lnTo>
                    <a:lnTo>
                      <a:pt x="1251" y="452"/>
                    </a:lnTo>
                    <a:lnTo>
                      <a:pt x="1260" y="461"/>
                    </a:lnTo>
                    <a:lnTo>
                      <a:pt x="1265" y="466"/>
                    </a:lnTo>
                    <a:lnTo>
                      <a:pt x="1265" y="466"/>
                    </a:lnTo>
                    <a:lnTo>
                      <a:pt x="1274" y="470"/>
                    </a:lnTo>
                    <a:lnTo>
                      <a:pt x="1274" y="461"/>
                    </a:lnTo>
                    <a:lnTo>
                      <a:pt x="1269" y="466"/>
                    </a:lnTo>
                    <a:lnTo>
                      <a:pt x="1279" y="475"/>
                    </a:lnTo>
                    <a:lnTo>
                      <a:pt x="1283" y="480"/>
                    </a:lnTo>
                    <a:lnTo>
                      <a:pt x="1283" y="480"/>
                    </a:lnTo>
                    <a:lnTo>
                      <a:pt x="1298" y="485"/>
                    </a:lnTo>
                    <a:lnTo>
                      <a:pt x="1298" y="485"/>
                    </a:lnTo>
                    <a:lnTo>
                      <a:pt x="1298" y="485"/>
                    </a:lnTo>
                    <a:lnTo>
                      <a:pt x="1312" y="485"/>
                    </a:lnTo>
                    <a:lnTo>
                      <a:pt x="1326" y="485"/>
                    </a:lnTo>
                    <a:lnTo>
                      <a:pt x="1326" y="485"/>
                    </a:lnTo>
                    <a:lnTo>
                      <a:pt x="1330" y="485"/>
                    </a:lnTo>
                    <a:lnTo>
                      <a:pt x="1345" y="480"/>
                    </a:lnTo>
                    <a:lnTo>
                      <a:pt x="1359" y="475"/>
                    </a:lnTo>
                    <a:lnTo>
                      <a:pt x="1373" y="470"/>
                    </a:lnTo>
                    <a:lnTo>
                      <a:pt x="1373" y="470"/>
                    </a:lnTo>
                    <a:lnTo>
                      <a:pt x="1373" y="466"/>
                    </a:lnTo>
                    <a:lnTo>
                      <a:pt x="1382" y="456"/>
                    </a:lnTo>
                    <a:lnTo>
                      <a:pt x="1377" y="452"/>
                    </a:lnTo>
                    <a:lnTo>
                      <a:pt x="1382" y="461"/>
                    </a:lnTo>
                    <a:lnTo>
                      <a:pt x="1396" y="456"/>
                    </a:lnTo>
                    <a:lnTo>
                      <a:pt x="1396" y="456"/>
                    </a:lnTo>
                    <a:lnTo>
                      <a:pt x="1396" y="452"/>
                    </a:lnTo>
                    <a:lnTo>
                      <a:pt x="1406" y="442"/>
                    </a:lnTo>
                    <a:lnTo>
                      <a:pt x="1410" y="442"/>
                    </a:lnTo>
                    <a:lnTo>
                      <a:pt x="1410" y="442"/>
                    </a:lnTo>
                    <a:lnTo>
                      <a:pt x="1415" y="433"/>
                    </a:lnTo>
                    <a:lnTo>
                      <a:pt x="1424" y="419"/>
                    </a:lnTo>
                    <a:lnTo>
                      <a:pt x="1424" y="419"/>
                    </a:lnTo>
                    <a:lnTo>
                      <a:pt x="1424" y="414"/>
                    </a:lnTo>
                    <a:lnTo>
                      <a:pt x="1424" y="400"/>
                    </a:lnTo>
                    <a:lnTo>
                      <a:pt x="1415" y="400"/>
                    </a:lnTo>
                    <a:lnTo>
                      <a:pt x="1424" y="405"/>
                    </a:lnTo>
                    <a:lnTo>
                      <a:pt x="1429" y="395"/>
                    </a:lnTo>
                    <a:lnTo>
                      <a:pt x="1429" y="391"/>
                    </a:lnTo>
                    <a:lnTo>
                      <a:pt x="1429" y="391"/>
                    </a:lnTo>
                    <a:lnTo>
                      <a:pt x="1424" y="372"/>
                    </a:lnTo>
                    <a:lnTo>
                      <a:pt x="1415" y="372"/>
                    </a:lnTo>
                    <a:lnTo>
                      <a:pt x="1424" y="372"/>
                    </a:lnTo>
                    <a:lnTo>
                      <a:pt x="1424" y="353"/>
                    </a:lnTo>
                    <a:lnTo>
                      <a:pt x="1424" y="353"/>
                    </a:lnTo>
                    <a:lnTo>
                      <a:pt x="1424" y="353"/>
                    </a:lnTo>
                    <a:lnTo>
                      <a:pt x="1415" y="339"/>
                    </a:lnTo>
                    <a:lnTo>
                      <a:pt x="1410" y="325"/>
                    </a:lnTo>
                    <a:lnTo>
                      <a:pt x="1401" y="311"/>
                    </a:lnTo>
                    <a:lnTo>
                      <a:pt x="1396" y="306"/>
                    </a:lnTo>
                    <a:lnTo>
                      <a:pt x="1396" y="306"/>
                    </a:lnTo>
                    <a:lnTo>
                      <a:pt x="1382" y="297"/>
                    </a:lnTo>
                    <a:lnTo>
                      <a:pt x="1373" y="292"/>
                    </a:lnTo>
                    <a:lnTo>
                      <a:pt x="1359" y="282"/>
                    </a:lnTo>
                    <a:lnTo>
                      <a:pt x="1345" y="278"/>
                    </a:lnTo>
                    <a:lnTo>
                      <a:pt x="1330" y="273"/>
                    </a:lnTo>
                    <a:lnTo>
                      <a:pt x="1330" y="273"/>
                    </a:lnTo>
                    <a:lnTo>
                      <a:pt x="1326" y="273"/>
                    </a:lnTo>
                    <a:lnTo>
                      <a:pt x="1312" y="273"/>
                    </a:lnTo>
                    <a:lnTo>
                      <a:pt x="1298" y="273"/>
                    </a:lnTo>
                    <a:lnTo>
                      <a:pt x="1298" y="273"/>
                    </a:lnTo>
                    <a:lnTo>
                      <a:pt x="1298" y="273"/>
                    </a:lnTo>
                    <a:lnTo>
                      <a:pt x="1283" y="278"/>
                    </a:lnTo>
                    <a:lnTo>
                      <a:pt x="1274" y="282"/>
                    </a:lnTo>
                    <a:lnTo>
                      <a:pt x="1265" y="287"/>
                    </a:lnTo>
                    <a:lnTo>
                      <a:pt x="1255" y="292"/>
                    </a:lnTo>
                    <a:lnTo>
                      <a:pt x="1255" y="292"/>
                    </a:lnTo>
                    <a:lnTo>
                      <a:pt x="1251" y="292"/>
                    </a:lnTo>
                    <a:lnTo>
                      <a:pt x="1241" y="301"/>
                    </a:lnTo>
                    <a:lnTo>
                      <a:pt x="1246" y="306"/>
                    </a:lnTo>
                    <a:lnTo>
                      <a:pt x="1246" y="301"/>
                    </a:lnTo>
                    <a:lnTo>
                      <a:pt x="1236" y="306"/>
                    </a:lnTo>
                    <a:lnTo>
                      <a:pt x="1222" y="311"/>
                    </a:lnTo>
                    <a:lnTo>
                      <a:pt x="1213" y="315"/>
                    </a:lnTo>
                    <a:lnTo>
                      <a:pt x="1213" y="320"/>
                    </a:lnTo>
                    <a:lnTo>
                      <a:pt x="1213" y="315"/>
                    </a:lnTo>
                    <a:lnTo>
                      <a:pt x="1199" y="315"/>
                    </a:lnTo>
                    <a:lnTo>
                      <a:pt x="1185" y="315"/>
                    </a:lnTo>
                    <a:lnTo>
                      <a:pt x="1171" y="315"/>
                    </a:lnTo>
                    <a:lnTo>
                      <a:pt x="1161" y="315"/>
                    </a:lnTo>
                    <a:lnTo>
                      <a:pt x="1161" y="320"/>
                    </a:lnTo>
                    <a:lnTo>
                      <a:pt x="1166" y="315"/>
                    </a:lnTo>
                    <a:lnTo>
                      <a:pt x="1152" y="311"/>
                    </a:lnTo>
                    <a:lnTo>
                      <a:pt x="1138" y="306"/>
                    </a:lnTo>
                    <a:lnTo>
                      <a:pt x="1138" y="306"/>
                    </a:lnTo>
                    <a:lnTo>
                      <a:pt x="1133" y="306"/>
                    </a:lnTo>
                    <a:lnTo>
                      <a:pt x="1124" y="306"/>
                    </a:lnTo>
                    <a:lnTo>
                      <a:pt x="1124" y="311"/>
                    </a:lnTo>
                    <a:lnTo>
                      <a:pt x="1128" y="306"/>
                    </a:lnTo>
                    <a:lnTo>
                      <a:pt x="1119" y="297"/>
                    </a:lnTo>
                    <a:lnTo>
                      <a:pt x="1119" y="297"/>
                    </a:lnTo>
                    <a:lnTo>
                      <a:pt x="1119" y="297"/>
                    </a:lnTo>
                    <a:lnTo>
                      <a:pt x="1109" y="292"/>
                    </a:lnTo>
                    <a:lnTo>
                      <a:pt x="1105" y="297"/>
                    </a:lnTo>
                    <a:lnTo>
                      <a:pt x="1109" y="292"/>
                    </a:lnTo>
                    <a:lnTo>
                      <a:pt x="1100" y="282"/>
                    </a:lnTo>
                    <a:lnTo>
                      <a:pt x="1095" y="287"/>
                    </a:lnTo>
                    <a:lnTo>
                      <a:pt x="1105" y="287"/>
                    </a:lnTo>
                    <a:lnTo>
                      <a:pt x="1105" y="278"/>
                    </a:lnTo>
                    <a:lnTo>
                      <a:pt x="1105" y="278"/>
                    </a:lnTo>
                    <a:lnTo>
                      <a:pt x="1105" y="278"/>
                    </a:lnTo>
                    <a:lnTo>
                      <a:pt x="1100" y="268"/>
                    </a:lnTo>
                    <a:lnTo>
                      <a:pt x="1091" y="268"/>
                    </a:lnTo>
                    <a:lnTo>
                      <a:pt x="1100" y="268"/>
                    </a:lnTo>
                    <a:lnTo>
                      <a:pt x="1100" y="254"/>
                    </a:lnTo>
                    <a:lnTo>
                      <a:pt x="1100" y="226"/>
                    </a:lnTo>
                    <a:lnTo>
                      <a:pt x="1100" y="193"/>
                    </a:lnTo>
                    <a:lnTo>
                      <a:pt x="1105" y="155"/>
                    </a:lnTo>
                    <a:lnTo>
                      <a:pt x="1109" y="118"/>
                    </a:lnTo>
                    <a:lnTo>
                      <a:pt x="1114" y="80"/>
                    </a:lnTo>
                    <a:lnTo>
                      <a:pt x="1119" y="52"/>
                    </a:lnTo>
                    <a:lnTo>
                      <a:pt x="1124" y="24"/>
                    </a:lnTo>
                    <a:lnTo>
                      <a:pt x="1124" y="19"/>
                    </a:lnTo>
                    <a:lnTo>
                      <a:pt x="1114" y="19"/>
                    </a:lnTo>
                    <a:lnTo>
                      <a:pt x="1109" y="19"/>
                    </a:lnTo>
                    <a:lnTo>
                      <a:pt x="1067" y="19"/>
                    </a:lnTo>
                    <a:lnTo>
                      <a:pt x="1025" y="14"/>
                    </a:lnTo>
                    <a:lnTo>
                      <a:pt x="987" y="14"/>
                    </a:lnTo>
                    <a:lnTo>
                      <a:pt x="954" y="10"/>
                    </a:lnTo>
                    <a:lnTo>
                      <a:pt x="921" y="5"/>
                    </a:lnTo>
                    <a:lnTo>
                      <a:pt x="893" y="5"/>
                    </a:lnTo>
                    <a:lnTo>
                      <a:pt x="874" y="0"/>
                    </a:lnTo>
                    <a:lnTo>
                      <a:pt x="860" y="0"/>
                    </a:lnTo>
                    <a:lnTo>
                      <a:pt x="851" y="0"/>
                    </a:lnTo>
                    <a:lnTo>
                      <a:pt x="851" y="0"/>
                    </a:lnTo>
                    <a:lnTo>
                      <a:pt x="846" y="0"/>
                    </a:lnTo>
                    <a:lnTo>
                      <a:pt x="841" y="5"/>
                    </a:lnTo>
                    <a:lnTo>
                      <a:pt x="846" y="10"/>
                    </a:lnTo>
                    <a:lnTo>
                      <a:pt x="846" y="5"/>
                    </a:lnTo>
                    <a:lnTo>
                      <a:pt x="837" y="10"/>
                    </a:lnTo>
                    <a:lnTo>
                      <a:pt x="837" y="10"/>
                    </a:lnTo>
                    <a:lnTo>
                      <a:pt x="832" y="10"/>
                    </a:lnTo>
                    <a:lnTo>
                      <a:pt x="823" y="19"/>
                    </a:lnTo>
                    <a:lnTo>
                      <a:pt x="818" y="24"/>
                    </a:lnTo>
                    <a:lnTo>
                      <a:pt x="809" y="33"/>
                    </a:lnTo>
                    <a:lnTo>
                      <a:pt x="809" y="38"/>
                    </a:lnTo>
                    <a:lnTo>
                      <a:pt x="809" y="38"/>
                    </a:lnTo>
                    <a:lnTo>
                      <a:pt x="809" y="52"/>
                    </a:lnTo>
                    <a:lnTo>
                      <a:pt x="813" y="52"/>
                    </a:lnTo>
                    <a:lnTo>
                      <a:pt x="809" y="52"/>
                    </a:lnTo>
                    <a:lnTo>
                      <a:pt x="804" y="61"/>
                    </a:lnTo>
                    <a:lnTo>
                      <a:pt x="799" y="76"/>
                    </a:lnTo>
                    <a:lnTo>
                      <a:pt x="799" y="76"/>
                    </a:lnTo>
                    <a:lnTo>
                      <a:pt x="799" y="76"/>
                    </a:lnTo>
                    <a:lnTo>
                      <a:pt x="799" y="90"/>
                    </a:lnTo>
                    <a:lnTo>
                      <a:pt x="799" y="104"/>
                    </a:lnTo>
                    <a:lnTo>
                      <a:pt x="799" y="104"/>
                    </a:lnTo>
                    <a:lnTo>
                      <a:pt x="799" y="108"/>
                    </a:lnTo>
                    <a:lnTo>
                      <a:pt x="804" y="118"/>
                    </a:lnTo>
                    <a:lnTo>
                      <a:pt x="809" y="132"/>
                    </a:lnTo>
                    <a:lnTo>
                      <a:pt x="813" y="146"/>
                    </a:lnTo>
                    <a:lnTo>
                      <a:pt x="823" y="160"/>
                    </a:lnTo>
                    <a:lnTo>
                      <a:pt x="823" y="160"/>
                    </a:lnTo>
                    <a:lnTo>
                      <a:pt x="823" y="160"/>
                    </a:lnTo>
                    <a:lnTo>
                      <a:pt x="832" y="170"/>
                    </a:lnTo>
                    <a:lnTo>
                      <a:pt x="837" y="174"/>
                    </a:lnTo>
                    <a:lnTo>
                      <a:pt x="837" y="174"/>
                    </a:lnTo>
                    <a:lnTo>
                      <a:pt x="851" y="184"/>
                    </a:lnTo>
                    <a:lnTo>
                      <a:pt x="851" y="174"/>
                    </a:lnTo>
                    <a:lnTo>
                      <a:pt x="846" y="179"/>
                    </a:lnTo>
                    <a:lnTo>
                      <a:pt x="851" y="193"/>
                    </a:lnTo>
                    <a:lnTo>
                      <a:pt x="860" y="212"/>
                    </a:lnTo>
                    <a:lnTo>
                      <a:pt x="865" y="221"/>
                    </a:lnTo>
                    <a:lnTo>
                      <a:pt x="870" y="217"/>
                    </a:lnTo>
                    <a:lnTo>
                      <a:pt x="865" y="217"/>
                    </a:lnTo>
                    <a:lnTo>
                      <a:pt x="865" y="235"/>
                    </a:lnTo>
                    <a:lnTo>
                      <a:pt x="865" y="249"/>
                    </a:lnTo>
                    <a:lnTo>
                      <a:pt x="865" y="264"/>
                    </a:lnTo>
                    <a:lnTo>
                      <a:pt x="870" y="264"/>
                    </a:lnTo>
                    <a:lnTo>
                      <a:pt x="865" y="259"/>
                    </a:lnTo>
                    <a:lnTo>
                      <a:pt x="856" y="268"/>
                    </a:lnTo>
                    <a:lnTo>
                      <a:pt x="856" y="273"/>
                    </a:lnTo>
                    <a:lnTo>
                      <a:pt x="856" y="273"/>
                    </a:lnTo>
                    <a:lnTo>
                      <a:pt x="851" y="287"/>
                    </a:lnTo>
                    <a:lnTo>
                      <a:pt x="841" y="301"/>
                    </a:lnTo>
                    <a:lnTo>
                      <a:pt x="846" y="301"/>
                    </a:lnTo>
                    <a:lnTo>
                      <a:pt x="841" y="297"/>
                    </a:lnTo>
                    <a:lnTo>
                      <a:pt x="832" y="306"/>
                    </a:lnTo>
                    <a:lnTo>
                      <a:pt x="837" y="311"/>
                    </a:lnTo>
                    <a:lnTo>
                      <a:pt x="837" y="306"/>
                    </a:lnTo>
                    <a:lnTo>
                      <a:pt x="823" y="315"/>
                    </a:lnTo>
                    <a:lnTo>
                      <a:pt x="809" y="325"/>
                    </a:lnTo>
                    <a:lnTo>
                      <a:pt x="809" y="329"/>
                    </a:lnTo>
                    <a:lnTo>
                      <a:pt x="809" y="325"/>
                    </a:lnTo>
                    <a:lnTo>
                      <a:pt x="790" y="329"/>
                    </a:lnTo>
                    <a:lnTo>
                      <a:pt x="771" y="334"/>
                    </a:lnTo>
                    <a:lnTo>
                      <a:pt x="752" y="339"/>
                    </a:lnTo>
                    <a:lnTo>
                      <a:pt x="743" y="339"/>
                    </a:lnTo>
                    <a:lnTo>
                      <a:pt x="733" y="339"/>
                    </a:lnTo>
                    <a:lnTo>
                      <a:pt x="733" y="344"/>
                    </a:lnTo>
                    <a:lnTo>
                      <a:pt x="738" y="339"/>
                    </a:lnTo>
                    <a:lnTo>
                      <a:pt x="729" y="334"/>
                    </a:lnTo>
                    <a:lnTo>
                      <a:pt x="729" y="334"/>
                    </a:lnTo>
                    <a:lnTo>
                      <a:pt x="724" y="334"/>
                    </a:lnTo>
                    <a:lnTo>
                      <a:pt x="714" y="334"/>
                    </a:lnTo>
                    <a:lnTo>
                      <a:pt x="714" y="339"/>
                    </a:lnTo>
                    <a:lnTo>
                      <a:pt x="719" y="334"/>
                    </a:lnTo>
                    <a:lnTo>
                      <a:pt x="710" y="329"/>
                    </a:lnTo>
                    <a:lnTo>
                      <a:pt x="700" y="325"/>
                    </a:lnTo>
                    <a:lnTo>
                      <a:pt x="696" y="329"/>
                    </a:lnTo>
                    <a:lnTo>
                      <a:pt x="700" y="325"/>
                    </a:lnTo>
                    <a:lnTo>
                      <a:pt x="696" y="320"/>
                    </a:lnTo>
                    <a:lnTo>
                      <a:pt x="696" y="320"/>
                    </a:lnTo>
                    <a:lnTo>
                      <a:pt x="696" y="320"/>
                    </a:lnTo>
                    <a:lnTo>
                      <a:pt x="686" y="315"/>
                    </a:lnTo>
                    <a:lnTo>
                      <a:pt x="672" y="306"/>
                    </a:lnTo>
                    <a:lnTo>
                      <a:pt x="667" y="311"/>
                    </a:lnTo>
                    <a:lnTo>
                      <a:pt x="672" y="306"/>
                    </a:lnTo>
                    <a:lnTo>
                      <a:pt x="663" y="297"/>
                    </a:lnTo>
                    <a:lnTo>
                      <a:pt x="658" y="301"/>
                    </a:lnTo>
                    <a:lnTo>
                      <a:pt x="667" y="301"/>
                    </a:lnTo>
                    <a:lnTo>
                      <a:pt x="658" y="287"/>
                    </a:lnTo>
                    <a:lnTo>
                      <a:pt x="653" y="273"/>
                    </a:lnTo>
                    <a:lnTo>
                      <a:pt x="649" y="259"/>
                    </a:lnTo>
                    <a:lnTo>
                      <a:pt x="639" y="259"/>
                    </a:lnTo>
                    <a:lnTo>
                      <a:pt x="649" y="259"/>
                    </a:lnTo>
                    <a:lnTo>
                      <a:pt x="649" y="240"/>
                    </a:lnTo>
                    <a:lnTo>
                      <a:pt x="649" y="240"/>
                    </a:lnTo>
                    <a:lnTo>
                      <a:pt x="649" y="240"/>
                    </a:lnTo>
                    <a:lnTo>
                      <a:pt x="644" y="226"/>
                    </a:lnTo>
                    <a:lnTo>
                      <a:pt x="635" y="226"/>
                    </a:lnTo>
                    <a:lnTo>
                      <a:pt x="644" y="231"/>
                    </a:lnTo>
                    <a:lnTo>
                      <a:pt x="649" y="217"/>
                    </a:lnTo>
                    <a:lnTo>
                      <a:pt x="649" y="217"/>
                    </a:lnTo>
                    <a:lnTo>
                      <a:pt x="649" y="212"/>
                    </a:lnTo>
                    <a:lnTo>
                      <a:pt x="649" y="193"/>
                    </a:lnTo>
                    <a:lnTo>
                      <a:pt x="639" y="193"/>
                    </a:lnTo>
                    <a:lnTo>
                      <a:pt x="644" y="198"/>
                    </a:lnTo>
                    <a:lnTo>
                      <a:pt x="653" y="188"/>
                    </a:lnTo>
                    <a:lnTo>
                      <a:pt x="658" y="188"/>
                    </a:lnTo>
                    <a:lnTo>
                      <a:pt x="658" y="188"/>
                    </a:lnTo>
                    <a:lnTo>
                      <a:pt x="663" y="174"/>
                    </a:lnTo>
                    <a:lnTo>
                      <a:pt x="653" y="170"/>
                    </a:lnTo>
                    <a:lnTo>
                      <a:pt x="658" y="174"/>
                    </a:lnTo>
                    <a:lnTo>
                      <a:pt x="667" y="165"/>
                    </a:lnTo>
                    <a:lnTo>
                      <a:pt x="677" y="155"/>
                    </a:lnTo>
                    <a:lnTo>
                      <a:pt x="682" y="155"/>
                    </a:lnTo>
                    <a:lnTo>
                      <a:pt x="682" y="155"/>
                    </a:lnTo>
                    <a:lnTo>
                      <a:pt x="686" y="146"/>
                    </a:lnTo>
                    <a:lnTo>
                      <a:pt x="691" y="137"/>
                    </a:lnTo>
                    <a:lnTo>
                      <a:pt x="696" y="127"/>
                    </a:lnTo>
                    <a:lnTo>
                      <a:pt x="700" y="118"/>
                    </a:lnTo>
                    <a:lnTo>
                      <a:pt x="700" y="118"/>
                    </a:lnTo>
                    <a:lnTo>
                      <a:pt x="700" y="113"/>
                    </a:lnTo>
                    <a:lnTo>
                      <a:pt x="700" y="104"/>
                    </a:lnTo>
                    <a:lnTo>
                      <a:pt x="700" y="94"/>
                    </a:lnTo>
                    <a:lnTo>
                      <a:pt x="700" y="94"/>
                    </a:lnTo>
                    <a:lnTo>
                      <a:pt x="700" y="94"/>
                    </a:lnTo>
                    <a:lnTo>
                      <a:pt x="696" y="85"/>
                    </a:lnTo>
                    <a:lnTo>
                      <a:pt x="691" y="76"/>
                    </a:lnTo>
                    <a:lnTo>
                      <a:pt x="686" y="66"/>
                    </a:lnTo>
                    <a:lnTo>
                      <a:pt x="686" y="66"/>
                    </a:lnTo>
                    <a:lnTo>
                      <a:pt x="682" y="61"/>
                    </a:lnTo>
                    <a:lnTo>
                      <a:pt x="672" y="52"/>
                    </a:lnTo>
                    <a:lnTo>
                      <a:pt x="672" y="52"/>
                    </a:lnTo>
                    <a:lnTo>
                      <a:pt x="672" y="52"/>
                    </a:lnTo>
                    <a:lnTo>
                      <a:pt x="658" y="47"/>
                    </a:lnTo>
                    <a:lnTo>
                      <a:pt x="644" y="38"/>
                    </a:lnTo>
                    <a:lnTo>
                      <a:pt x="630" y="33"/>
                    </a:lnTo>
                    <a:lnTo>
                      <a:pt x="611" y="24"/>
                    </a:lnTo>
                    <a:lnTo>
                      <a:pt x="611" y="24"/>
                    </a:lnTo>
                    <a:lnTo>
                      <a:pt x="606" y="24"/>
                    </a:lnTo>
                    <a:lnTo>
                      <a:pt x="583" y="19"/>
                    </a:lnTo>
                    <a:lnTo>
                      <a:pt x="559" y="19"/>
                    </a:lnTo>
                    <a:lnTo>
                      <a:pt x="526" y="14"/>
                    </a:lnTo>
                    <a:lnTo>
                      <a:pt x="489" y="14"/>
                    </a:lnTo>
                    <a:lnTo>
                      <a:pt x="451" y="19"/>
                    </a:lnTo>
                    <a:lnTo>
                      <a:pt x="409" y="19"/>
                    </a:lnTo>
                    <a:lnTo>
                      <a:pt x="371" y="24"/>
                    </a:lnTo>
                    <a:lnTo>
                      <a:pt x="338" y="29"/>
                    </a:lnTo>
                    <a:lnTo>
                      <a:pt x="315" y="33"/>
                    </a:lnTo>
                    <a:lnTo>
                      <a:pt x="305" y="33"/>
                    </a:lnTo>
                    <a:lnTo>
                      <a:pt x="310" y="38"/>
                    </a:lnTo>
                    <a:lnTo>
                      <a:pt x="315" y="66"/>
                    </a:lnTo>
                    <a:lnTo>
                      <a:pt x="315" y="71"/>
                    </a:lnTo>
                    <a:lnTo>
                      <a:pt x="315" y="71"/>
                    </a:lnTo>
                    <a:lnTo>
                      <a:pt x="329" y="104"/>
                    </a:lnTo>
                    <a:lnTo>
                      <a:pt x="338" y="146"/>
                    </a:lnTo>
                    <a:lnTo>
                      <a:pt x="348" y="188"/>
                    </a:lnTo>
                    <a:lnTo>
                      <a:pt x="352" y="184"/>
                    </a:lnTo>
                    <a:lnTo>
                      <a:pt x="348" y="184"/>
                    </a:lnTo>
                    <a:lnTo>
                      <a:pt x="348" y="202"/>
                    </a:lnTo>
                    <a:lnTo>
                      <a:pt x="352" y="226"/>
                    </a:lnTo>
                    <a:lnTo>
                      <a:pt x="352" y="245"/>
                    </a:lnTo>
                    <a:lnTo>
                      <a:pt x="352" y="264"/>
                    </a:lnTo>
                    <a:lnTo>
                      <a:pt x="352" y="278"/>
                    </a:lnTo>
                    <a:lnTo>
                      <a:pt x="357" y="278"/>
                    </a:lnTo>
                    <a:lnTo>
                      <a:pt x="352" y="278"/>
                    </a:lnTo>
                    <a:lnTo>
                      <a:pt x="348" y="292"/>
                    </a:lnTo>
                    <a:lnTo>
                      <a:pt x="352" y="292"/>
                    </a:lnTo>
                    <a:lnTo>
                      <a:pt x="348" y="287"/>
                    </a:lnTo>
                    <a:lnTo>
                      <a:pt x="343" y="292"/>
                    </a:lnTo>
                    <a:lnTo>
                      <a:pt x="343" y="297"/>
                    </a:lnTo>
                    <a:lnTo>
                      <a:pt x="343" y="297"/>
                    </a:lnTo>
                    <a:lnTo>
                      <a:pt x="343" y="306"/>
                    </a:lnTo>
                    <a:lnTo>
                      <a:pt x="348" y="306"/>
                    </a:lnTo>
                    <a:lnTo>
                      <a:pt x="343" y="301"/>
                    </a:lnTo>
                    <a:lnTo>
                      <a:pt x="338" y="306"/>
                    </a:lnTo>
                    <a:lnTo>
                      <a:pt x="343" y="311"/>
                    </a:lnTo>
                    <a:lnTo>
                      <a:pt x="343" y="306"/>
                    </a:lnTo>
                    <a:lnTo>
                      <a:pt x="338" y="306"/>
                    </a:lnTo>
                    <a:lnTo>
                      <a:pt x="334" y="306"/>
                    </a:lnTo>
                    <a:lnTo>
                      <a:pt x="334" y="311"/>
                    </a:lnTo>
                    <a:lnTo>
                      <a:pt x="329" y="320"/>
                    </a:lnTo>
                    <a:lnTo>
                      <a:pt x="334" y="320"/>
                    </a:lnTo>
                    <a:lnTo>
                      <a:pt x="334" y="315"/>
                    </a:lnTo>
                    <a:lnTo>
                      <a:pt x="319" y="320"/>
                    </a:lnTo>
                    <a:lnTo>
                      <a:pt x="319" y="320"/>
                    </a:lnTo>
                    <a:lnTo>
                      <a:pt x="315" y="320"/>
                    </a:lnTo>
                    <a:lnTo>
                      <a:pt x="310" y="325"/>
                    </a:lnTo>
                    <a:lnTo>
                      <a:pt x="315" y="329"/>
                    </a:lnTo>
                    <a:lnTo>
                      <a:pt x="315" y="325"/>
                    </a:lnTo>
                    <a:lnTo>
                      <a:pt x="301" y="329"/>
                    </a:lnTo>
                    <a:lnTo>
                      <a:pt x="291" y="334"/>
                    </a:lnTo>
                    <a:lnTo>
                      <a:pt x="291" y="339"/>
                    </a:lnTo>
                    <a:lnTo>
                      <a:pt x="291" y="334"/>
                    </a:lnTo>
                    <a:lnTo>
                      <a:pt x="282" y="334"/>
                    </a:lnTo>
                    <a:lnTo>
                      <a:pt x="272" y="334"/>
                    </a:lnTo>
                    <a:lnTo>
                      <a:pt x="263" y="334"/>
                    </a:lnTo>
                    <a:lnTo>
                      <a:pt x="254" y="334"/>
                    </a:lnTo>
                    <a:lnTo>
                      <a:pt x="244" y="334"/>
                    </a:lnTo>
                    <a:lnTo>
                      <a:pt x="244" y="339"/>
                    </a:lnTo>
                    <a:lnTo>
                      <a:pt x="249" y="334"/>
                    </a:lnTo>
                    <a:lnTo>
                      <a:pt x="240" y="329"/>
                    </a:lnTo>
                    <a:lnTo>
                      <a:pt x="240" y="329"/>
                    </a:lnTo>
                    <a:lnTo>
                      <a:pt x="235" y="329"/>
                    </a:lnTo>
                    <a:lnTo>
                      <a:pt x="225" y="329"/>
                    </a:lnTo>
                    <a:lnTo>
                      <a:pt x="225" y="334"/>
                    </a:lnTo>
                    <a:lnTo>
                      <a:pt x="230" y="329"/>
                    </a:lnTo>
                    <a:lnTo>
                      <a:pt x="221" y="325"/>
                    </a:lnTo>
                    <a:lnTo>
                      <a:pt x="211" y="320"/>
                    </a:lnTo>
                    <a:lnTo>
                      <a:pt x="207" y="325"/>
                    </a:lnTo>
                    <a:lnTo>
                      <a:pt x="211" y="320"/>
                    </a:lnTo>
                    <a:lnTo>
                      <a:pt x="207" y="315"/>
                    </a:lnTo>
                    <a:lnTo>
                      <a:pt x="202" y="320"/>
                    </a:lnTo>
                    <a:lnTo>
                      <a:pt x="211" y="320"/>
                    </a:lnTo>
                    <a:lnTo>
                      <a:pt x="207" y="311"/>
                    </a:lnTo>
                    <a:lnTo>
                      <a:pt x="202" y="306"/>
                    </a:lnTo>
                    <a:lnTo>
                      <a:pt x="202" y="306"/>
                    </a:lnTo>
                    <a:lnTo>
                      <a:pt x="193" y="301"/>
                    </a:lnTo>
                    <a:lnTo>
                      <a:pt x="178" y="292"/>
                    </a:lnTo>
                    <a:lnTo>
                      <a:pt x="164" y="287"/>
                    </a:lnTo>
                    <a:lnTo>
                      <a:pt x="150" y="282"/>
                    </a:lnTo>
                    <a:lnTo>
                      <a:pt x="150" y="282"/>
                    </a:lnTo>
                    <a:lnTo>
                      <a:pt x="145" y="282"/>
                    </a:lnTo>
                    <a:lnTo>
                      <a:pt x="131" y="282"/>
                    </a:lnTo>
                    <a:lnTo>
                      <a:pt x="117" y="282"/>
                    </a:lnTo>
                    <a:lnTo>
                      <a:pt x="98" y="282"/>
                    </a:lnTo>
                    <a:lnTo>
                      <a:pt x="98" y="282"/>
                    </a:lnTo>
                    <a:lnTo>
                      <a:pt x="98" y="282"/>
                    </a:lnTo>
                    <a:lnTo>
                      <a:pt x="84" y="287"/>
                    </a:lnTo>
                    <a:lnTo>
                      <a:pt x="70" y="292"/>
                    </a:lnTo>
                    <a:lnTo>
                      <a:pt x="56" y="301"/>
                    </a:lnTo>
                    <a:lnTo>
                      <a:pt x="56" y="301"/>
                    </a:lnTo>
                    <a:lnTo>
                      <a:pt x="51" y="301"/>
                    </a:lnTo>
                    <a:lnTo>
                      <a:pt x="37" y="315"/>
                    </a:lnTo>
                    <a:lnTo>
                      <a:pt x="42" y="320"/>
                    </a:lnTo>
                    <a:lnTo>
                      <a:pt x="42" y="315"/>
                    </a:lnTo>
                    <a:lnTo>
                      <a:pt x="28" y="325"/>
                    </a:lnTo>
                    <a:lnTo>
                      <a:pt x="23" y="325"/>
                    </a:lnTo>
                    <a:lnTo>
                      <a:pt x="23" y="329"/>
                    </a:lnTo>
                    <a:lnTo>
                      <a:pt x="19" y="339"/>
                    </a:lnTo>
                    <a:lnTo>
                      <a:pt x="23" y="339"/>
                    </a:lnTo>
                    <a:lnTo>
                      <a:pt x="19" y="334"/>
                    </a:lnTo>
                    <a:lnTo>
                      <a:pt x="14" y="339"/>
                    </a:lnTo>
                    <a:lnTo>
                      <a:pt x="14" y="344"/>
                    </a:lnTo>
                    <a:lnTo>
                      <a:pt x="14" y="344"/>
                    </a:lnTo>
                    <a:lnTo>
                      <a:pt x="14" y="353"/>
                    </a:lnTo>
                    <a:lnTo>
                      <a:pt x="19" y="353"/>
                    </a:lnTo>
                    <a:lnTo>
                      <a:pt x="14" y="353"/>
                    </a:lnTo>
                    <a:lnTo>
                      <a:pt x="9" y="362"/>
                    </a:lnTo>
                    <a:lnTo>
                      <a:pt x="4" y="372"/>
                    </a:lnTo>
                    <a:lnTo>
                      <a:pt x="4" y="372"/>
                    </a:lnTo>
                    <a:lnTo>
                      <a:pt x="4" y="372"/>
                    </a:lnTo>
                    <a:lnTo>
                      <a:pt x="4" y="381"/>
                    </a:lnTo>
                    <a:lnTo>
                      <a:pt x="9" y="381"/>
                    </a:lnTo>
                    <a:lnTo>
                      <a:pt x="4" y="381"/>
                    </a:lnTo>
                    <a:lnTo>
                      <a:pt x="0" y="395"/>
                    </a:lnTo>
                    <a:lnTo>
                      <a:pt x="0" y="395"/>
                    </a:lnTo>
                    <a:lnTo>
                      <a:pt x="0" y="395"/>
                    </a:lnTo>
                    <a:lnTo>
                      <a:pt x="0" y="405"/>
                    </a:lnTo>
                    <a:lnTo>
                      <a:pt x="0" y="414"/>
                    </a:lnTo>
                    <a:lnTo>
                      <a:pt x="0" y="419"/>
                    </a:lnTo>
                    <a:lnTo>
                      <a:pt x="0" y="419"/>
                    </a:lnTo>
                    <a:lnTo>
                      <a:pt x="4" y="428"/>
                    </a:lnTo>
                    <a:lnTo>
                      <a:pt x="9" y="423"/>
                    </a:lnTo>
                    <a:lnTo>
                      <a:pt x="4" y="423"/>
                    </a:lnTo>
                    <a:lnTo>
                      <a:pt x="4" y="433"/>
                    </a:lnTo>
                    <a:lnTo>
                      <a:pt x="4" y="438"/>
                    </a:lnTo>
                    <a:lnTo>
                      <a:pt x="4" y="438"/>
                    </a:lnTo>
                    <a:lnTo>
                      <a:pt x="9" y="442"/>
                    </a:lnTo>
                    <a:lnTo>
                      <a:pt x="14" y="438"/>
                    </a:lnTo>
                    <a:lnTo>
                      <a:pt x="9" y="438"/>
                    </a:lnTo>
                    <a:lnTo>
                      <a:pt x="9" y="447"/>
                    </a:lnTo>
                    <a:lnTo>
                      <a:pt x="9" y="452"/>
                    </a:lnTo>
                    <a:lnTo>
                      <a:pt x="9" y="452"/>
                    </a:lnTo>
                    <a:lnTo>
                      <a:pt x="14" y="456"/>
                    </a:lnTo>
                    <a:lnTo>
                      <a:pt x="19" y="452"/>
                    </a:lnTo>
                    <a:lnTo>
                      <a:pt x="14" y="456"/>
                    </a:lnTo>
                    <a:lnTo>
                      <a:pt x="19" y="466"/>
                    </a:lnTo>
                    <a:lnTo>
                      <a:pt x="19" y="466"/>
                    </a:lnTo>
                    <a:lnTo>
                      <a:pt x="19" y="466"/>
                    </a:lnTo>
                    <a:lnTo>
                      <a:pt x="23" y="470"/>
                    </a:lnTo>
                    <a:lnTo>
                      <a:pt x="28" y="466"/>
                    </a:lnTo>
                    <a:lnTo>
                      <a:pt x="23" y="470"/>
                    </a:lnTo>
                    <a:lnTo>
                      <a:pt x="33" y="485"/>
                    </a:lnTo>
                    <a:lnTo>
                      <a:pt x="33" y="485"/>
                    </a:lnTo>
                    <a:lnTo>
                      <a:pt x="37" y="489"/>
                    </a:lnTo>
                    <a:lnTo>
                      <a:pt x="51" y="499"/>
                    </a:lnTo>
                    <a:lnTo>
                      <a:pt x="66" y="503"/>
                    </a:lnTo>
                    <a:lnTo>
                      <a:pt x="80" y="508"/>
                    </a:lnTo>
                    <a:lnTo>
                      <a:pt x="94" y="513"/>
                    </a:lnTo>
                    <a:lnTo>
                      <a:pt x="108" y="517"/>
                    </a:lnTo>
                    <a:lnTo>
                      <a:pt x="108" y="517"/>
                    </a:lnTo>
                    <a:lnTo>
                      <a:pt x="108" y="517"/>
                    </a:lnTo>
                    <a:lnTo>
                      <a:pt x="127" y="517"/>
                    </a:lnTo>
                    <a:lnTo>
                      <a:pt x="141" y="517"/>
                    </a:lnTo>
                    <a:lnTo>
                      <a:pt x="141" y="517"/>
                    </a:lnTo>
                    <a:lnTo>
                      <a:pt x="145" y="517"/>
                    </a:lnTo>
                    <a:lnTo>
                      <a:pt x="155" y="513"/>
                    </a:lnTo>
                    <a:lnTo>
                      <a:pt x="169" y="508"/>
                    </a:lnTo>
                    <a:lnTo>
                      <a:pt x="178" y="503"/>
                    </a:lnTo>
                    <a:lnTo>
                      <a:pt x="178" y="499"/>
                    </a:lnTo>
                    <a:lnTo>
                      <a:pt x="183" y="499"/>
                    </a:lnTo>
                    <a:lnTo>
                      <a:pt x="188" y="489"/>
                    </a:lnTo>
                    <a:lnTo>
                      <a:pt x="178" y="485"/>
                    </a:lnTo>
                    <a:lnTo>
                      <a:pt x="183" y="494"/>
                    </a:lnTo>
                    <a:lnTo>
                      <a:pt x="193" y="489"/>
                    </a:lnTo>
                    <a:lnTo>
                      <a:pt x="202" y="485"/>
                    </a:lnTo>
                    <a:lnTo>
                      <a:pt x="211" y="480"/>
                    </a:lnTo>
                    <a:lnTo>
                      <a:pt x="221" y="475"/>
                    </a:lnTo>
                    <a:lnTo>
                      <a:pt x="216" y="466"/>
                    </a:lnTo>
                    <a:lnTo>
                      <a:pt x="216" y="475"/>
                    </a:lnTo>
                    <a:lnTo>
                      <a:pt x="225" y="475"/>
                    </a:lnTo>
                    <a:lnTo>
                      <a:pt x="240" y="475"/>
                    </a:lnTo>
                    <a:lnTo>
                      <a:pt x="240" y="466"/>
                    </a:lnTo>
                    <a:lnTo>
                      <a:pt x="240" y="475"/>
                    </a:lnTo>
                    <a:lnTo>
                      <a:pt x="249" y="480"/>
                    </a:lnTo>
                    <a:lnTo>
                      <a:pt x="249" y="480"/>
                    </a:lnTo>
                    <a:lnTo>
                      <a:pt x="249" y="480"/>
                    </a:lnTo>
                    <a:lnTo>
                      <a:pt x="258" y="480"/>
                    </a:lnTo>
                    <a:lnTo>
                      <a:pt x="258" y="470"/>
                    </a:lnTo>
                    <a:lnTo>
                      <a:pt x="258" y="480"/>
                    </a:lnTo>
                    <a:lnTo>
                      <a:pt x="272" y="485"/>
                    </a:lnTo>
                    <a:lnTo>
                      <a:pt x="282" y="489"/>
                    </a:lnTo>
                    <a:lnTo>
                      <a:pt x="282" y="480"/>
                    </a:lnTo>
                    <a:lnTo>
                      <a:pt x="277" y="485"/>
                    </a:lnTo>
                    <a:lnTo>
                      <a:pt x="282" y="489"/>
                    </a:lnTo>
                    <a:lnTo>
                      <a:pt x="291" y="499"/>
                    </a:lnTo>
                    <a:lnTo>
                      <a:pt x="296" y="494"/>
                    </a:lnTo>
                    <a:lnTo>
                      <a:pt x="291" y="499"/>
                    </a:lnTo>
                    <a:lnTo>
                      <a:pt x="296" y="508"/>
                    </a:lnTo>
                    <a:lnTo>
                      <a:pt x="296" y="508"/>
                    </a:lnTo>
                    <a:lnTo>
                      <a:pt x="301" y="513"/>
                    </a:lnTo>
                    <a:lnTo>
                      <a:pt x="310" y="517"/>
                    </a:lnTo>
                    <a:lnTo>
                      <a:pt x="310" y="508"/>
                    </a:lnTo>
                    <a:lnTo>
                      <a:pt x="305" y="508"/>
                    </a:lnTo>
                    <a:lnTo>
                      <a:pt x="305" y="517"/>
                    </a:lnTo>
                    <a:lnTo>
                      <a:pt x="305" y="522"/>
                    </a:lnTo>
                    <a:lnTo>
                      <a:pt x="305" y="522"/>
                    </a:lnTo>
                    <a:lnTo>
                      <a:pt x="310" y="532"/>
                    </a:lnTo>
                    <a:lnTo>
                      <a:pt x="315" y="527"/>
                    </a:lnTo>
                    <a:lnTo>
                      <a:pt x="310" y="527"/>
                    </a:lnTo>
                    <a:lnTo>
                      <a:pt x="305" y="550"/>
                    </a:lnTo>
                    <a:lnTo>
                      <a:pt x="305" y="579"/>
                    </a:lnTo>
                    <a:lnTo>
                      <a:pt x="301" y="612"/>
                    </a:lnTo>
                    <a:lnTo>
                      <a:pt x="301" y="649"/>
                    </a:lnTo>
                    <a:lnTo>
                      <a:pt x="296" y="691"/>
                    </a:lnTo>
                    <a:lnTo>
                      <a:pt x="296" y="729"/>
                    </a:lnTo>
                    <a:lnTo>
                      <a:pt x="296" y="734"/>
                    </a:lnTo>
                    <a:lnTo>
                      <a:pt x="296" y="734"/>
                    </a:lnTo>
                    <a:lnTo>
                      <a:pt x="301" y="753"/>
                    </a:lnTo>
                    <a:lnTo>
                      <a:pt x="305" y="748"/>
                    </a:lnTo>
                    <a:lnTo>
                      <a:pt x="301" y="748"/>
                    </a:lnTo>
                    <a:lnTo>
                      <a:pt x="301" y="767"/>
                    </a:lnTo>
                    <a:lnTo>
                      <a:pt x="301" y="771"/>
                    </a:lnTo>
                    <a:lnTo>
                      <a:pt x="301" y="771"/>
                    </a:lnTo>
                    <a:lnTo>
                      <a:pt x="305" y="785"/>
                    </a:lnTo>
                    <a:lnTo>
                      <a:pt x="310" y="804"/>
                    </a:lnTo>
                    <a:lnTo>
                      <a:pt x="310" y="804"/>
                    </a:lnTo>
                    <a:lnTo>
                      <a:pt x="310" y="804"/>
                    </a:lnTo>
                    <a:lnTo>
                      <a:pt x="315" y="809"/>
                    </a:lnTo>
                    <a:lnTo>
                      <a:pt x="319" y="814"/>
                    </a:lnTo>
                    <a:lnTo>
                      <a:pt x="319" y="814"/>
                    </a:lnTo>
                    <a:lnTo>
                      <a:pt x="334" y="814"/>
                    </a:lnTo>
                    <a:lnTo>
                      <a:pt x="334" y="804"/>
                    </a:lnTo>
                    <a:lnTo>
                      <a:pt x="334" y="814"/>
                    </a:lnTo>
                    <a:lnTo>
                      <a:pt x="348" y="818"/>
                    </a:lnTo>
                    <a:lnTo>
                      <a:pt x="348" y="818"/>
                    </a:lnTo>
                    <a:lnTo>
                      <a:pt x="348" y="818"/>
                    </a:lnTo>
                    <a:lnTo>
                      <a:pt x="362" y="818"/>
                    </a:lnTo>
                    <a:lnTo>
                      <a:pt x="399" y="818"/>
                    </a:lnTo>
                    <a:lnTo>
                      <a:pt x="437" y="818"/>
                    </a:lnTo>
                    <a:lnTo>
                      <a:pt x="484" y="814"/>
                    </a:lnTo>
                    <a:lnTo>
                      <a:pt x="526" y="814"/>
                    </a:lnTo>
                    <a:lnTo>
                      <a:pt x="573" y="809"/>
                    </a:lnTo>
                    <a:lnTo>
                      <a:pt x="616" y="809"/>
                    </a:lnTo>
                    <a:lnTo>
                      <a:pt x="625" y="809"/>
                    </a:lnTo>
                    <a:close/>
                    <a:moveTo>
                      <a:pt x="616" y="795"/>
                    </a:moveTo>
                    <a:lnTo>
                      <a:pt x="573" y="795"/>
                    </a:lnTo>
                    <a:lnTo>
                      <a:pt x="526" y="800"/>
                    </a:lnTo>
                    <a:lnTo>
                      <a:pt x="484" y="800"/>
                    </a:lnTo>
                    <a:lnTo>
                      <a:pt x="437" y="804"/>
                    </a:lnTo>
                    <a:lnTo>
                      <a:pt x="399" y="804"/>
                    </a:lnTo>
                    <a:lnTo>
                      <a:pt x="362" y="804"/>
                    </a:lnTo>
                    <a:lnTo>
                      <a:pt x="348" y="804"/>
                    </a:lnTo>
                    <a:lnTo>
                      <a:pt x="348" y="809"/>
                    </a:lnTo>
                    <a:lnTo>
                      <a:pt x="352" y="804"/>
                    </a:lnTo>
                    <a:lnTo>
                      <a:pt x="338" y="800"/>
                    </a:lnTo>
                    <a:lnTo>
                      <a:pt x="338" y="800"/>
                    </a:lnTo>
                    <a:lnTo>
                      <a:pt x="334" y="800"/>
                    </a:lnTo>
                    <a:lnTo>
                      <a:pt x="319" y="800"/>
                    </a:lnTo>
                    <a:lnTo>
                      <a:pt x="319" y="804"/>
                    </a:lnTo>
                    <a:lnTo>
                      <a:pt x="324" y="800"/>
                    </a:lnTo>
                    <a:lnTo>
                      <a:pt x="319" y="795"/>
                    </a:lnTo>
                    <a:lnTo>
                      <a:pt x="315" y="800"/>
                    </a:lnTo>
                    <a:lnTo>
                      <a:pt x="324" y="800"/>
                    </a:lnTo>
                    <a:lnTo>
                      <a:pt x="319" y="781"/>
                    </a:lnTo>
                    <a:lnTo>
                      <a:pt x="315" y="767"/>
                    </a:lnTo>
                    <a:lnTo>
                      <a:pt x="305" y="767"/>
                    </a:lnTo>
                    <a:lnTo>
                      <a:pt x="315" y="767"/>
                    </a:lnTo>
                    <a:lnTo>
                      <a:pt x="315" y="748"/>
                    </a:lnTo>
                    <a:lnTo>
                      <a:pt x="315" y="748"/>
                    </a:lnTo>
                    <a:lnTo>
                      <a:pt x="315" y="748"/>
                    </a:lnTo>
                    <a:lnTo>
                      <a:pt x="310" y="729"/>
                    </a:lnTo>
                    <a:lnTo>
                      <a:pt x="301" y="729"/>
                    </a:lnTo>
                    <a:lnTo>
                      <a:pt x="310" y="729"/>
                    </a:lnTo>
                    <a:lnTo>
                      <a:pt x="310" y="691"/>
                    </a:lnTo>
                    <a:lnTo>
                      <a:pt x="315" y="649"/>
                    </a:lnTo>
                    <a:lnTo>
                      <a:pt x="315" y="612"/>
                    </a:lnTo>
                    <a:lnTo>
                      <a:pt x="319" y="579"/>
                    </a:lnTo>
                    <a:lnTo>
                      <a:pt x="319" y="550"/>
                    </a:lnTo>
                    <a:lnTo>
                      <a:pt x="324" y="527"/>
                    </a:lnTo>
                    <a:lnTo>
                      <a:pt x="324" y="527"/>
                    </a:lnTo>
                    <a:lnTo>
                      <a:pt x="324" y="527"/>
                    </a:lnTo>
                    <a:lnTo>
                      <a:pt x="319" y="517"/>
                    </a:lnTo>
                    <a:lnTo>
                      <a:pt x="310" y="517"/>
                    </a:lnTo>
                    <a:lnTo>
                      <a:pt x="319" y="517"/>
                    </a:lnTo>
                    <a:lnTo>
                      <a:pt x="319" y="508"/>
                    </a:lnTo>
                    <a:lnTo>
                      <a:pt x="319" y="503"/>
                    </a:lnTo>
                    <a:lnTo>
                      <a:pt x="315" y="503"/>
                    </a:lnTo>
                    <a:lnTo>
                      <a:pt x="305" y="499"/>
                    </a:lnTo>
                    <a:lnTo>
                      <a:pt x="301" y="503"/>
                    </a:lnTo>
                    <a:lnTo>
                      <a:pt x="310" y="503"/>
                    </a:lnTo>
                    <a:lnTo>
                      <a:pt x="305" y="494"/>
                    </a:lnTo>
                    <a:lnTo>
                      <a:pt x="305" y="494"/>
                    </a:lnTo>
                    <a:lnTo>
                      <a:pt x="301" y="489"/>
                    </a:lnTo>
                    <a:lnTo>
                      <a:pt x="291" y="480"/>
                    </a:lnTo>
                    <a:lnTo>
                      <a:pt x="287" y="475"/>
                    </a:lnTo>
                    <a:lnTo>
                      <a:pt x="287" y="475"/>
                    </a:lnTo>
                    <a:lnTo>
                      <a:pt x="287" y="475"/>
                    </a:lnTo>
                    <a:lnTo>
                      <a:pt x="277" y="470"/>
                    </a:lnTo>
                    <a:lnTo>
                      <a:pt x="263" y="466"/>
                    </a:lnTo>
                    <a:lnTo>
                      <a:pt x="263" y="466"/>
                    </a:lnTo>
                    <a:lnTo>
                      <a:pt x="258" y="466"/>
                    </a:lnTo>
                    <a:lnTo>
                      <a:pt x="249" y="466"/>
                    </a:lnTo>
                    <a:lnTo>
                      <a:pt x="249" y="470"/>
                    </a:lnTo>
                    <a:lnTo>
                      <a:pt x="254" y="466"/>
                    </a:lnTo>
                    <a:lnTo>
                      <a:pt x="244" y="461"/>
                    </a:lnTo>
                    <a:lnTo>
                      <a:pt x="244" y="461"/>
                    </a:lnTo>
                    <a:lnTo>
                      <a:pt x="240" y="461"/>
                    </a:lnTo>
                    <a:lnTo>
                      <a:pt x="225" y="461"/>
                    </a:lnTo>
                    <a:lnTo>
                      <a:pt x="216" y="461"/>
                    </a:lnTo>
                    <a:lnTo>
                      <a:pt x="216" y="461"/>
                    </a:lnTo>
                    <a:lnTo>
                      <a:pt x="216" y="461"/>
                    </a:lnTo>
                    <a:lnTo>
                      <a:pt x="207" y="466"/>
                    </a:lnTo>
                    <a:lnTo>
                      <a:pt x="197" y="470"/>
                    </a:lnTo>
                    <a:lnTo>
                      <a:pt x="188" y="475"/>
                    </a:lnTo>
                    <a:lnTo>
                      <a:pt x="178" y="480"/>
                    </a:lnTo>
                    <a:lnTo>
                      <a:pt x="174" y="480"/>
                    </a:lnTo>
                    <a:lnTo>
                      <a:pt x="174" y="485"/>
                    </a:lnTo>
                    <a:lnTo>
                      <a:pt x="169" y="494"/>
                    </a:lnTo>
                    <a:lnTo>
                      <a:pt x="174" y="494"/>
                    </a:lnTo>
                    <a:lnTo>
                      <a:pt x="174" y="489"/>
                    </a:lnTo>
                    <a:lnTo>
                      <a:pt x="164" y="494"/>
                    </a:lnTo>
                    <a:lnTo>
                      <a:pt x="150" y="499"/>
                    </a:lnTo>
                    <a:lnTo>
                      <a:pt x="141" y="503"/>
                    </a:lnTo>
                    <a:lnTo>
                      <a:pt x="141" y="508"/>
                    </a:lnTo>
                    <a:lnTo>
                      <a:pt x="141" y="503"/>
                    </a:lnTo>
                    <a:lnTo>
                      <a:pt x="127" y="503"/>
                    </a:lnTo>
                    <a:lnTo>
                      <a:pt x="108" y="503"/>
                    </a:lnTo>
                    <a:lnTo>
                      <a:pt x="108" y="508"/>
                    </a:lnTo>
                    <a:lnTo>
                      <a:pt x="113" y="503"/>
                    </a:lnTo>
                    <a:lnTo>
                      <a:pt x="98" y="499"/>
                    </a:lnTo>
                    <a:lnTo>
                      <a:pt x="84" y="494"/>
                    </a:lnTo>
                    <a:lnTo>
                      <a:pt x="70" y="489"/>
                    </a:lnTo>
                    <a:lnTo>
                      <a:pt x="56" y="485"/>
                    </a:lnTo>
                    <a:lnTo>
                      <a:pt x="42" y="475"/>
                    </a:lnTo>
                    <a:lnTo>
                      <a:pt x="37" y="480"/>
                    </a:lnTo>
                    <a:lnTo>
                      <a:pt x="47" y="480"/>
                    </a:lnTo>
                    <a:lnTo>
                      <a:pt x="37" y="466"/>
                    </a:lnTo>
                    <a:lnTo>
                      <a:pt x="37" y="466"/>
                    </a:lnTo>
                    <a:lnTo>
                      <a:pt x="33" y="461"/>
                    </a:lnTo>
                    <a:lnTo>
                      <a:pt x="28" y="456"/>
                    </a:lnTo>
                    <a:lnTo>
                      <a:pt x="23" y="461"/>
                    </a:lnTo>
                    <a:lnTo>
                      <a:pt x="33" y="461"/>
                    </a:lnTo>
                    <a:lnTo>
                      <a:pt x="28" y="452"/>
                    </a:lnTo>
                    <a:lnTo>
                      <a:pt x="28" y="452"/>
                    </a:lnTo>
                    <a:lnTo>
                      <a:pt x="23" y="447"/>
                    </a:lnTo>
                    <a:lnTo>
                      <a:pt x="19" y="442"/>
                    </a:lnTo>
                    <a:lnTo>
                      <a:pt x="14" y="447"/>
                    </a:lnTo>
                    <a:lnTo>
                      <a:pt x="23" y="447"/>
                    </a:lnTo>
                    <a:lnTo>
                      <a:pt x="23" y="438"/>
                    </a:lnTo>
                    <a:lnTo>
                      <a:pt x="23" y="438"/>
                    </a:lnTo>
                    <a:lnTo>
                      <a:pt x="19" y="433"/>
                    </a:lnTo>
                    <a:lnTo>
                      <a:pt x="14" y="428"/>
                    </a:lnTo>
                    <a:lnTo>
                      <a:pt x="9" y="433"/>
                    </a:lnTo>
                    <a:lnTo>
                      <a:pt x="19" y="43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9" y="423"/>
                    </a:lnTo>
                    <a:lnTo>
                      <a:pt x="14" y="414"/>
                    </a:lnTo>
                    <a:lnTo>
                      <a:pt x="4" y="414"/>
                    </a:lnTo>
                    <a:lnTo>
                      <a:pt x="14" y="414"/>
                    </a:lnTo>
                    <a:lnTo>
                      <a:pt x="14" y="405"/>
                    </a:lnTo>
                    <a:lnTo>
                      <a:pt x="14" y="395"/>
                    </a:lnTo>
                    <a:lnTo>
                      <a:pt x="4" y="395"/>
                    </a:lnTo>
                    <a:lnTo>
                      <a:pt x="14" y="400"/>
                    </a:lnTo>
                    <a:lnTo>
                      <a:pt x="19" y="386"/>
                    </a:lnTo>
                    <a:lnTo>
                      <a:pt x="19" y="386"/>
                    </a:lnTo>
                    <a:lnTo>
                      <a:pt x="19" y="381"/>
                    </a:lnTo>
                    <a:lnTo>
                      <a:pt x="19" y="372"/>
                    </a:lnTo>
                    <a:lnTo>
                      <a:pt x="9" y="372"/>
                    </a:lnTo>
                    <a:lnTo>
                      <a:pt x="19" y="376"/>
                    </a:lnTo>
                    <a:lnTo>
                      <a:pt x="23" y="367"/>
                    </a:lnTo>
                    <a:lnTo>
                      <a:pt x="28" y="358"/>
                    </a:lnTo>
                    <a:lnTo>
                      <a:pt x="28" y="358"/>
                    </a:lnTo>
                    <a:lnTo>
                      <a:pt x="28" y="353"/>
                    </a:lnTo>
                    <a:lnTo>
                      <a:pt x="28" y="344"/>
                    </a:lnTo>
                    <a:lnTo>
                      <a:pt x="19" y="344"/>
                    </a:lnTo>
                    <a:lnTo>
                      <a:pt x="23" y="348"/>
                    </a:lnTo>
                    <a:lnTo>
                      <a:pt x="28" y="344"/>
                    </a:lnTo>
                    <a:lnTo>
                      <a:pt x="33" y="344"/>
                    </a:lnTo>
                    <a:lnTo>
                      <a:pt x="33" y="344"/>
                    </a:lnTo>
                    <a:lnTo>
                      <a:pt x="37" y="334"/>
                    </a:lnTo>
                    <a:lnTo>
                      <a:pt x="28" y="329"/>
                    </a:lnTo>
                    <a:lnTo>
                      <a:pt x="33" y="339"/>
                    </a:lnTo>
                    <a:lnTo>
                      <a:pt x="47" y="329"/>
                    </a:lnTo>
                    <a:lnTo>
                      <a:pt x="47" y="329"/>
                    </a:lnTo>
                    <a:lnTo>
                      <a:pt x="47" y="325"/>
                    </a:lnTo>
                    <a:lnTo>
                      <a:pt x="61" y="311"/>
                    </a:lnTo>
                    <a:lnTo>
                      <a:pt x="56" y="306"/>
                    </a:lnTo>
                    <a:lnTo>
                      <a:pt x="61" y="315"/>
                    </a:lnTo>
                    <a:lnTo>
                      <a:pt x="75" y="306"/>
                    </a:lnTo>
                    <a:lnTo>
                      <a:pt x="89" y="301"/>
                    </a:lnTo>
                    <a:lnTo>
                      <a:pt x="103" y="297"/>
                    </a:lnTo>
                    <a:lnTo>
                      <a:pt x="98" y="287"/>
                    </a:lnTo>
                    <a:lnTo>
                      <a:pt x="98" y="297"/>
                    </a:lnTo>
                    <a:lnTo>
                      <a:pt x="117" y="297"/>
                    </a:lnTo>
                    <a:lnTo>
                      <a:pt x="131" y="297"/>
                    </a:lnTo>
                    <a:lnTo>
                      <a:pt x="145" y="297"/>
                    </a:lnTo>
                    <a:lnTo>
                      <a:pt x="145" y="287"/>
                    </a:lnTo>
                    <a:lnTo>
                      <a:pt x="145" y="297"/>
                    </a:lnTo>
                    <a:lnTo>
                      <a:pt x="160" y="301"/>
                    </a:lnTo>
                    <a:lnTo>
                      <a:pt x="174" y="306"/>
                    </a:lnTo>
                    <a:lnTo>
                      <a:pt x="188" y="315"/>
                    </a:lnTo>
                    <a:lnTo>
                      <a:pt x="197" y="320"/>
                    </a:lnTo>
                    <a:lnTo>
                      <a:pt x="197" y="311"/>
                    </a:lnTo>
                    <a:lnTo>
                      <a:pt x="193" y="315"/>
                    </a:lnTo>
                    <a:lnTo>
                      <a:pt x="197" y="325"/>
                    </a:lnTo>
                    <a:lnTo>
                      <a:pt x="197" y="325"/>
                    </a:lnTo>
                    <a:lnTo>
                      <a:pt x="197" y="325"/>
                    </a:lnTo>
                    <a:lnTo>
                      <a:pt x="202" y="329"/>
                    </a:lnTo>
                    <a:lnTo>
                      <a:pt x="207" y="334"/>
                    </a:lnTo>
                    <a:lnTo>
                      <a:pt x="207" y="334"/>
                    </a:lnTo>
                    <a:lnTo>
                      <a:pt x="216" y="339"/>
                    </a:lnTo>
                    <a:lnTo>
                      <a:pt x="225" y="344"/>
                    </a:lnTo>
                    <a:lnTo>
                      <a:pt x="225" y="344"/>
                    </a:lnTo>
                    <a:lnTo>
                      <a:pt x="225" y="344"/>
                    </a:lnTo>
                    <a:lnTo>
                      <a:pt x="235" y="344"/>
                    </a:lnTo>
                    <a:lnTo>
                      <a:pt x="235" y="334"/>
                    </a:lnTo>
                    <a:lnTo>
                      <a:pt x="235" y="344"/>
                    </a:lnTo>
                    <a:lnTo>
                      <a:pt x="244" y="348"/>
                    </a:lnTo>
                    <a:lnTo>
                      <a:pt x="244" y="348"/>
                    </a:lnTo>
                    <a:lnTo>
                      <a:pt x="244" y="348"/>
                    </a:lnTo>
                    <a:lnTo>
                      <a:pt x="254" y="348"/>
                    </a:lnTo>
                    <a:lnTo>
                      <a:pt x="263" y="348"/>
                    </a:lnTo>
                    <a:lnTo>
                      <a:pt x="272" y="348"/>
                    </a:lnTo>
                    <a:lnTo>
                      <a:pt x="282" y="348"/>
                    </a:lnTo>
                    <a:lnTo>
                      <a:pt x="291" y="348"/>
                    </a:lnTo>
                    <a:lnTo>
                      <a:pt x="296" y="348"/>
                    </a:lnTo>
                    <a:lnTo>
                      <a:pt x="296" y="348"/>
                    </a:lnTo>
                    <a:lnTo>
                      <a:pt x="305" y="344"/>
                    </a:lnTo>
                    <a:lnTo>
                      <a:pt x="319" y="339"/>
                    </a:lnTo>
                    <a:lnTo>
                      <a:pt x="319" y="339"/>
                    </a:lnTo>
                    <a:lnTo>
                      <a:pt x="319" y="334"/>
                    </a:lnTo>
                    <a:lnTo>
                      <a:pt x="324" y="329"/>
                    </a:lnTo>
                    <a:lnTo>
                      <a:pt x="319" y="325"/>
                    </a:lnTo>
                    <a:lnTo>
                      <a:pt x="324" y="334"/>
                    </a:lnTo>
                    <a:lnTo>
                      <a:pt x="338" y="329"/>
                    </a:lnTo>
                    <a:lnTo>
                      <a:pt x="338" y="325"/>
                    </a:lnTo>
                    <a:lnTo>
                      <a:pt x="343" y="325"/>
                    </a:lnTo>
                    <a:lnTo>
                      <a:pt x="348" y="315"/>
                    </a:lnTo>
                    <a:lnTo>
                      <a:pt x="338" y="311"/>
                    </a:lnTo>
                    <a:lnTo>
                      <a:pt x="338" y="320"/>
                    </a:lnTo>
                    <a:lnTo>
                      <a:pt x="343" y="320"/>
                    </a:lnTo>
                    <a:lnTo>
                      <a:pt x="348" y="320"/>
                    </a:lnTo>
                    <a:lnTo>
                      <a:pt x="348" y="315"/>
                    </a:lnTo>
                    <a:lnTo>
                      <a:pt x="352" y="311"/>
                    </a:lnTo>
                    <a:lnTo>
                      <a:pt x="357" y="311"/>
                    </a:lnTo>
                    <a:lnTo>
                      <a:pt x="357" y="306"/>
                    </a:lnTo>
                    <a:lnTo>
                      <a:pt x="357" y="297"/>
                    </a:lnTo>
                    <a:lnTo>
                      <a:pt x="348" y="297"/>
                    </a:lnTo>
                    <a:lnTo>
                      <a:pt x="352" y="301"/>
                    </a:lnTo>
                    <a:lnTo>
                      <a:pt x="357" y="297"/>
                    </a:lnTo>
                    <a:lnTo>
                      <a:pt x="362" y="297"/>
                    </a:lnTo>
                    <a:lnTo>
                      <a:pt x="362" y="297"/>
                    </a:lnTo>
                    <a:lnTo>
                      <a:pt x="366" y="282"/>
                    </a:lnTo>
                    <a:lnTo>
                      <a:pt x="366" y="282"/>
                    </a:lnTo>
                    <a:lnTo>
                      <a:pt x="366" y="278"/>
                    </a:lnTo>
                    <a:lnTo>
                      <a:pt x="366" y="264"/>
                    </a:lnTo>
                    <a:lnTo>
                      <a:pt x="366" y="245"/>
                    </a:lnTo>
                    <a:lnTo>
                      <a:pt x="366" y="226"/>
                    </a:lnTo>
                    <a:lnTo>
                      <a:pt x="362" y="202"/>
                    </a:lnTo>
                    <a:lnTo>
                      <a:pt x="362" y="184"/>
                    </a:lnTo>
                    <a:lnTo>
                      <a:pt x="362" y="184"/>
                    </a:lnTo>
                    <a:lnTo>
                      <a:pt x="362" y="184"/>
                    </a:lnTo>
                    <a:lnTo>
                      <a:pt x="352" y="141"/>
                    </a:lnTo>
                    <a:lnTo>
                      <a:pt x="343" y="99"/>
                    </a:lnTo>
                    <a:lnTo>
                      <a:pt x="329" y="66"/>
                    </a:lnTo>
                    <a:lnTo>
                      <a:pt x="319" y="66"/>
                    </a:lnTo>
                    <a:lnTo>
                      <a:pt x="329" y="66"/>
                    </a:lnTo>
                    <a:lnTo>
                      <a:pt x="324" y="38"/>
                    </a:lnTo>
                    <a:lnTo>
                      <a:pt x="315" y="38"/>
                    </a:lnTo>
                    <a:lnTo>
                      <a:pt x="315" y="47"/>
                    </a:lnTo>
                    <a:lnTo>
                      <a:pt x="338" y="43"/>
                    </a:lnTo>
                    <a:lnTo>
                      <a:pt x="371" y="38"/>
                    </a:lnTo>
                    <a:lnTo>
                      <a:pt x="409" y="33"/>
                    </a:lnTo>
                    <a:lnTo>
                      <a:pt x="451" y="33"/>
                    </a:lnTo>
                    <a:lnTo>
                      <a:pt x="489" y="29"/>
                    </a:lnTo>
                    <a:lnTo>
                      <a:pt x="526" y="29"/>
                    </a:lnTo>
                    <a:lnTo>
                      <a:pt x="559" y="33"/>
                    </a:lnTo>
                    <a:lnTo>
                      <a:pt x="583" y="33"/>
                    </a:lnTo>
                    <a:lnTo>
                      <a:pt x="606" y="38"/>
                    </a:lnTo>
                    <a:lnTo>
                      <a:pt x="606" y="29"/>
                    </a:lnTo>
                    <a:lnTo>
                      <a:pt x="606" y="38"/>
                    </a:lnTo>
                    <a:lnTo>
                      <a:pt x="625" y="47"/>
                    </a:lnTo>
                    <a:lnTo>
                      <a:pt x="639" y="52"/>
                    </a:lnTo>
                    <a:lnTo>
                      <a:pt x="653" y="61"/>
                    </a:lnTo>
                    <a:lnTo>
                      <a:pt x="667" y="66"/>
                    </a:lnTo>
                    <a:lnTo>
                      <a:pt x="667" y="57"/>
                    </a:lnTo>
                    <a:lnTo>
                      <a:pt x="663" y="61"/>
                    </a:lnTo>
                    <a:lnTo>
                      <a:pt x="672" y="71"/>
                    </a:lnTo>
                    <a:lnTo>
                      <a:pt x="677" y="66"/>
                    </a:lnTo>
                    <a:lnTo>
                      <a:pt x="672" y="71"/>
                    </a:lnTo>
                    <a:lnTo>
                      <a:pt x="677" y="80"/>
                    </a:lnTo>
                    <a:lnTo>
                      <a:pt x="682" y="90"/>
                    </a:lnTo>
                    <a:lnTo>
                      <a:pt x="686" y="99"/>
                    </a:lnTo>
                    <a:lnTo>
                      <a:pt x="691" y="94"/>
                    </a:lnTo>
                    <a:lnTo>
                      <a:pt x="686" y="94"/>
                    </a:lnTo>
                    <a:lnTo>
                      <a:pt x="686" y="104"/>
                    </a:lnTo>
                    <a:lnTo>
                      <a:pt x="686" y="113"/>
                    </a:lnTo>
                    <a:lnTo>
                      <a:pt x="691" y="113"/>
                    </a:lnTo>
                    <a:lnTo>
                      <a:pt x="686" y="113"/>
                    </a:lnTo>
                    <a:lnTo>
                      <a:pt x="682" y="123"/>
                    </a:lnTo>
                    <a:lnTo>
                      <a:pt x="677" y="132"/>
                    </a:lnTo>
                    <a:lnTo>
                      <a:pt x="672" y="141"/>
                    </a:lnTo>
                    <a:lnTo>
                      <a:pt x="667" y="151"/>
                    </a:lnTo>
                    <a:lnTo>
                      <a:pt x="672" y="151"/>
                    </a:lnTo>
                    <a:lnTo>
                      <a:pt x="667" y="146"/>
                    </a:lnTo>
                    <a:lnTo>
                      <a:pt x="658" y="155"/>
                    </a:lnTo>
                    <a:lnTo>
                      <a:pt x="649" y="165"/>
                    </a:lnTo>
                    <a:lnTo>
                      <a:pt x="649" y="170"/>
                    </a:lnTo>
                    <a:lnTo>
                      <a:pt x="649" y="170"/>
                    </a:lnTo>
                    <a:lnTo>
                      <a:pt x="644" y="184"/>
                    </a:lnTo>
                    <a:lnTo>
                      <a:pt x="649" y="184"/>
                    </a:lnTo>
                    <a:lnTo>
                      <a:pt x="644" y="179"/>
                    </a:lnTo>
                    <a:lnTo>
                      <a:pt x="635" y="188"/>
                    </a:lnTo>
                    <a:lnTo>
                      <a:pt x="635" y="193"/>
                    </a:lnTo>
                    <a:lnTo>
                      <a:pt x="635" y="193"/>
                    </a:lnTo>
                    <a:lnTo>
                      <a:pt x="635" y="212"/>
                    </a:lnTo>
                    <a:lnTo>
                      <a:pt x="639" y="212"/>
                    </a:lnTo>
                    <a:lnTo>
                      <a:pt x="635" y="212"/>
                    </a:lnTo>
                    <a:lnTo>
                      <a:pt x="630" y="226"/>
                    </a:lnTo>
                    <a:lnTo>
                      <a:pt x="625" y="226"/>
                    </a:lnTo>
                    <a:lnTo>
                      <a:pt x="630" y="231"/>
                    </a:lnTo>
                    <a:lnTo>
                      <a:pt x="635" y="245"/>
                    </a:lnTo>
                    <a:lnTo>
                      <a:pt x="639" y="240"/>
                    </a:lnTo>
                    <a:lnTo>
                      <a:pt x="635" y="240"/>
                    </a:lnTo>
                    <a:lnTo>
                      <a:pt x="635" y="259"/>
                    </a:lnTo>
                    <a:lnTo>
                      <a:pt x="635" y="264"/>
                    </a:lnTo>
                    <a:lnTo>
                      <a:pt x="635" y="264"/>
                    </a:lnTo>
                    <a:lnTo>
                      <a:pt x="639" y="278"/>
                    </a:lnTo>
                    <a:lnTo>
                      <a:pt x="644" y="292"/>
                    </a:lnTo>
                    <a:lnTo>
                      <a:pt x="653" y="306"/>
                    </a:lnTo>
                    <a:lnTo>
                      <a:pt x="653" y="306"/>
                    </a:lnTo>
                    <a:lnTo>
                      <a:pt x="653" y="306"/>
                    </a:lnTo>
                    <a:lnTo>
                      <a:pt x="663" y="315"/>
                    </a:lnTo>
                    <a:lnTo>
                      <a:pt x="667" y="320"/>
                    </a:lnTo>
                    <a:lnTo>
                      <a:pt x="667" y="320"/>
                    </a:lnTo>
                    <a:lnTo>
                      <a:pt x="682" y="329"/>
                    </a:lnTo>
                    <a:lnTo>
                      <a:pt x="691" y="334"/>
                    </a:lnTo>
                    <a:lnTo>
                      <a:pt x="691" y="325"/>
                    </a:lnTo>
                    <a:lnTo>
                      <a:pt x="686" y="329"/>
                    </a:lnTo>
                    <a:lnTo>
                      <a:pt x="691" y="334"/>
                    </a:lnTo>
                    <a:lnTo>
                      <a:pt x="696" y="339"/>
                    </a:lnTo>
                    <a:lnTo>
                      <a:pt x="696" y="339"/>
                    </a:lnTo>
                    <a:lnTo>
                      <a:pt x="705" y="344"/>
                    </a:lnTo>
                    <a:lnTo>
                      <a:pt x="714" y="348"/>
                    </a:lnTo>
                    <a:lnTo>
                      <a:pt x="714" y="348"/>
                    </a:lnTo>
                    <a:lnTo>
                      <a:pt x="714" y="348"/>
                    </a:lnTo>
                    <a:lnTo>
                      <a:pt x="724" y="348"/>
                    </a:lnTo>
                    <a:lnTo>
                      <a:pt x="724" y="339"/>
                    </a:lnTo>
                    <a:lnTo>
                      <a:pt x="724" y="348"/>
                    </a:lnTo>
                    <a:lnTo>
                      <a:pt x="733" y="353"/>
                    </a:lnTo>
                    <a:lnTo>
                      <a:pt x="733" y="353"/>
                    </a:lnTo>
                    <a:lnTo>
                      <a:pt x="733" y="353"/>
                    </a:lnTo>
                    <a:lnTo>
                      <a:pt x="743" y="353"/>
                    </a:lnTo>
                    <a:lnTo>
                      <a:pt x="752" y="353"/>
                    </a:lnTo>
                    <a:lnTo>
                      <a:pt x="771" y="348"/>
                    </a:lnTo>
                    <a:lnTo>
                      <a:pt x="790" y="344"/>
                    </a:lnTo>
                    <a:lnTo>
                      <a:pt x="809" y="339"/>
                    </a:lnTo>
                    <a:lnTo>
                      <a:pt x="813" y="334"/>
                    </a:lnTo>
                    <a:lnTo>
                      <a:pt x="813" y="339"/>
                    </a:lnTo>
                    <a:lnTo>
                      <a:pt x="827" y="329"/>
                    </a:lnTo>
                    <a:lnTo>
                      <a:pt x="841" y="320"/>
                    </a:lnTo>
                    <a:lnTo>
                      <a:pt x="841" y="320"/>
                    </a:lnTo>
                    <a:lnTo>
                      <a:pt x="841" y="315"/>
                    </a:lnTo>
                    <a:lnTo>
                      <a:pt x="851" y="306"/>
                    </a:lnTo>
                    <a:lnTo>
                      <a:pt x="856" y="306"/>
                    </a:lnTo>
                    <a:lnTo>
                      <a:pt x="856" y="306"/>
                    </a:lnTo>
                    <a:lnTo>
                      <a:pt x="865" y="292"/>
                    </a:lnTo>
                    <a:lnTo>
                      <a:pt x="870" y="278"/>
                    </a:lnTo>
                    <a:lnTo>
                      <a:pt x="860" y="273"/>
                    </a:lnTo>
                    <a:lnTo>
                      <a:pt x="865" y="278"/>
                    </a:lnTo>
                    <a:lnTo>
                      <a:pt x="874" y="268"/>
                    </a:lnTo>
                    <a:lnTo>
                      <a:pt x="879" y="268"/>
                    </a:lnTo>
                    <a:lnTo>
                      <a:pt x="879" y="264"/>
                    </a:lnTo>
                    <a:lnTo>
                      <a:pt x="879" y="249"/>
                    </a:lnTo>
                    <a:lnTo>
                      <a:pt x="879" y="235"/>
                    </a:lnTo>
                    <a:lnTo>
                      <a:pt x="879" y="217"/>
                    </a:lnTo>
                    <a:lnTo>
                      <a:pt x="879" y="217"/>
                    </a:lnTo>
                    <a:lnTo>
                      <a:pt x="879" y="217"/>
                    </a:lnTo>
                    <a:lnTo>
                      <a:pt x="874" y="207"/>
                    </a:lnTo>
                    <a:lnTo>
                      <a:pt x="865" y="188"/>
                    </a:lnTo>
                    <a:lnTo>
                      <a:pt x="860" y="174"/>
                    </a:lnTo>
                    <a:lnTo>
                      <a:pt x="856" y="170"/>
                    </a:lnTo>
                    <a:lnTo>
                      <a:pt x="856" y="170"/>
                    </a:lnTo>
                    <a:lnTo>
                      <a:pt x="841" y="160"/>
                    </a:lnTo>
                    <a:lnTo>
                      <a:pt x="837" y="165"/>
                    </a:lnTo>
                    <a:lnTo>
                      <a:pt x="841" y="160"/>
                    </a:lnTo>
                    <a:lnTo>
                      <a:pt x="832" y="151"/>
                    </a:lnTo>
                    <a:lnTo>
                      <a:pt x="827" y="155"/>
                    </a:lnTo>
                    <a:lnTo>
                      <a:pt x="837" y="155"/>
                    </a:lnTo>
                    <a:lnTo>
                      <a:pt x="827" y="141"/>
                    </a:lnTo>
                    <a:lnTo>
                      <a:pt x="823" y="127"/>
                    </a:lnTo>
                    <a:lnTo>
                      <a:pt x="818" y="113"/>
                    </a:lnTo>
                    <a:lnTo>
                      <a:pt x="813" y="104"/>
                    </a:lnTo>
                    <a:lnTo>
                      <a:pt x="804" y="104"/>
                    </a:lnTo>
                    <a:lnTo>
                      <a:pt x="813" y="104"/>
                    </a:lnTo>
                    <a:lnTo>
                      <a:pt x="813" y="90"/>
                    </a:lnTo>
                    <a:lnTo>
                      <a:pt x="813" y="76"/>
                    </a:lnTo>
                    <a:lnTo>
                      <a:pt x="804" y="76"/>
                    </a:lnTo>
                    <a:lnTo>
                      <a:pt x="813" y="80"/>
                    </a:lnTo>
                    <a:lnTo>
                      <a:pt x="818" y="66"/>
                    </a:lnTo>
                    <a:lnTo>
                      <a:pt x="823" y="57"/>
                    </a:lnTo>
                    <a:lnTo>
                      <a:pt x="823" y="57"/>
                    </a:lnTo>
                    <a:lnTo>
                      <a:pt x="823" y="52"/>
                    </a:lnTo>
                    <a:lnTo>
                      <a:pt x="823" y="38"/>
                    </a:lnTo>
                    <a:lnTo>
                      <a:pt x="813" y="38"/>
                    </a:lnTo>
                    <a:lnTo>
                      <a:pt x="818" y="43"/>
                    </a:lnTo>
                    <a:lnTo>
                      <a:pt x="827" y="33"/>
                    </a:lnTo>
                    <a:lnTo>
                      <a:pt x="832" y="29"/>
                    </a:lnTo>
                    <a:lnTo>
                      <a:pt x="841" y="19"/>
                    </a:lnTo>
                    <a:lnTo>
                      <a:pt x="837" y="14"/>
                    </a:lnTo>
                    <a:lnTo>
                      <a:pt x="841" y="24"/>
                    </a:lnTo>
                    <a:lnTo>
                      <a:pt x="851" y="19"/>
                    </a:lnTo>
                    <a:lnTo>
                      <a:pt x="851" y="19"/>
                    </a:lnTo>
                    <a:lnTo>
                      <a:pt x="851" y="14"/>
                    </a:lnTo>
                    <a:lnTo>
                      <a:pt x="856" y="10"/>
                    </a:lnTo>
                    <a:lnTo>
                      <a:pt x="851" y="5"/>
                    </a:lnTo>
                    <a:lnTo>
                      <a:pt x="851" y="14"/>
                    </a:lnTo>
                    <a:lnTo>
                      <a:pt x="860" y="14"/>
                    </a:lnTo>
                    <a:lnTo>
                      <a:pt x="874" y="14"/>
                    </a:lnTo>
                    <a:lnTo>
                      <a:pt x="893" y="19"/>
                    </a:lnTo>
                    <a:lnTo>
                      <a:pt x="921" y="19"/>
                    </a:lnTo>
                    <a:lnTo>
                      <a:pt x="954" y="24"/>
                    </a:lnTo>
                    <a:lnTo>
                      <a:pt x="987" y="29"/>
                    </a:lnTo>
                    <a:lnTo>
                      <a:pt x="1025" y="29"/>
                    </a:lnTo>
                    <a:lnTo>
                      <a:pt x="1067" y="33"/>
                    </a:lnTo>
                    <a:lnTo>
                      <a:pt x="1109" y="33"/>
                    </a:lnTo>
                    <a:lnTo>
                      <a:pt x="1114" y="33"/>
                    </a:lnTo>
                    <a:lnTo>
                      <a:pt x="1114" y="24"/>
                    </a:lnTo>
                    <a:lnTo>
                      <a:pt x="1109" y="24"/>
                    </a:lnTo>
                    <a:lnTo>
                      <a:pt x="1105" y="52"/>
                    </a:lnTo>
                    <a:lnTo>
                      <a:pt x="1100" y="80"/>
                    </a:lnTo>
                    <a:lnTo>
                      <a:pt x="1095" y="118"/>
                    </a:lnTo>
                    <a:lnTo>
                      <a:pt x="1091" y="155"/>
                    </a:lnTo>
                    <a:lnTo>
                      <a:pt x="1086" y="193"/>
                    </a:lnTo>
                    <a:lnTo>
                      <a:pt x="1086" y="226"/>
                    </a:lnTo>
                    <a:lnTo>
                      <a:pt x="1086" y="254"/>
                    </a:lnTo>
                    <a:lnTo>
                      <a:pt x="1086" y="268"/>
                    </a:lnTo>
                    <a:lnTo>
                      <a:pt x="1086" y="273"/>
                    </a:lnTo>
                    <a:lnTo>
                      <a:pt x="1086" y="273"/>
                    </a:lnTo>
                    <a:lnTo>
                      <a:pt x="1091" y="282"/>
                    </a:lnTo>
                    <a:lnTo>
                      <a:pt x="1095" y="278"/>
                    </a:lnTo>
                    <a:lnTo>
                      <a:pt x="1091" y="278"/>
                    </a:lnTo>
                    <a:lnTo>
                      <a:pt x="1091" y="287"/>
                    </a:lnTo>
                    <a:lnTo>
                      <a:pt x="1091" y="292"/>
                    </a:lnTo>
                    <a:lnTo>
                      <a:pt x="1091" y="292"/>
                    </a:lnTo>
                    <a:lnTo>
                      <a:pt x="1100" y="301"/>
                    </a:lnTo>
                    <a:lnTo>
                      <a:pt x="1105" y="306"/>
                    </a:lnTo>
                    <a:lnTo>
                      <a:pt x="1105" y="306"/>
                    </a:lnTo>
                    <a:lnTo>
                      <a:pt x="1114" y="311"/>
                    </a:lnTo>
                    <a:lnTo>
                      <a:pt x="1114" y="301"/>
                    </a:lnTo>
                    <a:lnTo>
                      <a:pt x="1109" y="306"/>
                    </a:lnTo>
                    <a:lnTo>
                      <a:pt x="1119" y="315"/>
                    </a:lnTo>
                    <a:lnTo>
                      <a:pt x="1124" y="320"/>
                    </a:lnTo>
                    <a:lnTo>
                      <a:pt x="1124" y="320"/>
                    </a:lnTo>
                    <a:lnTo>
                      <a:pt x="1133" y="320"/>
                    </a:lnTo>
                    <a:lnTo>
                      <a:pt x="1133" y="311"/>
                    </a:lnTo>
                    <a:lnTo>
                      <a:pt x="1133" y="320"/>
                    </a:lnTo>
                    <a:lnTo>
                      <a:pt x="1147" y="325"/>
                    </a:lnTo>
                    <a:lnTo>
                      <a:pt x="1161" y="329"/>
                    </a:lnTo>
                    <a:lnTo>
                      <a:pt x="1161" y="329"/>
                    </a:lnTo>
                    <a:lnTo>
                      <a:pt x="1161" y="329"/>
                    </a:lnTo>
                    <a:lnTo>
                      <a:pt x="1171" y="329"/>
                    </a:lnTo>
                    <a:lnTo>
                      <a:pt x="1185" y="329"/>
                    </a:lnTo>
                    <a:lnTo>
                      <a:pt x="1199" y="329"/>
                    </a:lnTo>
                    <a:lnTo>
                      <a:pt x="1213" y="329"/>
                    </a:lnTo>
                    <a:lnTo>
                      <a:pt x="1218" y="329"/>
                    </a:lnTo>
                    <a:lnTo>
                      <a:pt x="1218" y="329"/>
                    </a:lnTo>
                    <a:lnTo>
                      <a:pt x="1227" y="325"/>
                    </a:lnTo>
                    <a:lnTo>
                      <a:pt x="1241" y="320"/>
                    </a:lnTo>
                    <a:lnTo>
                      <a:pt x="1251" y="315"/>
                    </a:lnTo>
                    <a:lnTo>
                      <a:pt x="1251" y="315"/>
                    </a:lnTo>
                    <a:lnTo>
                      <a:pt x="1251" y="311"/>
                    </a:lnTo>
                    <a:lnTo>
                      <a:pt x="1260" y="301"/>
                    </a:lnTo>
                    <a:lnTo>
                      <a:pt x="1255" y="297"/>
                    </a:lnTo>
                    <a:lnTo>
                      <a:pt x="1260" y="306"/>
                    </a:lnTo>
                    <a:lnTo>
                      <a:pt x="1269" y="301"/>
                    </a:lnTo>
                    <a:lnTo>
                      <a:pt x="1279" y="297"/>
                    </a:lnTo>
                    <a:lnTo>
                      <a:pt x="1288" y="292"/>
                    </a:lnTo>
                    <a:lnTo>
                      <a:pt x="1302" y="287"/>
                    </a:lnTo>
                    <a:lnTo>
                      <a:pt x="1298" y="278"/>
                    </a:lnTo>
                    <a:lnTo>
                      <a:pt x="1298" y="287"/>
                    </a:lnTo>
                    <a:lnTo>
                      <a:pt x="1312" y="287"/>
                    </a:lnTo>
                    <a:lnTo>
                      <a:pt x="1326" y="287"/>
                    </a:lnTo>
                    <a:lnTo>
                      <a:pt x="1326" y="278"/>
                    </a:lnTo>
                    <a:lnTo>
                      <a:pt x="1326" y="287"/>
                    </a:lnTo>
                    <a:lnTo>
                      <a:pt x="1340" y="292"/>
                    </a:lnTo>
                    <a:lnTo>
                      <a:pt x="1354" y="297"/>
                    </a:lnTo>
                    <a:lnTo>
                      <a:pt x="1368" y="306"/>
                    </a:lnTo>
                    <a:lnTo>
                      <a:pt x="1377" y="311"/>
                    </a:lnTo>
                    <a:lnTo>
                      <a:pt x="1392" y="320"/>
                    </a:lnTo>
                    <a:lnTo>
                      <a:pt x="1392" y="311"/>
                    </a:lnTo>
                    <a:lnTo>
                      <a:pt x="1387" y="315"/>
                    </a:lnTo>
                    <a:lnTo>
                      <a:pt x="1396" y="329"/>
                    </a:lnTo>
                    <a:lnTo>
                      <a:pt x="1401" y="344"/>
                    </a:lnTo>
                    <a:lnTo>
                      <a:pt x="1410" y="358"/>
                    </a:lnTo>
                    <a:lnTo>
                      <a:pt x="1415" y="353"/>
                    </a:lnTo>
                    <a:lnTo>
                      <a:pt x="1410" y="353"/>
                    </a:lnTo>
                    <a:lnTo>
                      <a:pt x="1410" y="372"/>
                    </a:lnTo>
                    <a:lnTo>
                      <a:pt x="1410" y="376"/>
                    </a:lnTo>
                    <a:lnTo>
                      <a:pt x="1410" y="376"/>
                    </a:lnTo>
                    <a:lnTo>
                      <a:pt x="1415" y="395"/>
                    </a:lnTo>
                    <a:lnTo>
                      <a:pt x="1420" y="391"/>
                    </a:lnTo>
                    <a:lnTo>
                      <a:pt x="1415" y="391"/>
                    </a:lnTo>
                    <a:lnTo>
                      <a:pt x="1410" y="400"/>
                    </a:lnTo>
                    <a:lnTo>
                      <a:pt x="1410" y="400"/>
                    </a:lnTo>
                    <a:lnTo>
                      <a:pt x="1410" y="400"/>
                    </a:lnTo>
                    <a:lnTo>
                      <a:pt x="1410" y="414"/>
                    </a:lnTo>
                    <a:lnTo>
                      <a:pt x="1415" y="414"/>
                    </a:lnTo>
                    <a:lnTo>
                      <a:pt x="1410" y="414"/>
                    </a:lnTo>
                    <a:lnTo>
                      <a:pt x="1401" y="428"/>
                    </a:lnTo>
                    <a:lnTo>
                      <a:pt x="1396" y="438"/>
                    </a:lnTo>
                    <a:lnTo>
                      <a:pt x="1401" y="438"/>
                    </a:lnTo>
                    <a:lnTo>
                      <a:pt x="1396" y="433"/>
                    </a:lnTo>
                    <a:lnTo>
                      <a:pt x="1387" y="442"/>
                    </a:lnTo>
                    <a:lnTo>
                      <a:pt x="1392" y="447"/>
                    </a:lnTo>
                    <a:lnTo>
                      <a:pt x="1392" y="442"/>
                    </a:lnTo>
                    <a:lnTo>
                      <a:pt x="1377" y="447"/>
                    </a:lnTo>
                    <a:lnTo>
                      <a:pt x="1377" y="447"/>
                    </a:lnTo>
                    <a:lnTo>
                      <a:pt x="1373" y="447"/>
                    </a:lnTo>
                    <a:lnTo>
                      <a:pt x="1363" y="456"/>
                    </a:lnTo>
                    <a:lnTo>
                      <a:pt x="1368" y="461"/>
                    </a:lnTo>
                    <a:lnTo>
                      <a:pt x="1368" y="456"/>
                    </a:lnTo>
                    <a:lnTo>
                      <a:pt x="1354" y="461"/>
                    </a:lnTo>
                    <a:lnTo>
                      <a:pt x="1340" y="466"/>
                    </a:lnTo>
                    <a:lnTo>
                      <a:pt x="1326" y="470"/>
                    </a:lnTo>
                    <a:lnTo>
                      <a:pt x="1326" y="475"/>
                    </a:lnTo>
                    <a:lnTo>
                      <a:pt x="1326" y="470"/>
                    </a:lnTo>
                    <a:lnTo>
                      <a:pt x="1312" y="470"/>
                    </a:lnTo>
                    <a:lnTo>
                      <a:pt x="1298" y="470"/>
                    </a:lnTo>
                    <a:lnTo>
                      <a:pt x="1298" y="475"/>
                    </a:lnTo>
                    <a:lnTo>
                      <a:pt x="1302" y="470"/>
                    </a:lnTo>
                    <a:lnTo>
                      <a:pt x="1288" y="466"/>
                    </a:lnTo>
                    <a:lnTo>
                      <a:pt x="1283" y="470"/>
                    </a:lnTo>
                    <a:lnTo>
                      <a:pt x="1288" y="466"/>
                    </a:lnTo>
                    <a:lnTo>
                      <a:pt x="1279" y="456"/>
                    </a:lnTo>
                    <a:lnTo>
                      <a:pt x="1279" y="456"/>
                    </a:lnTo>
                    <a:lnTo>
                      <a:pt x="1279" y="456"/>
                    </a:lnTo>
                    <a:lnTo>
                      <a:pt x="1269" y="452"/>
                    </a:lnTo>
                    <a:lnTo>
                      <a:pt x="1265" y="456"/>
                    </a:lnTo>
                    <a:lnTo>
                      <a:pt x="1269" y="452"/>
                    </a:lnTo>
                    <a:lnTo>
                      <a:pt x="1260" y="442"/>
                    </a:lnTo>
                    <a:lnTo>
                      <a:pt x="1251" y="433"/>
                    </a:lnTo>
                    <a:lnTo>
                      <a:pt x="1251" y="433"/>
                    </a:lnTo>
                    <a:lnTo>
                      <a:pt x="1251" y="433"/>
                    </a:lnTo>
                    <a:lnTo>
                      <a:pt x="1241" y="428"/>
                    </a:lnTo>
                    <a:lnTo>
                      <a:pt x="1236" y="433"/>
                    </a:lnTo>
                    <a:lnTo>
                      <a:pt x="1241" y="428"/>
                    </a:lnTo>
                    <a:lnTo>
                      <a:pt x="1232" y="419"/>
                    </a:lnTo>
                    <a:lnTo>
                      <a:pt x="1232" y="419"/>
                    </a:lnTo>
                    <a:lnTo>
                      <a:pt x="1227" y="419"/>
                    </a:lnTo>
                    <a:lnTo>
                      <a:pt x="1218" y="419"/>
                    </a:lnTo>
                    <a:lnTo>
                      <a:pt x="1218" y="423"/>
                    </a:lnTo>
                    <a:lnTo>
                      <a:pt x="1222" y="419"/>
                    </a:lnTo>
                    <a:lnTo>
                      <a:pt x="1208" y="414"/>
                    </a:lnTo>
                    <a:lnTo>
                      <a:pt x="1208" y="414"/>
                    </a:lnTo>
                    <a:lnTo>
                      <a:pt x="1203" y="414"/>
                    </a:lnTo>
                    <a:lnTo>
                      <a:pt x="1194" y="414"/>
                    </a:lnTo>
                    <a:lnTo>
                      <a:pt x="1194" y="414"/>
                    </a:lnTo>
                    <a:lnTo>
                      <a:pt x="1194" y="414"/>
                    </a:lnTo>
                    <a:lnTo>
                      <a:pt x="1180" y="419"/>
                    </a:lnTo>
                    <a:lnTo>
                      <a:pt x="1180" y="423"/>
                    </a:lnTo>
                    <a:lnTo>
                      <a:pt x="1180" y="419"/>
                    </a:lnTo>
                    <a:lnTo>
                      <a:pt x="1171" y="419"/>
                    </a:lnTo>
                    <a:lnTo>
                      <a:pt x="1171" y="419"/>
                    </a:lnTo>
                    <a:lnTo>
                      <a:pt x="1171" y="419"/>
                    </a:lnTo>
                    <a:lnTo>
                      <a:pt x="1161" y="423"/>
                    </a:lnTo>
                    <a:lnTo>
                      <a:pt x="1147" y="428"/>
                    </a:lnTo>
                    <a:lnTo>
                      <a:pt x="1147" y="428"/>
                    </a:lnTo>
                    <a:lnTo>
                      <a:pt x="1142" y="428"/>
                    </a:lnTo>
                    <a:lnTo>
                      <a:pt x="1133" y="438"/>
                    </a:lnTo>
                    <a:lnTo>
                      <a:pt x="1124" y="447"/>
                    </a:lnTo>
                    <a:lnTo>
                      <a:pt x="1128" y="452"/>
                    </a:lnTo>
                    <a:lnTo>
                      <a:pt x="1128" y="447"/>
                    </a:lnTo>
                    <a:lnTo>
                      <a:pt x="1119" y="452"/>
                    </a:lnTo>
                    <a:lnTo>
                      <a:pt x="1119" y="452"/>
                    </a:lnTo>
                    <a:lnTo>
                      <a:pt x="1114" y="452"/>
                    </a:lnTo>
                    <a:lnTo>
                      <a:pt x="1105" y="461"/>
                    </a:lnTo>
                    <a:lnTo>
                      <a:pt x="1105" y="466"/>
                    </a:lnTo>
                    <a:lnTo>
                      <a:pt x="1105" y="466"/>
                    </a:lnTo>
                    <a:lnTo>
                      <a:pt x="1100" y="480"/>
                    </a:lnTo>
                    <a:lnTo>
                      <a:pt x="1095" y="489"/>
                    </a:lnTo>
                    <a:lnTo>
                      <a:pt x="1091" y="503"/>
                    </a:lnTo>
                    <a:lnTo>
                      <a:pt x="1091" y="503"/>
                    </a:lnTo>
                    <a:lnTo>
                      <a:pt x="1091" y="503"/>
                    </a:lnTo>
                    <a:lnTo>
                      <a:pt x="1091" y="517"/>
                    </a:lnTo>
                    <a:lnTo>
                      <a:pt x="1091" y="536"/>
                    </a:lnTo>
                    <a:lnTo>
                      <a:pt x="1091" y="555"/>
                    </a:lnTo>
                    <a:lnTo>
                      <a:pt x="1091" y="560"/>
                    </a:lnTo>
                    <a:lnTo>
                      <a:pt x="1091" y="560"/>
                    </a:lnTo>
                    <a:lnTo>
                      <a:pt x="1100" y="602"/>
                    </a:lnTo>
                    <a:lnTo>
                      <a:pt x="1109" y="644"/>
                    </a:lnTo>
                    <a:lnTo>
                      <a:pt x="1114" y="640"/>
                    </a:lnTo>
                    <a:lnTo>
                      <a:pt x="1109" y="640"/>
                    </a:lnTo>
                    <a:lnTo>
                      <a:pt x="1114" y="663"/>
                    </a:lnTo>
                    <a:lnTo>
                      <a:pt x="1114" y="677"/>
                    </a:lnTo>
                    <a:lnTo>
                      <a:pt x="1114" y="668"/>
                    </a:lnTo>
                    <a:lnTo>
                      <a:pt x="1119" y="687"/>
                    </a:lnTo>
                    <a:lnTo>
                      <a:pt x="1124" y="682"/>
                    </a:lnTo>
                    <a:lnTo>
                      <a:pt x="1119" y="682"/>
                    </a:lnTo>
                    <a:lnTo>
                      <a:pt x="1119" y="706"/>
                    </a:lnTo>
                    <a:lnTo>
                      <a:pt x="1119" y="729"/>
                    </a:lnTo>
                    <a:lnTo>
                      <a:pt x="1119" y="748"/>
                    </a:lnTo>
                    <a:lnTo>
                      <a:pt x="1119" y="767"/>
                    </a:lnTo>
                    <a:lnTo>
                      <a:pt x="1119" y="776"/>
                    </a:lnTo>
                    <a:lnTo>
                      <a:pt x="1124" y="776"/>
                    </a:lnTo>
                    <a:lnTo>
                      <a:pt x="1119" y="771"/>
                    </a:lnTo>
                    <a:lnTo>
                      <a:pt x="1114" y="776"/>
                    </a:lnTo>
                    <a:lnTo>
                      <a:pt x="1114" y="781"/>
                    </a:lnTo>
                    <a:lnTo>
                      <a:pt x="1114" y="781"/>
                    </a:lnTo>
                    <a:lnTo>
                      <a:pt x="1114" y="790"/>
                    </a:lnTo>
                    <a:lnTo>
                      <a:pt x="1119" y="790"/>
                    </a:lnTo>
                    <a:lnTo>
                      <a:pt x="1114" y="790"/>
                    </a:lnTo>
                    <a:lnTo>
                      <a:pt x="1109" y="800"/>
                    </a:lnTo>
                    <a:lnTo>
                      <a:pt x="1114" y="800"/>
                    </a:lnTo>
                    <a:lnTo>
                      <a:pt x="1114" y="795"/>
                    </a:lnTo>
                    <a:lnTo>
                      <a:pt x="1095" y="804"/>
                    </a:lnTo>
                    <a:lnTo>
                      <a:pt x="1081" y="814"/>
                    </a:lnTo>
                    <a:lnTo>
                      <a:pt x="1081" y="818"/>
                    </a:lnTo>
                    <a:lnTo>
                      <a:pt x="1081" y="814"/>
                    </a:lnTo>
                    <a:lnTo>
                      <a:pt x="1058" y="818"/>
                    </a:lnTo>
                    <a:lnTo>
                      <a:pt x="1034" y="823"/>
                    </a:lnTo>
                    <a:lnTo>
                      <a:pt x="1015" y="823"/>
                    </a:lnTo>
                    <a:lnTo>
                      <a:pt x="987" y="828"/>
                    </a:lnTo>
                    <a:lnTo>
                      <a:pt x="964" y="828"/>
                    </a:lnTo>
                    <a:lnTo>
                      <a:pt x="940" y="828"/>
                    </a:lnTo>
                    <a:lnTo>
                      <a:pt x="917" y="828"/>
                    </a:lnTo>
                    <a:lnTo>
                      <a:pt x="893" y="823"/>
                    </a:lnTo>
                    <a:lnTo>
                      <a:pt x="874" y="823"/>
                    </a:lnTo>
                    <a:lnTo>
                      <a:pt x="851" y="818"/>
                    </a:lnTo>
                    <a:lnTo>
                      <a:pt x="832" y="814"/>
                    </a:lnTo>
                    <a:lnTo>
                      <a:pt x="813" y="809"/>
                    </a:lnTo>
                    <a:lnTo>
                      <a:pt x="813" y="814"/>
                    </a:lnTo>
                    <a:lnTo>
                      <a:pt x="818" y="809"/>
                    </a:lnTo>
                    <a:lnTo>
                      <a:pt x="809" y="800"/>
                    </a:lnTo>
                    <a:lnTo>
                      <a:pt x="809" y="800"/>
                    </a:lnTo>
                    <a:lnTo>
                      <a:pt x="809" y="800"/>
                    </a:lnTo>
                    <a:lnTo>
                      <a:pt x="794" y="795"/>
                    </a:lnTo>
                    <a:lnTo>
                      <a:pt x="790" y="800"/>
                    </a:lnTo>
                    <a:lnTo>
                      <a:pt x="794" y="795"/>
                    </a:lnTo>
                    <a:lnTo>
                      <a:pt x="785" y="785"/>
                    </a:lnTo>
                    <a:lnTo>
                      <a:pt x="780" y="781"/>
                    </a:lnTo>
                    <a:lnTo>
                      <a:pt x="776" y="785"/>
                    </a:lnTo>
                    <a:lnTo>
                      <a:pt x="785" y="785"/>
                    </a:lnTo>
                    <a:lnTo>
                      <a:pt x="780" y="776"/>
                    </a:lnTo>
                    <a:lnTo>
                      <a:pt x="780" y="776"/>
                    </a:lnTo>
                    <a:lnTo>
                      <a:pt x="776" y="771"/>
                    </a:lnTo>
                    <a:lnTo>
                      <a:pt x="771" y="767"/>
                    </a:lnTo>
                    <a:lnTo>
                      <a:pt x="766" y="771"/>
                    </a:lnTo>
                    <a:lnTo>
                      <a:pt x="776" y="771"/>
                    </a:lnTo>
                    <a:lnTo>
                      <a:pt x="776" y="767"/>
                    </a:lnTo>
                    <a:lnTo>
                      <a:pt x="776" y="757"/>
                    </a:lnTo>
                    <a:lnTo>
                      <a:pt x="776" y="753"/>
                    </a:lnTo>
                    <a:lnTo>
                      <a:pt x="776" y="743"/>
                    </a:lnTo>
                    <a:lnTo>
                      <a:pt x="766" y="743"/>
                    </a:lnTo>
                    <a:lnTo>
                      <a:pt x="776" y="748"/>
                    </a:lnTo>
                    <a:lnTo>
                      <a:pt x="780" y="738"/>
                    </a:lnTo>
                    <a:lnTo>
                      <a:pt x="771" y="734"/>
                    </a:lnTo>
                    <a:lnTo>
                      <a:pt x="776" y="738"/>
                    </a:lnTo>
                    <a:lnTo>
                      <a:pt x="780" y="734"/>
                    </a:lnTo>
                    <a:lnTo>
                      <a:pt x="785" y="734"/>
                    </a:lnTo>
                    <a:lnTo>
                      <a:pt x="785" y="734"/>
                    </a:lnTo>
                    <a:lnTo>
                      <a:pt x="790" y="724"/>
                    </a:lnTo>
                    <a:lnTo>
                      <a:pt x="794" y="715"/>
                    </a:lnTo>
                    <a:lnTo>
                      <a:pt x="785" y="710"/>
                    </a:lnTo>
                    <a:lnTo>
                      <a:pt x="790" y="715"/>
                    </a:lnTo>
                    <a:lnTo>
                      <a:pt x="809" y="696"/>
                    </a:lnTo>
                    <a:lnTo>
                      <a:pt x="827" y="677"/>
                    </a:lnTo>
                    <a:lnTo>
                      <a:pt x="837" y="668"/>
                    </a:lnTo>
                    <a:lnTo>
                      <a:pt x="841" y="668"/>
                    </a:lnTo>
                    <a:lnTo>
                      <a:pt x="841" y="668"/>
                    </a:lnTo>
                    <a:lnTo>
                      <a:pt x="846" y="654"/>
                    </a:lnTo>
                    <a:lnTo>
                      <a:pt x="851" y="640"/>
                    </a:lnTo>
                    <a:lnTo>
                      <a:pt x="856" y="626"/>
                    </a:lnTo>
                    <a:lnTo>
                      <a:pt x="856" y="626"/>
                    </a:lnTo>
                    <a:lnTo>
                      <a:pt x="856" y="621"/>
                    </a:lnTo>
                    <a:lnTo>
                      <a:pt x="856" y="607"/>
                    </a:lnTo>
                    <a:lnTo>
                      <a:pt x="856" y="607"/>
                    </a:lnTo>
                    <a:lnTo>
                      <a:pt x="856" y="607"/>
                    </a:lnTo>
                    <a:lnTo>
                      <a:pt x="851" y="593"/>
                    </a:lnTo>
                    <a:lnTo>
                      <a:pt x="846" y="579"/>
                    </a:lnTo>
                    <a:lnTo>
                      <a:pt x="841" y="560"/>
                    </a:lnTo>
                    <a:lnTo>
                      <a:pt x="832" y="546"/>
                    </a:lnTo>
                    <a:lnTo>
                      <a:pt x="832" y="546"/>
                    </a:lnTo>
                    <a:lnTo>
                      <a:pt x="827" y="541"/>
                    </a:lnTo>
                    <a:lnTo>
                      <a:pt x="818" y="532"/>
                    </a:lnTo>
                    <a:lnTo>
                      <a:pt x="809" y="522"/>
                    </a:lnTo>
                    <a:lnTo>
                      <a:pt x="794" y="508"/>
                    </a:lnTo>
                    <a:lnTo>
                      <a:pt x="794" y="508"/>
                    </a:lnTo>
                    <a:lnTo>
                      <a:pt x="794" y="508"/>
                    </a:lnTo>
                    <a:lnTo>
                      <a:pt x="785" y="503"/>
                    </a:lnTo>
                    <a:lnTo>
                      <a:pt x="766" y="494"/>
                    </a:lnTo>
                    <a:lnTo>
                      <a:pt x="752" y="489"/>
                    </a:lnTo>
                    <a:lnTo>
                      <a:pt x="752" y="489"/>
                    </a:lnTo>
                    <a:lnTo>
                      <a:pt x="747" y="489"/>
                    </a:lnTo>
                    <a:lnTo>
                      <a:pt x="729" y="489"/>
                    </a:lnTo>
                    <a:lnTo>
                      <a:pt x="710" y="489"/>
                    </a:lnTo>
                    <a:lnTo>
                      <a:pt x="710" y="489"/>
                    </a:lnTo>
                    <a:lnTo>
                      <a:pt x="710" y="489"/>
                    </a:lnTo>
                    <a:lnTo>
                      <a:pt x="696" y="494"/>
                    </a:lnTo>
                    <a:lnTo>
                      <a:pt x="677" y="503"/>
                    </a:lnTo>
                    <a:lnTo>
                      <a:pt x="663" y="508"/>
                    </a:lnTo>
                    <a:lnTo>
                      <a:pt x="649" y="517"/>
                    </a:lnTo>
                    <a:lnTo>
                      <a:pt x="649" y="517"/>
                    </a:lnTo>
                    <a:lnTo>
                      <a:pt x="644" y="517"/>
                    </a:lnTo>
                    <a:lnTo>
                      <a:pt x="630" y="532"/>
                    </a:lnTo>
                    <a:lnTo>
                      <a:pt x="620" y="541"/>
                    </a:lnTo>
                    <a:lnTo>
                      <a:pt x="620" y="546"/>
                    </a:lnTo>
                    <a:lnTo>
                      <a:pt x="620" y="546"/>
                    </a:lnTo>
                    <a:lnTo>
                      <a:pt x="611" y="560"/>
                    </a:lnTo>
                    <a:lnTo>
                      <a:pt x="602" y="574"/>
                    </a:lnTo>
                    <a:lnTo>
                      <a:pt x="597" y="588"/>
                    </a:lnTo>
                    <a:lnTo>
                      <a:pt x="592" y="607"/>
                    </a:lnTo>
                    <a:lnTo>
                      <a:pt x="592" y="607"/>
                    </a:lnTo>
                    <a:lnTo>
                      <a:pt x="592" y="607"/>
                    </a:lnTo>
                    <a:lnTo>
                      <a:pt x="592" y="621"/>
                    </a:lnTo>
                    <a:lnTo>
                      <a:pt x="592" y="626"/>
                    </a:lnTo>
                    <a:lnTo>
                      <a:pt x="592" y="626"/>
                    </a:lnTo>
                    <a:lnTo>
                      <a:pt x="597" y="640"/>
                    </a:lnTo>
                    <a:lnTo>
                      <a:pt x="602" y="654"/>
                    </a:lnTo>
                    <a:lnTo>
                      <a:pt x="606" y="663"/>
                    </a:lnTo>
                    <a:lnTo>
                      <a:pt x="611" y="659"/>
                    </a:lnTo>
                    <a:lnTo>
                      <a:pt x="606" y="659"/>
                    </a:lnTo>
                    <a:lnTo>
                      <a:pt x="606" y="663"/>
                    </a:lnTo>
                    <a:lnTo>
                      <a:pt x="606" y="668"/>
                    </a:lnTo>
                    <a:lnTo>
                      <a:pt x="606" y="668"/>
                    </a:lnTo>
                    <a:lnTo>
                      <a:pt x="611" y="677"/>
                    </a:lnTo>
                    <a:lnTo>
                      <a:pt x="611" y="677"/>
                    </a:lnTo>
                    <a:lnTo>
                      <a:pt x="616" y="682"/>
                    </a:lnTo>
                    <a:lnTo>
                      <a:pt x="625" y="687"/>
                    </a:lnTo>
                    <a:lnTo>
                      <a:pt x="625" y="677"/>
                    </a:lnTo>
                    <a:lnTo>
                      <a:pt x="620" y="682"/>
                    </a:lnTo>
                    <a:lnTo>
                      <a:pt x="630" y="696"/>
                    </a:lnTo>
                    <a:lnTo>
                      <a:pt x="630" y="696"/>
                    </a:lnTo>
                    <a:lnTo>
                      <a:pt x="630" y="696"/>
                    </a:lnTo>
                    <a:lnTo>
                      <a:pt x="639" y="706"/>
                    </a:lnTo>
                    <a:lnTo>
                      <a:pt x="644" y="701"/>
                    </a:lnTo>
                    <a:lnTo>
                      <a:pt x="639" y="706"/>
                    </a:lnTo>
                    <a:lnTo>
                      <a:pt x="644" y="720"/>
                    </a:lnTo>
                    <a:lnTo>
                      <a:pt x="644" y="720"/>
                    </a:lnTo>
                    <a:lnTo>
                      <a:pt x="644" y="720"/>
                    </a:lnTo>
                    <a:lnTo>
                      <a:pt x="653" y="729"/>
                    </a:lnTo>
                    <a:lnTo>
                      <a:pt x="658" y="724"/>
                    </a:lnTo>
                    <a:lnTo>
                      <a:pt x="653" y="729"/>
                    </a:lnTo>
                    <a:lnTo>
                      <a:pt x="658" y="738"/>
                    </a:lnTo>
                    <a:lnTo>
                      <a:pt x="663" y="734"/>
                    </a:lnTo>
                    <a:lnTo>
                      <a:pt x="658" y="734"/>
                    </a:lnTo>
                    <a:lnTo>
                      <a:pt x="658" y="743"/>
                    </a:lnTo>
                    <a:lnTo>
                      <a:pt x="658" y="748"/>
                    </a:lnTo>
                    <a:lnTo>
                      <a:pt x="658" y="748"/>
                    </a:lnTo>
                    <a:lnTo>
                      <a:pt x="663" y="757"/>
                    </a:lnTo>
                    <a:lnTo>
                      <a:pt x="667" y="753"/>
                    </a:lnTo>
                    <a:lnTo>
                      <a:pt x="663" y="753"/>
                    </a:lnTo>
                    <a:lnTo>
                      <a:pt x="663" y="762"/>
                    </a:lnTo>
                    <a:lnTo>
                      <a:pt x="667" y="762"/>
                    </a:lnTo>
                    <a:lnTo>
                      <a:pt x="663" y="762"/>
                    </a:lnTo>
                    <a:lnTo>
                      <a:pt x="658" y="771"/>
                    </a:lnTo>
                    <a:lnTo>
                      <a:pt x="658" y="771"/>
                    </a:lnTo>
                    <a:lnTo>
                      <a:pt x="658" y="771"/>
                    </a:lnTo>
                    <a:lnTo>
                      <a:pt x="658" y="776"/>
                    </a:lnTo>
                    <a:lnTo>
                      <a:pt x="663" y="776"/>
                    </a:lnTo>
                    <a:lnTo>
                      <a:pt x="658" y="771"/>
                    </a:lnTo>
                    <a:lnTo>
                      <a:pt x="653" y="776"/>
                    </a:lnTo>
                    <a:lnTo>
                      <a:pt x="653" y="781"/>
                    </a:lnTo>
                    <a:lnTo>
                      <a:pt x="653" y="781"/>
                    </a:lnTo>
                    <a:lnTo>
                      <a:pt x="649" y="790"/>
                    </a:lnTo>
                    <a:lnTo>
                      <a:pt x="653" y="790"/>
                    </a:lnTo>
                    <a:lnTo>
                      <a:pt x="653" y="785"/>
                    </a:lnTo>
                    <a:lnTo>
                      <a:pt x="644" y="790"/>
                    </a:lnTo>
                    <a:lnTo>
                      <a:pt x="644" y="795"/>
                    </a:lnTo>
                    <a:lnTo>
                      <a:pt x="644" y="790"/>
                    </a:lnTo>
                    <a:lnTo>
                      <a:pt x="639" y="790"/>
                    </a:lnTo>
                    <a:lnTo>
                      <a:pt x="639" y="790"/>
                    </a:lnTo>
                    <a:lnTo>
                      <a:pt x="639" y="790"/>
                    </a:lnTo>
                    <a:lnTo>
                      <a:pt x="625" y="795"/>
                    </a:lnTo>
                    <a:lnTo>
                      <a:pt x="625" y="800"/>
                    </a:lnTo>
                    <a:lnTo>
                      <a:pt x="625" y="795"/>
                    </a:lnTo>
                    <a:lnTo>
                      <a:pt x="616" y="7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-2016000" y="4724280"/>
              <a:ext cx="151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JUST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9144000" y="5634000"/>
            <a:ext cx="1799640" cy="2447640"/>
            <a:chOff x="9144000" y="5634000"/>
            <a:chExt cx="1799640" cy="2447640"/>
          </a:xfrm>
        </p:grpSpPr>
        <p:grpSp>
          <p:nvGrpSpPr>
            <p:cNvPr id="205" name=""/>
            <p:cNvGrpSpPr/>
            <p:nvPr/>
          </p:nvGrpSpPr>
          <p:grpSpPr>
            <a:xfrm>
              <a:off x="9144000" y="5634000"/>
              <a:ext cx="1799640" cy="2447640"/>
              <a:chOff x="9144000" y="5634000"/>
              <a:chExt cx="1799640" cy="2447640"/>
            </a:xfrm>
          </p:grpSpPr>
          <p:sp>
            <p:nvSpPr>
              <p:cNvPr id="206" name=""/>
              <p:cNvSpPr/>
              <p:nvPr/>
            </p:nvSpPr>
            <p:spPr>
              <a:xfrm>
                <a:off x="9154080" y="5642280"/>
                <a:ext cx="1770840" cy="2418840"/>
              </a:xfrm>
              <a:custGeom>
                <a:avLst/>
                <a:gdLst/>
                <a:ahLst/>
                <a:rect l="l" t="t" r="r" b="b"/>
                <a:pathLst>
                  <a:path w="865" h="1185">
                    <a:moveTo>
                      <a:pt x="263" y="1143"/>
                    </a:moveTo>
                    <a:lnTo>
                      <a:pt x="282" y="1148"/>
                    </a:lnTo>
                    <a:lnTo>
                      <a:pt x="296" y="1152"/>
                    </a:lnTo>
                    <a:lnTo>
                      <a:pt x="315" y="1152"/>
                    </a:lnTo>
                    <a:lnTo>
                      <a:pt x="329" y="1152"/>
                    </a:lnTo>
                    <a:lnTo>
                      <a:pt x="338" y="1152"/>
                    </a:lnTo>
                    <a:lnTo>
                      <a:pt x="348" y="1148"/>
                    </a:lnTo>
                    <a:lnTo>
                      <a:pt x="357" y="1143"/>
                    </a:lnTo>
                    <a:lnTo>
                      <a:pt x="362" y="1133"/>
                    </a:lnTo>
                    <a:lnTo>
                      <a:pt x="371" y="1129"/>
                    </a:lnTo>
                    <a:lnTo>
                      <a:pt x="371" y="1119"/>
                    </a:lnTo>
                    <a:lnTo>
                      <a:pt x="371" y="1110"/>
                    </a:lnTo>
                    <a:lnTo>
                      <a:pt x="371" y="1096"/>
                    </a:lnTo>
                    <a:lnTo>
                      <a:pt x="371" y="1086"/>
                    </a:lnTo>
                    <a:lnTo>
                      <a:pt x="366" y="1077"/>
                    </a:lnTo>
                    <a:lnTo>
                      <a:pt x="362" y="1068"/>
                    </a:lnTo>
                    <a:lnTo>
                      <a:pt x="352" y="1058"/>
                    </a:lnTo>
                    <a:lnTo>
                      <a:pt x="343" y="1049"/>
                    </a:lnTo>
                    <a:lnTo>
                      <a:pt x="333" y="1030"/>
                    </a:lnTo>
                    <a:lnTo>
                      <a:pt x="329" y="1016"/>
                    </a:lnTo>
                    <a:lnTo>
                      <a:pt x="324" y="1002"/>
                    </a:lnTo>
                    <a:lnTo>
                      <a:pt x="319" y="988"/>
                    </a:lnTo>
                    <a:lnTo>
                      <a:pt x="315" y="969"/>
                    </a:lnTo>
                    <a:lnTo>
                      <a:pt x="315" y="955"/>
                    </a:lnTo>
                    <a:lnTo>
                      <a:pt x="319" y="936"/>
                    </a:lnTo>
                    <a:lnTo>
                      <a:pt x="324" y="922"/>
                    </a:lnTo>
                    <a:lnTo>
                      <a:pt x="329" y="908"/>
                    </a:lnTo>
                    <a:lnTo>
                      <a:pt x="333" y="903"/>
                    </a:lnTo>
                    <a:lnTo>
                      <a:pt x="338" y="894"/>
                    </a:lnTo>
                    <a:lnTo>
                      <a:pt x="343" y="889"/>
                    </a:lnTo>
                    <a:lnTo>
                      <a:pt x="348" y="884"/>
                    </a:lnTo>
                    <a:lnTo>
                      <a:pt x="352" y="880"/>
                    </a:lnTo>
                    <a:lnTo>
                      <a:pt x="362" y="875"/>
                    </a:lnTo>
                    <a:lnTo>
                      <a:pt x="366" y="875"/>
                    </a:lnTo>
                    <a:lnTo>
                      <a:pt x="376" y="870"/>
                    </a:lnTo>
                    <a:lnTo>
                      <a:pt x="385" y="865"/>
                    </a:lnTo>
                    <a:lnTo>
                      <a:pt x="395" y="865"/>
                    </a:lnTo>
                    <a:lnTo>
                      <a:pt x="404" y="861"/>
                    </a:lnTo>
                    <a:lnTo>
                      <a:pt x="413" y="861"/>
                    </a:lnTo>
                    <a:lnTo>
                      <a:pt x="428" y="861"/>
                    </a:lnTo>
                    <a:lnTo>
                      <a:pt x="437" y="861"/>
                    </a:lnTo>
                    <a:lnTo>
                      <a:pt x="451" y="865"/>
                    </a:lnTo>
                    <a:lnTo>
                      <a:pt x="460" y="865"/>
                    </a:lnTo>
                    <a:lnTo>
                      <a:pt x="470" y="870"/>
                    </a:lnTo>
                    <a:lnTo>
                      <a:pt x="479" y="875"/>
                    </a:lnTo>
                    <a:lnTo>
                      <a:pt x="489" y="875"/>
                    </a:lnTo>
                    <a:lnTo>
                      <a:pt x="493" y="880"/>
                    </a:lnTo>
                    <a:lnTo>
                      <a:pt x="503" y="884"/>
                    </a:lnTo>
                    <a:lnTo>
                      <a:pt x="507" y="889"/>
                    </a:lnTo>
                    <a:lnTo>
                      <a:pt x="517" y="894"/>
                    </a:lnTo>
                    <a:lnTo>
                      <a:pt x="522" y="903"/>
                    </a:lnTo>
                    <a:lnTo>
                      <a:pt x="526" y="912"/>
                    </a:lnTo>
                    <a:lnTo>
                      <a:pt x="536" y="927"/>
                    </a:lnTo>
                    <a:lnTo>
                      <a:pt x="540" y="941"/>
                    </a:lnTo>
                    <a:lnTo>
                      <a:pt x="540" y="955"/>
                    </a:lnTo>
                    <a:lnTo>
                      <a:pt x="540" y="974"/>
                    </a:lnTo>
                    <a:lnTo>
                      <a:pt x="540" y="988"/>
                    </a:lnTo>
                    <a:lnTo>
                      <a:pt x="536" y="1002"/>
                    </a:lnTo>
                    <a:lnTo>
                      <a:pt x="531" y="1016"/>
                    </a:lnTo>
                    <a:lnTo>
                      <a:pt x="522" y="1025"/>
                    </a:lnTo>
                    <a:lnTo>
                      <a:pt x="512" y="1039"/>
                    </a:lnTo>
                    <a:lnTo>
                      <a:pt x="493" y="1058"/>
                    </a:lnTo>
                    <a:lnTo>
                      <a:pt x="484" y="1077"/>
                    </a:lnTo>
                    <a:lnTo>
                      <a:pt x="479" y="1086"/>
                    </a:lnTo>
                    <a:lnTo>
                      <a:pt x="475" y="1091"/>
                    </a:lnTo>
                    <a:lnTo>
                      <a:pt x="475" y="1101"/>
                    </a:lnTo>
                    <a:lnTo>
                      <a:pt x="475" y="1105"/>
                    </a:lnTo>
                    <a:lnTo>
                      <a:pt x="475" y="1115"/>
                    </a:lnTo>
                    <a:lnTo>
                      <a:pt x="475" y="1119"/>
                    </a:lnTo>
                    <a:lnTo>
                      <a:pt x="479" y="1124"/>
                    </a:lnTo>
                    <a:lnTo>
                      <a:pt x="484" y="1129"/>
                    </a:lnTo>
                    <a:lnTo>
                      <a:pt x="493" y="1138"/>
                    </a:lnTo>
                    <a:lnTo>
                      <a:pt x="498" y="1143"/>
                    </a:lnTo>
                    <a:lnTo>
                      <a:pt x="507" y="1148"/>
                    </a:lnTo>
                    <a:lnTo>
                      <a:pt x="522" y="1152"/>
                    </a:lnTo>
                    <a:lnTo>
                      <a:pt x="536" y="1157"/>
                    </a:lnTo>
                    <a:lnTo>
                      <a:pt x="554" y="1162"/>
                    </a:lnTo>
                    <a:lnTo>
                      <a:pt x="573" y="1171"/>
                    </a:lnTo>
                    <a:lnTo>
                      <a:pt x="592" y="1171"/>
                    </a:lnTo>
                    <a:lnTo>
                      <a:pt x="611" y="1176"/>
                    </a:lnTo>
                    <a:lnTo>
                      <a:pt x="630" y="1180"/>
                    </a:lnTo>
                    <a:lnTo>
                      <a:pt x="653" y="1185"/>
                    </a:lnTo>
                    <a:lnTo>
                      <a:pt x="677" y="1185"/>
                    </a:lnTo>
                    <a:lnTo>
                      <a:pt x="696" y="1185"/>
                    </a:lnTo>
                    <a:lnTo>
                      <a:pt x="719" y="1185"/>
                    </a:lnTo>
                    <a:lnTo>
                      <a:pt x="738" y="1185"/>
                    </a:lnTo>
                    <a:lnTo>
                      <a:pt x="757" y="1180"/>
                    </a:lnTo>
                    <a:lnTo>
                      <a:pt x="776" y="1176"/>
                    </a:lnTo>
                    <a:lnTo>
                      <a:pt x="794" y="1171"/>
                    </a:lnTo>
                    <a:lnTo>
                      <a:pt x="808" y="1162"/>
                    </a:lnTo>
                    <a:lnTo>
                      <a:pt x="823" y="1152"/>
                    </a:lnTo>
                    <a:lnTo>
                      <a:pt x="818" y="1138"/>
                    </a:lnTo>
                    <a:lnTo>
                      <a:pt x="818" y="1119"/>
                    </a:lnTo>
                    <a:lnTo>
                      <a:pt x="813" y="1101"/>
                    </a:lnTo>
                    <a:lnTo>
                      <a:pt x="813" y="1082"/>
                    </a:lnTo>
                    <a:lnTo>
                      <a:pt x="813" y="1044"/>
                    </a:lnTo>
                    <a:lnTo>
                      <a:pt x="813" y="1002"/>
                    </a:lnTo>
                    <a:lnTo>
                      <a:pt x="818" y="964"/>
                    </a:lnTo>
                    <a:lnTo>
                      <a:pt x="818" y="927"/>
                    </a:lnTo>
                    <a:lnTo>
                      <a:pt x="823" y="898"/>
                    </a:lnTo>
                    <a:lnTo>
                      <a:pt x="823" y="875"/>
                    </a:lnTo>
                    <a:lnTo>
                      <a:pt x="823" y="870"/>
                    </a:lnTo>
                    <a:lnTo>
                      <a:pt x="818" y="861"/>
                    </a:lnTo>
                    <a:lnTo>
                      <a:pt x="813" y="851"/>
                    </a:lnTo>
                    <a:lnTo>
                      <a:pt x="808" y="842"/>
                    </a:lnTo>
                    <a:lnTo>
                      <a:pt x="799" y="837"/>
                    </a:lnTo>
                    <a:lnTo>
                      <a:pt x="790" y="833"/>
                    </a:lnTo>
                    <a:lnTo>
                      <a:pt x="780" y="823"/>
                    </a:lnTo>
                    <a:lnTo>
                      <a:pt x="771" y="823"/>
                    </a:lnTo>
                    <a:lnTo>
                      <a:pt x="761" y="818"/>
                    </a:lnTo>
                    <a:lnTo>
                      <a:pt x="752" y="814"/>
                    </a:lnTo>
                    <a:lnTo>
                      <a:pt x="743" y="814"/>
                    </a:lnTo>
                    <a:lnTo>
                      <a:pt x="728" y="814"/>
                    </a:lnTo>
                    <a:lnTo>
                      <a:pt x="719" y="818"/>
                    </a:lnTo>
                    <a:lnTo>
                      <a:pt x="710" y="823"/>
                    </a:lnTo>
                    <a:lnTo>
                      <a:pt x="700" y="828"/>
                    </a:lnTo>
                    <a:lnTo>
                      <a:pt x="696" y="837"/>
                    </a:lnTo>
                    <a:lnTo>
                      <a:pt x="686" y="842"/>
                    </a:lnTo>
                    <a:lnTo>
                      <a:pt x="677" y="847"/>
                    </a:lnTo>
                    <a:lnTo>
                      <a:pt x="667" y="851"/>
                    </a:lnTo>
                    <a:lnTo>
                      <a:pt x="653" y="856"/>
                    </a:lnTo>
                    <a:lnTo>
                      <a:pt x="639" y="856"/>
                    </a:lnTo>
                    <a:lnTo>
                      <a:pt x="625" y="856"/>
                    </a:lnTo>
                    <a:lnTo>
                      <a:pt x="611" y="856"/>
                    </a:lnTo>
                    <a:lnTo>
                      <a:pt x="597" y="851"/>
                    </a:lnTo>
                    <a:lnTo>
                      <a:pt x="583" y="847"/>
                    </a:lnTo>
                    <a:lnTo>
                      <a:pt x="569" y="837"/>
                    </a:lnTo>
                    <a:lnTo>
                      <a:pt x="559" y="828"/>
                    </a:lnTo>
                    <a:lnTo>
                      <a:pt x="545" y="818"/>
                    </a:lnTo>
                    <a:lnTo>
                      <a:pt x="540" y="809"/>
                    </a:lnTo>
                    <a:lnTo>
                      <a:pt x="536" y="804"/>
                    </a:lnTo>
                    <a:lnTo>
                      <a:pt x="536" y="795"/>
                    </a:lnTo>
                    <a:lnTo>
                      <a:pt x="531" y="790"/>
                    </a:lnTo>
                    <a:lnTo>
                      <a:pt x="526" y="781"/>
                    </a:lnTo>
                    <a:lnTo>
                      <a:pt x="526" y="771"/>
                    </a:lnTo>
                    <a:lnTo>
                      <a:pt x="526" y="762"/>
                    </a:lnTo>
                    <a:lnTo>
                      <a:pt x="526" y="753"/>
                    </a:lnTo>
                    <a:lnTo>
                      <a:pt x="526" y="743"/>
                    </a:lnTo>
                    <a:lnTo>
                      <a:pt x="526" y="729"/>
                    </a:lnTo>
                    <a:lnTo>
                      <a:pt x="526" y="720"/>
                    </a:lnTo>
                    <a:lnTo>
                      <a:pt x="531" y="710"/>
                    </a:lnTo>
                    <a:lnTo>
                      <a:pt x="536" y="701"/>
                    </a:lnTo>
                    <a:lnTo>
                      <a:pt x="536" y="692"/>
                    </a:lnTo>
                    <a:lnTo>
                      <a:pt x="540" y="687"/>
                    </a:lnTo>
                    <a:lnTo>
                      <a:pt x="550" y="677"/>
                    </a:lnTo>
                    <a:lnTo>
                      <a:pt x="559" y="668"/>
                    </a:lnTo>
                    <a:lnTo>
                      <a:pt x="573" y="654"/>
                    </a:lnTo>
                    <a:lnTo>
                      <a:pt x="587" y="645"/>
                    </a:lnTo>
                    <a:lnTo>
                      <a:pt x="602" y="640"/>
                    </a:lnTo>
                    <a:lnTo>
                      <a:pt x="616" y="635"/>
                    </a:lnTo>
                    <a:lnTo>
                      <a:pt x="630" y="635"/>
                    </a:lnTo>
                    <a:lnTo>
                      <a:pt x="649" y="635"/>
                    </a:lnTo>
                    <a:lnTo>
                      <a:pt x="663" y="635"/>
                    </a:lnTo>
                    <a:lnTo>
                      <a:pt x="677" y="640"/>
                    </a:lnTo>
                    <a:lnTo>
                      <a:pt x="691" y="645"/>
                    </a:lnTo>
                    <a:lnTo>
                      <a:pt x="700" y="654"/>
                    </a:lnTo>
                    <a:lnTo>
                      <a:pt x="710" y="659"/>
                    </a:lnTo>
                    <a:lnTo>
                      <a:pt x="714" y="668"/>
                    </a:lnTo>
                    <a:lnTo>
                      <a:pt x="724" y="673"/>
                    </a:lnTo>
                    <a:lnTo>
                      <a:pt x="728" y="677"/>
                    </a:lnTo>
                    <a:lnTo>
                      <a:pt x="738" y="677"/>
                    </a:lnTo>
                    <a:lnTo>
                      <a:pt x="747" y="682"/>
                    </a:lnTo>
                    <a:lnTo>
                      <a:pt x="757" y="687"/>
                    </a:lnTo>
                    <a:lnTo>
                      <a:pt x="766" y="687"/>
                    </a:lnTo>
                    <a:lnTo>
                      <a:pt x="776" y="687"/>
                    </a:lnTo>
                    <a:lnTo>
                      <a:pt x="785" y="687"/>
                    </a:lnTo>
                    <a:lnTo>
                      <a:pt x="794" y="687"/>
                    </a:lnTo>
                    <a:lnTo>
                      <a:pt x="804" y="682"/>
                    </a:lnTo>
                    <a:lnTo>
                      <a:pt x="813" y="682"/>
                    </a:lnTo>
                    <a:lnTo>
                      <a:pt x="823" y="677"/>
                    </a:lnTo>
                    <a:lnTo>
                      <a:pt x="832" y="673"/>
                    </a:lnTo>
                    <a:lnTo>
                      <a:pt x="841" y="668"/>
                    </a:lnTo>
                    <a:lnTo>
                      <a:pt x="851" y="659"/>
                    </a:lnTo>
                    <a:lnTo>
                      <a:pt x="851" y="654"/>
                    </a:lnTo>
                    <a:lnTo>
                      <a:pt x="855" y="654"/>
                    </a:lnTo>
                    <a:lnTo>
                      <a:pt x="860" y="645"/>
                    </a:lnTo>
                    <a:lnTo>
                      <a:pt x="860" y="640"/>
                    </a:lnTo>
                    <a:lnTo>
                      <a:pt x="865" y="626"/>
                    </a:lnTo>
                    <a:lnTo>
                      <a:pt x="865" y="607"/>
                    </a:lnTo>
                    <a:lnTo>
                      <a:pt x="865" y="588"/>
                    </a:lnTo>
                    <a:lnTo>
                      <a:pt x="865" y="569"/>
                    </a:lnTo>
                    <a:lnTo>
                      <a:pt x="865" y="550"/>
                    </a:lnTo>
                    <a:lnTo>
                      <a:pt x="860" y="527"/>
                    </a:lnTo>
                    <a:lnTo>
                      <a:pt x="851" y="485"/>
                    </a:lnTo>
                    <a:lnTo>
                      <a:pt x="841" y="447"/>
                    </a:lnTo>
                    <a:lnTo>
                      <a:pt x="832" y="409"/>
                    </a:lnTo>
                    <a:lnTo>
                      <a:pt x="823" y="381"/>
                    </a:lnTo>
                    <a:lnTo>
                      <a:pt x="799" y="386"/>
                    </a:lnTo>
                    <a:lnTo>
                      <a:pt x="776" y="386"/>
                    </a:lnTo>
                    <a:lnTo>
                      <a:pt x="752" y="391"/>
                    </a:lnTo>
                    <a:lnTo>
                      <a:pt x="728" y="391"/>
                    </a:lnTo>
                    <a:lnTo>
                      <a:pt x="705" y="391"/>
                    </a:lnTo>
                    <a:lnTo>
                      <a:pt x="681" y="391"/>
                    </a:lnTo>
                    <a:lnTo>
                      <a:pt x="658" y="386"/>
                    </a:lnTo>
                    <a:lnTo>
                      <a:pt x="639" y="386"/>
                    </a:lnTo>
                    <a:lnTo>
                      <a:pt x="597" y="381"/>
                    </a:lnTo>
                    <a:lnTo>
                      <a:pt x="569" y="377"/>
                    </a:lnTo>
                    <a:lnTo>
                      <a:pt x="545" y="372"/>
                    </a:lnTo>
                    <a:lnTo>
                      <a:pt x="540" y="367"/>
                    </a:lnTo>
                    <a:lnTo>
                      <a:pt x="522" y="362"/>
                    </a:lnTo>
                    <a:lnTo>
                      <a:pt x="507" y="353"/>
                    </a:lnTo>
                    <a:lnTo>
                      <a:pt x="493" y="344"/>
                    </a:lnTo>
                    <a:lnTo>
                      <a:pt x="484" y="330"/>
                    </a:lnTo>
                    <a:lnTo>
                      <a:pt x="475" y="315"/>
                    </a:lnTo>
                    <a:lnTo>
                      <a:pt x="470" y="306"/>
                    </a:lnTo>
                    <a:lnTo>
                      <a:pt x="465" y="292"/>
                    </a:lnTo>
                    <a:lnTo>
                      <a:pt x="460" y="283"/>
                    </a:lnTo>
                    <a:lnTo>
                      <a:pt x="460" y="268"/>
                    </a:lnTo>
                    <a:lnTo>
                      <a:pt x="465" y="254"/>
                    </a:lnTo>
                    <a:lnTo>
                      <a:pt x="465" y="240"/>
                    </a:lnTo>
                    <a:lnTo>
                      <a:pt x="470" y="231"/>
                    </a:lnTo>
                    <a:lnTo>
                      <a:pt x="475" y="221"/>
                    </a:lnTo>
                    <a:lnTo>
                      <a:pt x="484" y="212"/>
                    </a:lnTo>
                    <a:lnTo>
                      <a:pt x="489" y="203"/>
                    </a:lnTo>
                    <a:lnTo>
                      <a:pt x="498" y="193"/>
                    </a:lnTo>
                    <a:lnTo>
                      <a:pt x="507" y="184"/>
                    </a:lnTo>
                    <a:lnTo>
                      <a:pt x="512" y="174"/>
                    </a:lnTo>
                    <a:lnTo>
                      <a:pt x="522" y="160"/>
                    </a:lnTo>
                    <a:lnTo>
                      <a:pt x="526" y="146"/>
                    </a:lnTo>
                    <a:lnTo>
                      <a:pt x="531" y="132"/>
                    </a:lnTo>
                    <a:lnTo>
                      <a:pt x="531" y="113"/>
                    </a:lnTo>
                    <a:lnTo>
                      <a:pt x="531" y="99"/>
                    </a:lnTo>
                    <a:lnTo>
                      <a:pt x="531" y="80"/>
                    </a:lnTo>
                    <a:lnTo>
                      <a:pt x="526" y="66"/>
                    </a:lnTo>
                    <a:lnTo>
                      <a:pt x="522" y="47"/>
                    </a:lnTo>
                    <a:lnTo>
                      <a:pt x="517" y="43"/>
                    </a:lnTo>
                    <a:lnTo>
                      <a:pt x="512" y="38"/>
                    </a:lnTo>
                    <a:lnTo>
                      <a:pt x="503" y="29"/>
                    </a:lnTo>
                    <a:lnTo>
                      <a:pt x="498" y="24"/>
                    </a:lnTo>
                    <a:lnTo>
                      <a:pt x="493" y="19"/>
                    </a:lnTo>
                    <a:lnTo>
                      <a:pt x="484" y="15"/>
                    </a:lnTo>
                    <a:lnTo>
                      <a:pt x="475" y="10"/>
                    </a:lnTo>
                    <a:lnTo>
                      <a:pt x="465" y="5"/>
                    </a:lnTo>
                    <a:lnTo>
                      <a:pt x="451" y="0"/>
                    </a:lnTo>
                    <a:lnTo>
                      <a:pt x="442" y="0"/>
                    </a:lnTo>
                    <a:lnTo>
                      <a:pt x="428" y="0"/>
                    </a:lnTo>
                    <a:lnTo>
                      <a:pt x="413" y="0"/>
                    </a:lnTo>
                    <a:lnTo>
                      <a:pt x="404" y="0"/>
                    </a:lnTo>
                    <a:lnTo>
                      <a:pt x="390" y="0"/>
                    </a:lnTo>
                    <a:lnTo>
                      <a:pt x="381" y="0"/>
                    </a:lnTo>
                    <a:lnTo>
                      <a:pt x="371" y="5"/>
                    </a:lnTo>
                    <a:lnTo>
                      <a:pt x="362" y="5"/>
                    </a:lnTo>
                    <a:lnTo>
                      <a:pt x="352" y="10"/>
                    </a:lnTo>
                    <a:lnTo>
                      <a:pt x="343" y="15"/>
                    </a:lnTo>
                    <a:lnTo>
                      <a:pt x="333" y="19"/>
                    </a:lnTo>
                    <a:lnTo>
                      <a:pt x="329" y="24"/>
                    </a:lnTo>
                    <a:lnTo>
                      <a:pt x="319" y="29"/>
                    </a:lnTo>
                    <a:lnTo>
                      <a:pt x="315" y="33"/>
                    </a:lnTo>
                    <a:lnTo>
                      <a:pt x="310" y="43"/>
                    </a:lnTo>
                    <a:lnTo>
                      <a:pt x="301" y="52"/>
                    </a:lnTo>
                    <a:lnTo>
                      <a:pt x="296" y="71"/>
                    </a:lnTo>
                    <a:lnTo>
                      <a:pt x="291" y="85"/>
                    </a:lnTo>
                    <a:lnTo>
                      <a:pt x="291" y="99"/>
                    </a:lnTo>
                    <a:lnTo>
                      <a:pt x="291" y="113"/>
                    </a:lnTo>
                    <a:lnTo>
                      <a:pt x="291" y="132"/>
                    </a:lnTo>
                    <a:lnTo>
                      <a:pt x="296" y="146"/>
                    </a:lnTo>
                    <a:lnTo>
                      <a:pt x="301" y="160"/>
                    </a:lnTo>
                    <a:lnTo>
                      <a:pt x="310" y="170"/>
                    </a:lnTo>
                    <a:lnTo>
                      <a:pt x="319" y="184"/>
                    </a:lnTo>
                    <a:lnTo>
                      <a:pt x="329" y="193"/>
                    </a:lnTo>
                    <a:lnTo>
                      <a:pt x="338" y="207"/>
                    </a:lnTo>
                    <a:lnTo>
                      <a:pt x="343" y="221"/>
                    </a:lnTo>
                    <a:lnTo>
                      <a:pt x="348" y="231"/>
                    </a:lnTo>
                    <a:lnTo>
                      <a:pt x="352" y="245"/>
                    </a:lnTo>
                    <a:lnTo>
                      <a:pt x="352" y="259"/>
                    </a:lnTo>
                    <a:lnTo>
                      <a:pt x="348" y="273"/>
                    </a:lnTo>
                    <a:lnTo>
                      <a:pt x="348" y="287"/>
                    </a:lnTo>
                    <a:lnTo>
                      <a:pt x="338" y="301"/>
                    </a:lnTo>
                    <a:lnTo>
                      <a:pt x="333" y="311"/>
                    </a:lnTo>
                    <a:lnTo>
                      <a:pt x="324" y="325"/>
                    </a:lnTo>
                    <a:lnTo>
                      <a:pt x="310" y="334"/>
                    </a:lnTo>
                    <a:lnTo>
                      <a:pt x="296" y="344"/>
                    </a:lnTo>
                    <a:lnTo>
                      <a:pt x="282" y="353"/>
                    </a:lnTo>
                    <a:lnTo>
                      <a:pt x="258" y="362"/>
                    </a:lnTo>
                    <a:lnTo>
                      <a:pt x="239" y="367"/>
                    </a:lnTo>
                    <a:lnTo>
                      <a:pt x="225" y="367"/>
                    </a:lnTo>
                    <a:lnTo>
                      <a:pt x="202" y="367"/>
                    </a:lnTo>
                    <a:lnTo>
                      <a:pt x="178" y="367"/>
                    </a:lnTo>
                    <a:lnTo>
                      <a:pt x="150" y="367"/>
                    </a:lnTo>
                    <a:lnTo>
                      <a:pt x="122" y="367"/>
                    </a:lnTo>
                    <a:lnTo>
                      <a:pt x="89" y="367"/>
                    </a:lnTo>
                    <a:lnTo>
                      <a:pt x="56" y="367"/>
                    </a:lnTo>
                    <a:lnTo>
                      <a:pt x="23" y="367"/>
                    </a:lnTo>
                    <a:lnTo>
                      <a:pt x="18" y="391"/>
                    </a:lnTo>
                    <a:lnTo>
                      <a:pt x="14" y="424"/>
                    </a:lnTo>
                    <a:lnTo>
                      <a:pt x="9" y="461"/>
                    </a:lnTo>
                    <a:lnTo>
                      <a:pt x="4" y="499"/>
                    </a:lnTo>
                    <a:lnTo>
                      <a:pt x="0" y="536"/>
                    </a:lnTo>
                    <a:lnTo>
                      <a:pt x="0" y="569"/>
                    </a:lnTo>
                    <a:lnTo>
                      <a:pt x="0" y="597"/>
                    </a:lnTo>
                    <a:lnTo>
                      <a:pt x="0" y="616"/>
                    </a:lnTo>
                    <a:lnTo>
                      <a:pt x="4" y="626"/>
                    </a:lnTo>
                    <a:lnTo>
                      <a:pt x="9" y="635"/>
                    </a:lnTo>
                    <a:lnTo>
                      <a:pt x="14" y="640"/>
                    </a:lnTo>
                    <a:lnTo>
                      <a:pt x="23" y="649"/>
                    </a:lnTo>
                    <a:lnTo>
                      <a:pt x="33" y="654"/>
                    </a:lnTo>
                    <a:lnTo>
                      <a:pt x="42" y="659"/>
                    </a:lnTo>
                    <a:lnTo>
                      <a:pt x="56" y="663"/>
                    </a:lnTo>
                    <a:lnTo>
                      <a:pt x="65" y="668"/>
                    </a:lnTo>
                    <a:lnTo>
                      <a:pt x="80" y="668"/>
                    </a:lnTo>
                    <a:lnTo>
                      <a:pt x="94" y="668"/>
                    </a:lnTo>
                    <a:lnTo>
                      <a:pt x="103" y="668"/>
                    </a:lnTo>
                    <a:lnTo>
                      <a:pt x="117" y="668"/>
                    </a:lnTo>
                    <a:lnTo>
                      <a:pt x="131" y="663"/>
                    </a:lnTo>
                    <a:lnTo>
                      <a:pt x="141" y="659"/>
                    </a:lnTo>
                    <a:lnTo>
                      <a:pt x="150" y="654"/>
                    </a:lnTo>
                    <a:lnTo>
                      <a:pt x="160" y="645"/>
                    </a:lnTo>
                    <a:lnTo>
                      <a:pt x="169" y="640"/>
                    </a:lnTo>
                    <a:lnTo>
                      <a:pt x="178" y="630"/>
                    </a:lnTo>
                    <a:lnTo>
                      <a:pt x="192" y="630"/>
                    </a:lnTo>
                    <a:lnTo>
                      <a:pt x="202" y="626"/>
                    </a:lnTo>
                    <a:lnTo>
                      <a:pt x="216" y="626"/>
                    </a:lnTo>
                    <a:lnTo>
                      <a:pt x="230" y="626"/>
                    </a:lnTo>
                    <a:lnTo>
                      <a:pt x="244" y="630"/>
                    </a:lnTo>
                    <a:lnTo>
                      <a:pt x="258" y="635"/>
                    </a:lnTo>
                    <a:lnTo>
                      <a:pt x="268" y="640"/>
                    </a:lnTo>
                    <a:lnTo>
                      <a:pt x="282" y="649"/>
                    </a:lnTo>
                    <a:lnTo>
                      <a:pt x="291" y="659"/>
                    </a:lnTo>
                    <a:lnTo>
                      <a:pt x="301" y="673"/>
                    </a:lnTo>
                    <a:lnTo>
                      <a:pt x="310" y="687"/>
                    </a:lnTo>
                    <a:lnTo>
                      <a:pt x="315" y="701"/>
                    </a:lnTo>
                    <a:lnTo>
                      <a:pt x="319" y="720"/>
                    </a:lnTo>
                    <a:lnTo>
                      <a:pt x="319" y="739"/>
                    </a:lnTo>
                    <a:lnTo>
                      <a:pt x="319" y="753"/>
                    </a:lnTo>
                    <a:lnTo>
                      <a:pt x="315" y="762"/>
                    </a:lnTo>
                    <a:lnTo>
                      <a:pt x="310" y="776"/>
                    </a:lnTo>
                    <a:lnTo>
                      <a:pt x="301" y="786"/>
                    </a:lnTo>
                    <a:lnTo>
                      <a:pt x="291" y="795"/>
                    </a:lnTo>
                    <a:lnTo>
                      <a:pt x="282" y="804"/>
                    </a:lnTo>
                    <a:lnTo>
                      <a:pt x="268" y="809"/>
                    </a:lnTo>
                    <a:lnTo>
                      <a:pt x="258" y="814"/>
                    </a:lnTo>
                    <a:lnTo>
                      <a:pt x="244" y="818"/>
                    </a:lnTo>
                    <a:lnTo>
                      <a:pt x="230" y="823"/>
                    </a:lnTo>
                    <a:lnTo>
                      <a:pt x="216" y="823"/>
                    </a:lnTo>
                    <a:lnTo>
                      <a:pt x="202" y="823"/>
                    </a:lnTo>
                    <a:lnTo>
                      <a:pt x="192" y="818"/>
                    </a:lnTo>
                    <a:lnTo>
                      <a:pt x="178" y="814"/>
                    </a:lnTo>
                    <a:lnTo>
                      <a:pt x="169" y="804"/>
                    </a:lnTo>
                    <a:lnTo>
                      <a:pt x="160" y="795"/>
                    </a:lnTo>
                    <a:lnTo>
                      <a:pt x="150" y="786"/>
                    </a:lnTo>
                    <a:lnTo>
                      <a:pt x="141" y="781"/>
                    </a:lnTo>
                    <a:lnTo>
                      <a:pt x="131" y="776"/>
                    </a:lnTo>
                    <a:lnTo>
                      <a:pt x="122" y="771"/>
                    </a:lnTo>
                    <a:lnTo>
                      <a:pt x="112" y="771"/>
                    </a:lnTo>
                    <a:lnTo>
                      <a:pt x="103" y="771"/>
                    </a:lnTo>
                    <a:lnTo>
                      <a:pt x="89" y="771"/>
                    </a:lnTo>
                    <a:lnTo>
                      <a:pt x="80" y="771"/>
                    </a:lnTo>
                    <a:lnTo>
                      <a:pt x="70" y="781"/>
                    </a:lnTo>
                    <a:lnTo>
                      <a:pt x="56" y="786"/>
                    </a:lnTo>
                    <a:lnTo>
                      <a:pt x="47" y="790"/>
                    </a:lnTo>
                    <a:lnTo>
                      <a:pt x="37" y="800"/>
                    </a:lnTo>
                    <a:lnTo>
                      <a:pt x="28" y="809"/>
                    </a:lnTo>
                    <a:lnTo>
                      <a:pt x="23" y="818"/>
                    </a:lnTo>
                    <a:lnTo>
                      <a:pt x="14" y="828"/>
                    </a:lnTo>
                    <a:lnTo>
                      <a:pt x="9" y="842"/>
                    </a:lnTo>
                    <a:lnTo>
                      <a:pt x="4" y="851"/>
                    </a:lnTo>
                    <a:lnTo>
                      <a:pt x="4" y="870"/>
                    </a:lnTo>
                    <a:lnTo>
                      <a:pt x="4" y="884"/>
                    </a:lnTo>
                    <a:lnTo>
                      <a:pt x="9" y="903"/>
                    </a:lnTo>
                    <a:lnTo>
                      <a:pt x="14" y="945"/>
                    </a:lnTo>
                    <a:lnTo>
                      <a:pt x="23" y="992"/>
                    </a:lnTo>
                    <a:lnTo>
                      <a:pt x="28" y="1016"/>
                    </a:lnTo>
                    <a:lnTo>
                      <a:pt x="33" y="1035"/>
                    </a:lnTo>
                    <a:lnTo>
                      <a:pt x="33" y="1058"/>
                    </a:lnTo>
                    <a:lnTo>
                      <a:pt x="37" y="1082"/>
                    </a:lnTo>
                    <a:lnTo>
                      <a:pt x="37" y="1101"/>
                    </a:lnTo>
                    <a:lnTo>
                      <a:pt x="33" y="1119"/>
                    </a:lnTo>
                    <a:lnTo>
                      <a:pt x="33" y="1129"/>
                    </a:lnTo>
                    <a:lnTo>
                      <a:pt x="28" y="1138"/>
                    </a:lnTo>
                    <a:lnTo>
                      <a:pt x="28" y="1148"/>
                    </a:lnTo>
                    <a:lnTo>
                      <a:pt x="23" y="1152"/>
                    </a:lnTo>
                    <a:lnTo>
                      <a:pt x="56" y="1148"/>
                    </a:lnTo>
                    <a:lnTo>
                      <a:pt x="89" y="1138"/>
                    </a:lnTo>
                    <a:lnTo>
                      <a:pt x="122" y="1138"/>
                    </a:lnTo>
                    <a:lnTo>
                      <a:pt x="150" y="1133"/>
                    </a:lnTo>
                    <a:lnTo>
                      <a:pt x="183" y="1129"/>
                    </a:lnTo>
                    <a:lnTo>
                      <a:pt x="211" y="1129"/>
                    </a:lnTo>
                    <a:lnTo>
                      <a:pt x="225" y="1133"/>
                    </a:lnTo>
                    <a:lnTo>
                      <a:pt x="239" y="1133"/>
                    </a:lnTo>
                    <a:lnTo>
                      <a:pt x="249" y="1138"/>
                    </a:lnTo>
                    <a:lnTo>
                      <a:pt x="263" y="1143"/>
                    </a:lnTo>
                    <a:close/>
                  </a:path>
                </a:pathLst>
              </a:custGeom>
              <a:solidFill>
                <a:srgbClr val="ffbe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9144000" y="5634000"/>
                <a:ext cx="1799640" cy="2447640"/>
              </a:xfrm>
              <a:custGeom>
                <a:avLst/>
                <a:gdLst/>
                <a:ahLst/>
                <a:rect l="l" t="t" r="r" b="b"/>
                <a:pathLst>
                  <a:path w="879" h="1199">
                    <a:moveTo>
                      <a:pt x="287" y="1161"/>
                    </a:moveTo>
                    <a:lnTo>
                      <a:pt x="287" y="1152"/>
                    </a:lnTo>
                    <a:lnTo>
                      <a:pt x="287" y="1161"/>
                    </a:lnTo>
                    <a:lnTo>
                      <a:pt x="301" y="1166"/>
                    </a:lnTo>
                    <a:lnTo>
                      <a:pt x="301" y="1166"/>
                    </a:lnTo>
                    <a:lnTo>
                      <a:pt x="301" y="1166"/>
                    </a:lnTo>
                    <a:lnTo>
                      <a:pt x="320" y="1166"/>
                    </a:lnTo>
                    <a:lnTo>
                      <a:pt x="334" y="1166"/>
                    </a:lnTo>
                    <a:lnTo>
                      <a:pt x="343" y="1166"/>
                    </a:lnTo>
                    <a:lnTo>
                      <a:pt x="348" y="1166"/>
                    </a:lnTo>
                    <a:lnTo>
                      <a:pt x="348" y="1166"/>
                    </a:lnTo>
                    <a:lnTo>
                      <a:pt x="357" y="1161"/>
                    </a:lnTo>
                    <a:lnTo>
                      <a:pt x="367" y="1156"/>
                    </a:lnTo>
                    <a:lnTo>
                      <a:pt x="367" y="1152"/>
                    </a:lnTo>
                    <a:lnTo>
                      <a:pt x="371" y="1152"/>
                    </a:lnTo>
                    <a:lnTo>
                      <a:pt x="376" y="1142"/>
                    </a:lnTo>
                    <a:lnTo>
                      <a:pt x="367" y="1137"/>
                    </a:lnTo>
                    <a:lnTo>
                      <a:pt x="371" y="1147"/>
                    </a:lnTo>
                    <a:lnTo>
                      <a:pt x="381" y="1142"/>
                    </a:lnTo>
                    <a:lnTo>
                      <a:pt x="386" y="1137"/>
                    </a:lnTo>
                    <a:lnTo>
                      <a:pt x="386" y="1133"/>
                    </a:lnTo>
                    <a:lnTo>
                      <a:pt x="386" y="1123"/>
                    </a:lnTo>
                    <a:lnTo>
                      <a:pt x="386" y="1114"/>
                    </a:lnTo>
                    <a:lnTo>
                      <a:pt x="386" y="1100"/>
                    </a:lnTo>
                    <a:lnTo>
                      <a:pt x="386" y="1090"/>
                    </a:lnTo>
                    <a:lnTo>
                      <a:pt x="386" y="1090"/>
                    </a:lnTo>
                    <a:lnTo>
                      <a:pt x="386" y="1090"/>
                    </a:lnTo>
                    <a:lnTo>
                      <a:pt x="381" y="1081"/>
                    </a:lnTo>
                    <a:lnTo>
                      <a:pt x="376" y="1072"/>
                    </a:lnTo>
                    <a:lnTo>
                      <a:pt x="376" y="1072"/>
                    </a:lnTo>
                    <a:lnTo>
                      <a:pt x="371" y="1067"/>
                    </a:lnTo>
                    <a:lnTo>
                      <a:pt x="362" y="1058"/>
                    </a:lnTo>
                    <a:lnTo>
                      <a:pt x="353" y="1048"/>
                    </a:lnTo>
                    <a:lnTo>
                      <a:pt x="348" y="1053"/>
                    </a:lnTo>
                    <a:lnTo>
                      <a:pt x="357" y="1053"/>
                    </a:lnTo>
                    <a:lnTo>
                      <a:pt x="348" y="1034"/>
                    </a:lnTo>
                    <a:lnTo>
                      <a:pt x="343" y="1020"/>
                    </a:lnTo>
                    <a:lnTo>
                      <a:pt x="338" y="1006"/>
                    </a:lnTo>
                    <a:lnTo>
                      <a:pt x="334" y="992"/>
                    </a:lnTo>
                    <a:lnTo>
                      <a:pt x="329" y="973"/>
                    </a:lnTo>
                    <a:lnTo>
                      <a:pt x="320" y="973"/>
                    </a:lnTo>
                    <a:lnTo>
                      <a:pt x="329" y="973"/>
                    </a:lnTo>
                    <a:lnTo>
                      <a:pt x="329" y="959"/>
                    </a:lnTo>
                    <a:lnTo>
                      <a:pt x="320" y="959"/>
                    </a:lnTo>
                    <a:lnTo>
                      <a:pt x="329" y="964"/>
                    </a:lnTo>
                    <a:lnTo>
                      <a:pt x="334" y="945"/>
                    </a:lnTo>
                    <a:lnTo>
                      <a:pt x="338" y="931"/>
                    </a:lnTo>
                    <a:lnTo>
                      <a:pt x="343" y="916"/>
                    </a:lnTo>
                    <a:lnTo>
                      <a:pt x="334" y="912"/>
                    </a:lnTo>
                    <a:lnTo>
                      <a:pt x="338" y="916"/>
                    </a:lnTo>
                    <a:lnTo>
                      <a:pt x="343" y="912"/>
                    </a:lnTo>
                    <a:lnTo>
                      <a:pt x="348" y="912"/>
                    </a:lnTo>
                    <a:lnTo>
                      <a:pt x="348" y="912"/>
                    </a:lnTo>
                    <a:lnTo>
                      <a:pt x="353" y="902"/>
                    </a:lnTo>
                    <a:lnTo>
                      <a:pt x="343" y="898"/>
                    </a:lnTo>
                    <a:lnTo>
                      <a:pt x="348" y="902"/>
                    </a:lnTo>
                    <a:lnTo>
                      <a:pt x="353" y="898"/>
                    </a:lnTo>
                    <a:lnTo>
                      <a:pt x="357" y="893"/>
                    </a:lnTo>
                    <a:lnTo>
                      <a:pt x="362" y="888"/>
                    </a:lnTo>
                    <a:lnTo>
                      <a:pt x="357" y="884"/>
                    </a:lnTo>
                    <a:lnTo>
                      <a:pt x="362" y="893"/>
                    </a:lnTo>
                    <a:lnTo>
                      <a:pt x="371" y="888"/>
                    </a:lnTo>
                    <a:lnTo>
                      <a:pt x="367" y="879"/>
                    </a:lnTo>
                    <a:lnTo>
                      <a:pt x="367" y="888"/>
                    </a:lnTo>
                    <a:lnTo>
                      <a:pt x="371" y="888"/>
                    </a:lnTo>
                    <a:lnTo>
                      <a:pt x="376" y="888"/>
                    </a:lnTo>
                    <a:lnTo>
                      <a:pt x="376" y="888"/>
                    </a:lnTo>
                    <a:lnTo>
                      <a:pt x="386" y="884"/>
                    </a:lnTo>
                    <a:lnTo>
                      <a:pt x="395" y="879"/>
                    </a:lnTo>
                    <a:lnTo>
                      <a:pt x="390" y="869"/>
                    </a:lnTo>
                    <a:lnTo>
                      <a:pt x="390" y="879"/>
                    </a:lnTo>
                    <a:lnTo>
                      <a:pt x="400" y="879"/>
                    </a:lnTo>
                    <a:lnTo>
                      <a:pt x="404" y="879"/>
                    </a:lnTo>
                    <a:lnTo>
                      <a:pt x="404" y="879"/>
                    </a:lnTo>
                    <a:lnTo>
                      <a:pt x="414" y="874"/>
                    </a:lnTo>
                    <a:lnTo>
                      <a:pt x="409" y="865"/>
                    </a:lnTo>
                    <a:lnTo>
                      <a:pt x="409" y="874"/>
                    </a:lnTo>
                    <a:lnTo>
                      <a:pt x="418" y="874"/>
                    </a:lnTo>
                    <a:lnTo>
                      <a:pt x="433" y="874"/>
                    </a:lnTo>
                    <a:lnTo>
                      <a:pt x="442" y="874"/>
                    </a:lnTo>
                    <a:lnTo>
                      <a:pt x="442" y="865"/>
                    </a:lnTo>
                    <a:lnTo>
                      <a:pt x="442" y="874"/>
                    </a:lnTo>
                    <a:lnTo>
                      <a:pt x="456" y="879"/>
                    </a:lnTo>
                    <a:lnTo>
                      <a:pt x="456" y="879"/>
                    </a:lnTo>
                    <a:lnTo>
                      <a:pt x="456" y="879"/>
                    </a:lnTo>
                    <a:lnTo>
                      <a:pt x="465" y="879"/>
                    </a:lnTo>
                    <a:lnTo>
                      <a:pt x="465" y="869"/>
                    </a:lnTo>
                    <a:lnTo>
                      <a:pt x="465" y="879"/>
                    </a:lnTo>
                    <a:lnTo>
                      <a:pt x="475" y="884"/>
                    </a:lnTo>
                    <a:lnTo>
                      <a:pt x="484" y="888"/>
                    </a:lnTo>
                    <a:lnTo>
                      <a:pt x="484" y="888"/>
                    </a:lnTo>
                    <a:lnTo>
                      <a:pt x="484" y="888"/>
                    </a:lnTo>
                    <a:lnTo>
                      <a:pt x="494" y="888"/>
                    </a:lnTo>
                    <a:lnTo>
                      <a:pt x="494" y="879"/>
                    </a:lnTo>
                    <a:lnTo>
                      <a:pt x="489" y="884"/>
                    </a:lnTo>
                    <a:lnTo>
                      <a:pt x="494" y="888"/>
                    </a:lnTo>
                    <a:lnTo>
                      <a:pt x="498" y="893"/>
                    </a:lnTo>
                    <a:lnTo>
                      <a:pt x="498" y="893"/>
                    </a:lnTo>
                    <a:lnTo>
                      <a:pt x="508" y="898"/>
                    </a:lnTo>
                    <a:lnTo>
                      <a:pt x="508" y="888"/>
                    </a:lnTo>
                    <a:lnTo>
                      <a:pt x="503" y="893"/>
                    </a:lnTo>
                    <a:lnTo>
                      <a:pt x="508" y="898"/>
                    </a:lnTo>
                    <a:lnTo>
                      <a:pt x="512" y="902"/>
                    </a:lnTo>
                    <a:lnTo>
                      <a:pt x="512" y="902"/>
                    </a:lnTo>
                    <a:lnTo>
                      <a:pt x="522" y="907"/>
                    </a:lnTo>
                    <a:lnTo>
                      <a:pt x="522" y="898"/>
                    </a:lnTo>
                    <a:lnTo>
                      <a:pt x="517" y="902"/>
                    </a:lnTo>
                    <a:lnTo>
                      <a:pt x="522" y="912"/>
                    </a:lnTo>
                    <a:lnTo>
                      <a:pt x="527" y="921"/>
                    </a:lnTo>
                    <a:lnTo>
                      <a:pt x="536" y="935"/>
                    </a:lnTo>
                    <a:lnTo>
                      <a:pt x="541" y="949"/>
                    </a:lnTo>
                    <a:lnTo>
                      <a:pt x="545" y="945"/>
                    </a:lnTo>
                    <a:lnTo>
                      <a:pt x="541" y="945"/>
                    </a:lnTo>
                    <a:lnTo>
                      <a:pt x="541" y="959"/>
                    </a:lnTo>
                    <a:lnTo>
                      <a:pt x="541" y="978"/>
                    </a:lnTo>
                    <a:lnTo>
                      <a:pt x="541" y="992"/>
                    </a:lnTo>
                    <a:lnTo>
                      <a:pt x="545" y="992"/>
                    </a:lnTo>
                    <a:lnTo>
                      <a:pt x="541" y="992"/>
                    </a:lnTo>
                    <a:lnTo>
                      <a:pt x="536" y="1006"/>
                    </a:lnTo>
                    <a:lnTo>
                      <a:pt x="531" y="1020"/>
                    </a:lnTo>
                    <a:lnTo>
                      <a:pt x="536" y="1020"/>
                    </a:lnTo>
                    <a:lnTo>
                      <a:pt x="531" y="1015"/>
                    </a:lnTo>
                    <a:lnTo>
                      <a:pt x="522" y="1025"/>
                    </a:lnTo>
                    <a:lnTo>
                      <a:pt x="522" y="1029"/>
                    </a:lnTo>
                    <a:lnTo>
                      <a:pt x="522" y="1029"/>
                    </a:lnTo>
                    <a:lnTo>
                      <a:pt x="512" y="1043"/>
                    </a:lnTo>
                    <a:lnTo>
                      <a:pt x="517" y="1043"/>
                    </a:lnTo>
                    <a:lnTo>
                      <a:pt x="512" y="1039"/>
                    </a:lnTo>
                    <a:lnTo>
                      <a:pt x="494" y="1058"/>
                    </a:lnTo>
                    <a:lnTo>
                      <a:pt x="494" y="1062"/>
                    </a:lnTo>
                    <a:lnTo>
                      <a:pt x="494" y="1062"/>
                    </a:lnTo>
                    <a:lnTo>
                      <a:pt x="484" y="1081"/>
                    </a:lnTo>
                    <a:lnTo>
                      <a:pt x="480" y="1090"/>
                    </a:lnTo>
                    <a:lnTo>
                      <a:pt x="484" y="1090"/>
                    </a:lnTo>
                    <a:lnTo>
                      <a:pt x="480" y="1086"/>
                    </a:lnTo>
                    <a:lnTo>
                      <a:pt x="475" y="1090"/>
                    </a:lnTo>
                    <a:lnTo>
                      <a:pt x="475" y="1095"/>
                    </a:lnTo>
                    <a:lnTo>
                      <a:pt x="475" y="1095"/>
                    </a:lnTo>
                    <a:lnTo>
                      <a:pt x="475" y="1105"/>
                    </a:lnTo>
                    <a:lnTo>
                      <a:pt x="475" y="1109"/>
                    </a:lnTo>
                    <a:lnTo>
                      <a:pt x="475" y="1119"/>
                    </a:lnTo>
                    <a:lnTo>
                      <a:pt x="475" y="1123"/>
                    </a:lnTo>
                    <a:lnTo>
                      <a:pt x="475" y="1128"/>
                    </a:lnTo>
                    <a:lnTo>
                      <a:pt x="475" y="1128"/>
                    </a:lnTo>
                    <a:lnTo>
                      <a:pt x="480" y="1133"/>
                    </a:lnTo>
                    <a:lnTo>
                      <a:pt x="484" y="1137"/>
                    </a:lnTo>
                    <a:lnTo>
                      <a:pt x="494" y="1147"/>
                    </a:lnTo>
                    <a:lnTo>
                      <a:pt x="498" y="1152"/>
                    </a:lnTo>
                    <a:lnTo>
                      <a:pt x="503" y="1156"/>
                    </a:lnTo>
                    <a:lnTo>
                      <a:pt x="503" y="1156"/>
                    </a:lnTo>
                    <a:lnTo>
                      <a:pt x="512" y="1161"/>
                    </a:lnTo>
                    <a:lnTo>
                      <a:pt x="527" y="1166"/>
                    </a:lnTo>
                    <a:lnTo>
                      <a:pt x="541" y="1170"/>
                    </a:lnTo>
                    <a:lnTo>
                      <a:pt x="531" y="1166"/>
                    </a:lnTo>
                    <a:lnTo>
                      <a:pt x="541" y="1170"/>
                    </a:lnTo>
                    <a:lnTo>
                      <a:pt x="559" y="1175"/>
                    </a:lnTo>
                    <a:lnTo>
                      <a:pt x="559" y="1166"/>
                    </a:lnTo>
                    <a:lnTo>
                      <a:pt x="559" y="1175"/>
                    </a:lnTo>
                    <a:lnTo>
                      <a:pt x="578" y="1184"/>
                    </a:lnTo>
                    <a:lnTo>
                      <a:pt x="578" y="1184"/>
                    </a:lnTo>
                    <a:lnTo>
                      <a:pt x="578" y="1184"/>
                    </a:lnTo>
                    <a:lnTo>
                      <a:pt x="597" y="1184"/>
                    </a:lnTo>
                    <a:lnTo>
                      <a:pt x="616" y="1189"/>
                    </a:lnTo>
                    <a:lnTo>
                      <a:pt x="635" y="1194"/>
                    </a:lnTo>
                    <a:lnTo>
                      <a:pt x="658" y="1199"/>
                    </a:lnTo>
                    <a:lnTo>
                      <a:pt x="682" y="1199"/>
                    </a:lnTo>
                    <a:lnTo>
                      <a:pt x="701" y="1199"/>
                    </a:lnTo>
                    <a:lnTo>
                      <a:pt x="724" y="1199"/>
                    </a:lnTo>
                    <a:lnTo>
                      <a:pt x="743" y="1199"/>
                    </a:lnTo>
                    <a:lnTo>
                      <a:pt x="762" y="1194"/>
                    </a:lnTo>
                    <a:lnTo>
                      <a:pt x="781" y="1189"/>
                    </a:lnTo>
                    <a:lnTo>
                      <a:pt x="799" y="1184"/>
                    </a:lnTo>
                    <a:lnTo>
                      <a:pt x="804" y="1180"/>
                    </a:lnTo>
                    <a:lnTo>
                      <a:pt x="804" y="1184"/>
                    </a:lnTo>
                    <a:lnTo>
                      <a:pt x="818" y="1175"/>
                    </a:lnTo>
                    <a:lnTo>
                      <a:pt x="832" y="1166"/>
                    </a:lnTo>
                    <a:lnTo>
                      <a:pt x="837" y="1161"/>
                    </a:lnTo>
                    <a:lnTo>
                      <a:pt x="837" y="1156"/>
                    </a:lnTo>
                    <a:lnTo>
                      <a:pt x="832" y="1142"/>
                    </a:lnTo>
                    <a:lnTo>
                      <a:pt x="823" y="1142"/>
                    </a:lnTo>
                    <a:lnTo>
                      <a:pt x="832" y="1142"/>
                    </a:lnTo>
                    <a:lnTo>
                      <a:pt x="832" y="1123"/>
                    </a:lnTo>
                    <a:lnTo>
                      <a:pt x="832" y="1123"/>
                    </a:lnTo>
                    <a:lnTo>
                      <a:pt x="832" y="1123"/>
                    </a:lnTo>
                    <a:lnTo>
                      <a:pt x="828" y="1105"/>
                    </a:lnTo>
                    <a:lnTo>
                      <a:pt x="818" y="1105"/>
                    </a:lnTo>
                    <a:lnTo>
                      <a:pt x="828" y="1105"/>
                    </a:lnTo>
                    <a:lnTo>
                      <a:pt x="828" y="1086"/>
                    </a:lnTo>
                    <a:lnTo>
                      <a:pt x="828" y="1048"/>
                    </a:lnTo>
                    <a:lnTo>
                      <a:pt x="828" y="1006"/>
                    </a:lnTo>
                    <a:lnTo>
                      <a:pt x="832" y="968"/>
                    </a:lnTo>
                    <a:lnTo>
                      <a:pt x="832" y="931"/>
                    </a:lnTo>
                    <a:lnTo>
                      <a:pt x="837" y="902"/>
                    </a:lnTo>
                    <a:lnTo>
                      <a:pt x="837" y="879"/>
                    </a:lnTo>
                    <a:lnTo>
                      <a:pt x="837" y="874"/>
                    </a:lnTo>
                    <a:lnTo>
                      <a:pt x="837" y="874"/>
                    </a:lnTo>
                    <a:lnTo>
                      <a:pt x="837" y="874"/>
                    </a:lnTo>
                    <a:lnTo>
                      <a:pt x="832" y="865"/>
                    </a:lnTo>
                    <a:lnTo>
                      <a:pt x="828" y="855"/>
                    </a:lnTo>
                    <a:lnTo>
                      <a:pt x="823" y="846"/>
                    </a:lnTo>
                    <a:lnTo>
                      <a:pt x="818" y="841"/>
                    </a:lnTo>
                    <a:lnTo>
                      <a:pt x="818" y="841"/>
                    </a:lnTo>
                    <a:lnTo>
                      <a:pt x="809" y="837"/>
                    </a:lnTo>
                    <a:lnTo>
                      <a:pt x="799" y="832"/>
                    </a:lnTo>
                    <a:lnTo>
                      <a:pt x="795" y="837"/>
                    </a:lnTo>
                    <a:lnTo>
                      <a:pt x="799" y="832"/>
                    </a:lnTo>
                    <a:lnTo>
                      <a:pt x="790" y="822"/>
                    </a:lnTo>
                    <a:lnTo>
                      <a:pt x="790" y="822"/>
                    </a:lnTo>
                    <a:lnTo>
                      <a:pt x="785" y="822"/>
                    </a:lnTo>
                    <a:lnTo>
                      <a:pt x="776" y="822"/>
                    </a:lnTo>
                    <a:lnTo>
                      <a:pt x="776" y="827"/>
                    </a:lnTo>
                    <a:lnTo>
                      <a:pt x="781" y="822"/>
                    </a:lnTo>
                    <a:lnTo>
                      <a:pt x="771" y="818"/>
                    </a:lnTo>
                    <a:lnTo>
                      <a:pt x="762" y="813"/>
                    </a:lnTo>
                    <a:lnTo>
                      <a:pt x="762" y="813"/>
                    </a:lnTo>
                    <a:lnTo>
                      <a:pt x="757" y="813"/>
                    </a:lnTo>
                    <a:lnTo>
                      <a:pt x="748" y="813"/>
                    </a:lnTo>
                    <a:lnTo>
                      <a:pt x="733" y="813"/>
                    </a:lnTo>
                    <a:lnTo>
                      <a:pt x="733" y="813"/>
                    </a:lnTo>
                    <a:lnTo>
                      <a:pt x="733" y="813"/>
                    </a:lnTo>
                    <a:lnTo>
                      <a:pt x="724" y="818"/>
                    </a:lnTo>
                    <a:lnTo>
                      <a:pt x="715" y="822"/>
                    </a:lnTo>
                    <a:lnTo>
                      <a:pt x="705" y="827"/>
                    </a:lnTo>
                    <a:lnTo>
                      <a:pt x="701" y="827"/>
                    </a:lnTo>
                    <a:lnTo>
                      <a:pt x="701" y="832"/>
                    </a:lnTo>
                    <a:lnTo>
                      <a:pt x="696" y="841"/>
                    </a:lnTo>
                    <a:lnTo>
                      <a:pt x="701" y="841"/>
                    </a:lnTo>
                    <a:lnTo>
                      <a:pt x="701" y="837"/>
                    </a:lnTo>
                    <a:lnTo>
                      <a:pt x="691" y="841"/>
                    </a:lnTo>
                    <a:lnTo>
                      <a:pt x="682" y="846"/>
                    </a:lnTo>
                    <a:lnTo>
                      <a:pt x="672" y="851"/>
                    </a:lnTo>
                    <a:lnTo>
                      <a:pt x="658" y="855"/>
                    </a:lnTo>
                    <a:lnTo>
                      <a:pt x="658" y="860"/>
                    </a:lnTo>
                    <a:lnTo>
                      <a:pt x="658" y="855"/>
                    </a:lnTo>
                    <a:lnTo>
                      <a:pt x="644" y="855"/>
                    </a:lnTo>
                    <a:lnTo>
                      <a:pt x="630" y="855"/>
                    </a:lnTo>
                    <a:lnTo>
                      <a:pt x="616" y="855"/>
                    </a:lnTo>
                    <a:lnTo>
                      <a:pt x="616" y="860"/>
                    </a:lnTo>
                    <a:lnTo>
                      <a:pt x="621" y="855"/>
                    </a:lnTo>
                    <a:lnTo>
                      <a:pt x="607" y="851"/>
                    </a:lnTo>
                    <a:lnTo>
                      <a:pt x="592" y="846"/>
                    </a:lnTo>
                    <a:lnTo>
                      <a:pt x="578" y="837"/>
                    </a:lnTo>
                    <a:lnTo>
                      <a:pt x="574" y="841"/>
                    </a:lnTo>
                    <a:lnTo>
                      <a:pt x="578" y="837"/>
                    </a:lnTo>
                    <a:lnTo>
                      <a:pt x="569" y="827"/>
                    </a:lnTo>
                    <a:lnTo>
                      <a:pt x="569" y="827"/>
                    </a:lnTo>
                    <a:lnTo>
                      <a:pt x="569" y="827"/>
                    </a:lnTo>
                    <a:lnTo>
                      <a:pt x="555" y="818"/>
                    </a:lnTo>
                    <a:lnTo>
                      <a:pt x="550" y="822"/>
                    </a:lnTo>
                    <a:lnTo>
                      <a:pt x="559" y="822"/>
                    </a:lnTo>
                    <a:lnTo>
                      <a:pt x="555" y="813"/>
                    </a:lnTo>
                    <a:lnTo>
                      <a:pt x="555" y="813"/>
                    </a:lnTo>
                    <a:lnTo>
                      <a:pt x="550" y="808"/>
                    </a:lnTo>
                    <a:lnTo>
                      <a:pt x="545" y="804"/>
                    </a:lnTo>
                    <a:lnTo>
                      <a:pt x="541" y="808"/>
                    </a:lnTo>
                    <a:lnTo>
                      <a:pt x="550" y="808"/>
                    </a:lnTo>
                    <a:lnTo>
                      <a:pt x="550" y="799"/>
                    </a:lnTo>
                    <a:lnTo>
                      <a:pt x="550" y="799"/>
                    </a:lnTo>
                    <a:lnTo>
                      <a:pt x="545" y="794"/>
                    </a:lnTo>
                    <a:lnTo>
                      <a:pt x="541" y="790"/>
                    </a:lnTo>
                    <a:lnTo>
                      <a:pt x="536" y="794"/>
                    </a:lnTo>
                    <a:lnTo>
                      <a:pt x="545" y="794"/>
                    </a:lnTo>
                    <a:lnTo>
                      <a:pt x="541" y="785"/>
                    </a:lnTo>
                    <a:lnTo>
                      <a:pt x="531" y="785"/>
                    </a:lnTo>
                    <a:lnTo>
                      <a:pt x="541" y="785"/>
                    </a:lnTo>
                    <a:lnTo>
                      <a:pt x="541" y="775"/>
                    </a:lnTo>
                    <a:lnTo>
                      <a:pt x="541" y="766"/>
                    </a:lnTo>
                    <a:lnTo>
                      <a:pt x="541" y="757"/>
                    </a:lnTo>
                    <a:lnTo>
                      <a:pt x="541" y="747"/>
                    </a:lnTo>
                    <a:lnTo>
                      <a:pt x="541" y="733"/>
                    </a:lnTo>
                    <a:lnTo>
                      <a:pt x="541" y="724"/>
                    </a:lnTo>
                    <a:lnTo>
                      <a:pt x="531" y="724"/>
                    </a:lnTo>
                    <a:lnTo>
                      <a:pt x="541" y="728"/>
                    </a:lnTo>
                    <a:lnTo>
                      <a:pt x="545" y="719"/>
                    </a:lnTo>
                    <a:lnTo>
                      <a:pt x="550" y="710"/>
                    </a:lnTo>
                    <a:lnTo>
                      <a:pt x="550" y="710"/>
                    </a:lnTo>
                    <a:lnTo>
                      <a:pt x="550" y="705"/>
                    </a:lnTo>
                    <a:lnTo>
                      <a:pt x="550" y="696"/>
                    </a:lnTo>
                    <a:lnTo>
                      <a:pt x="541" y="696"/>
                    </a:lnTo>
                    <a:lnTo>
                      <a:pt x="545" y="700"/>
                    </a:lnTo>
                    <a:lnTo>
                      <a:pt x="550" y="696"/>
                    </a:lnTo>
                    <a:lnTo>
                      <a:pt x="559" y="686"/>
                    </a:lnTo>
                    <a:lnTo>
                      <a:pt x="569" y="677"/>
                    </a:lnTo>
                    <a:lnTo>
                      <a:pt x="583" y="663"/>
                    </a:lnTo>
                    <a:lnTo>
                      <a:pt x="578" y="658"/>
                    </a:lnTo>
                    <a:lnTo>
                      <a:pt x="583" y="667"/>
                    </a:lnTo>
                    <a:lnTo>
                      <a:pt x="597" y="658"/>
                    </a:lnTo>
                    <a:lnTo>
                      <a:pt x="611" y="653"/>
                    </a:lnTo>
                    <a:lnTo>
                      <a:pt x="625" y="649"/>
                    </a:lnTo>
                    <a:lnTo>
                      <a:pt x="621" y="639"/>
                    </a:lnTo>
                    <a:lnTo>
                      <a:pt x="621" y="649"/>
                    </a:lnTo>
                    <a:lnTo>
                      <a:pt x="635" y="649"/>
                    </a:lnTo>
                    <a:lnTo>
                      <a:pt x="654" y="649"/>
                    </a:lnTo>
                    <a:lnTo>
                      <a:pt x="668" y="649"/>
                    </a:lnTo>
                    <a:lnTo>
                      <a:pt x="668" y="639"/>
                    </a:lnTo>
                    <a:lnTo>
                      <a:pt x="668" y="649"/>
                    </a:lnTo>
                    <a:lnTo>
                      <a:pt x="682" y="653"/>
                    </a:lnTo>
                    <a:lnTo>
                      <a:pt x="696" y="658"/>
                    </a:lnTo>
                    <a:lnTo>
                      <a:pt x="696" y="649"/>
                    </a:lnTo>
                    <a:lnTo>
                      <a:pt x="691" y="653"/>
                    </a:lnTo>
                    <a:lnTo>
                      <a:pt x="701" y="663"/>
                    </a:lnTo>
                    <a:lnTo>
                      <a:pt x="705" y="667"/>
                    </a:lnTo>
                    <a:lnTo>
                      <a:pt x="705" y="667"/>
                    </a:lnTo>
                    <a:lnTo>
                      <a:pt x="715" y="672"/>
                    </a:lnTo>
                    <a:lnTo>
                      <a:pt x="715" y="663"/>
                    </a:lnTo>
                    <a:lnTo>
                      <a:pt x="710" y="667"/>
                    </a:lnTo>
                    <a:lnTo>
                      <a:pt x="715" y="677"/>
                    </a:lnTo>
                    <a:lnTo>
                      <a:pt x="715" y="677"/>
                    </a:lnTo>
                    <a:lnTo>
                      <a:pt x="719" y="681"/>
                    </a:lnTo>
                    <a:lnTo>
                      <a:pt x="729" y="686"/>
                    </a:lnTo>
                    <a:lnTo>
                      <a:pt x="729" y="677"/>
                    </a:lnTo>
                    <a:lnTo>
                      <a:pt x="724" y="681"/>
                    </a:lnTo>
                    <a:lnTo>
                      <a:pt x="729" y="686"/>
                    </a:lnTo>
                    <a:lnTo>
                      <a:pt x="733" y="691"/>
                    </a:lnTo>
                    <a:lnTo>
                      <a:pt x="733" y="691"/>
                    </a:lnTo>
                    <a:lnTo>
                      <a:pt x="743" y="691"/>
                    </a:lnTo>
                    <a:lnTo>
                      <a:pt x="743" y="681"/>
                    </a:lnTo>
                    <a:lnTo>
                      <a:pt x="743" y="691"/>
                    </a:lnTo>
                    <a:lnTo>
                      <a:pt x="752" y="696"/>
                    </a:lnTo>
                    <a:lnTo>
                      <a:pt x="762" y="700"/>
                    </a:lnTo>
                    <a:lnTo>
                      <a:pt x="762" y="700"/>
                    </a:lnTo>
                    <a:lnTo>
                      <a:pt x="762" y="700"/>
                    </a:lnTo>
                    <a:lnTo>
                      <a:pt x="771" y="700"/>
                    </a:lnTo>
                    <a:lnTo>
                      <a:pt x="781" y="700"/>
                    </a:lnTo>
                    <a:lnTo>
                      <a:pt x="790" y="700"/>
                    </a:lnTo>
                    <a:lnTo>
                      <a:pt x="799" y="700"/>
                    </a:lnTo>
                    <a:lnTo>
                      <a:pt x="804" y="700"/>
                    </a:lnTo>
                    <a:lnTo>
                      <a:pt x="804" y="700"/>
                    </a:lnTo>
                    <a:lnTo>
                      <a:pt x="813" y="696"/>
                    </a:lnTo>
                    <a:lnTo>
                      <a:pt x="809" y="686"/>
                    </a:lnTo>
                    <a:lnTo>
                      <a:pt x="809" y="696"/>
                    </a:lnTo>
                    <a:lnTo>
                      <a:pt x="818" y="696"/>
                    </a:lnTo>
                    <a:lnTo>
                      <a:pt x="823" y="696"/>
                    </a:lnTo>
                    <a:lnTo>
                      <a:pt x="823" y="696"/>
                    </a:lnTo>
                    <a:lnTo>
                      <a:pt x="832" y="691"/>
                    </a:lnTo>
                    <a:lnTo>
                      <a:pt x="842" y="686"/>
                    </a:lnTo>
                    <a:lnTo>
                      <a:pt x="851" y="681"/>
                    </a:lnTo>
                    <a:lnTo>
                      <a:pt x="851" y="681"/>
                    </a:lnTo>
                    <a:lnTo>
                      <a:pt x="851" y="677"/>
                    </a:lnTo>
                    <a:lnTo>
                      <a:pt x="860" y="667"/>
                    </a:lnTo>
                    <a:lnTo>
                      <a:pt x="865" y="667"/>
                    </a:lnTo>
                    <a:lnTo>
                      <a:pt x="865" y="663"/>
                    </a:lnTo>
                    <a:lnTo>
                      <a:pt x="865" y="658"/>
                    </a:lnTo>
                    <a:lnTo>
                      <a:pt x="856" y="658"/>
                    </a:lnTo>
                    <a:lnTo>
                      <a:pt x="856" y="667"/>
                    </a:lnTo>
                    <a:lnTo>
                      <a:pt x="860" y="667"/>
                    </a:lnTo>
                    <a:lnTo>
                      <a:pt x="865" y="667"/>
                    </a:lnTo>
                    <a:lnTo>
                      <a:pt x="870" y="663"/>
                    </a:lnTo>
                    <a:lnTo>
                      <a:pt x="875" y="653"/>
                    </a:lnTo>
                    <a:lnTo>
                      <a:pt x="875" y="653"/>
                    </a:lnTo>
                    <a:lnTo>
                      <a:pt x="875" y="649"/>
                    </a:lnTo>
                    <a:lnTo>
                      <a:pt x="875" y="644"/>
                    </a:lnTo>
                    <a:lnTo>
                      <a:pt x="865" y="644"/>
                    </a:lnTo>
                    <a:lnTo>
                      <a:pt x="875" y="649"/>
                    </a:lnTo>
                    <a:lnTo>
                      <a:pt x="879" y="634"/>
                    </a:lnTo>
                    <a:lnTo>
                      <a:pt x="879" y="634"/>
                    </a:lnTo>
                    <a:lnTo>
                      <a:pt x="879" y="630"/>
                    </a:lnTo>
                    <a:lnTo>
                      <a:pt x="879" y="611"/>
                    </a:lnTo>
                    <a:lnTo>
                      <a:pt x="879" y="592"/>
                    </a:lnTo>
                    <a:lnTo>
                      <a:pt x="879" y="573"/>
                    </a:lnTo>
                    <a:lnTo>
                      <a:pt x="879" y="554"/>
                    </a:lnTo>
                    <a:lnTo>
                      <a:pt x="875" y="531"/>
                    </a:lnTo>
                    <a:lnTo>
                      <a:pt x="870" y="507"/>
                    </a:lnTo>
                    <a:lnTo>
                      <a:pt x="875" y="531"/>
                    </a:lnTo>
                    <a:lnTo>
                      <a:pt x="865" y="489"/>
                    </a:lnTo>
                    <a:lnTo>
                      <a:pt x="856" y="451"/>
                    </a:lnTo>
                    <a:lnTo>
                      <a:pt x="846" y="413"/>
                    </a:lnTo>
                    <a:lnTo>
                      <a:pt x="837" y="385"/>
                    </a:lnTo>
                    <a:lnTo>
                      <a:pt x="832" y="376"/>
                    </a:lnTo>
                    <a:lnTo>
                      <a:pt x="828" y="381"/>
                    </a:lnTo>
                    <a:lnTo>
                      <a:pt x="804" y="385"/>
                    </a:lnTo>
                    <a:lnTo>
                      <a:pt x="781" y="385"/>
                    </a:lnTo>
                    <a:lnTo>
                      <a:pt x="757" y="390"/>
                    </a:lnTo>
                    <a:lnTo>
                      <a:pt x="733" y="390"/>
                    </a:lnTo>
                    <a:lnTo>
                      <a:pt x="710" y="390"/>
                    </a:lnTo>
                    <a:lnTo>
                      <a:pt x="686" y="390"/>
                    </a:lnTo>
                    <a:lnTo>
                      <a:pt x="663" y="385"/>
                    </a:lnTo>
                    <a:lnTo>
                      <a:pt x="644" y="385"/>
                    </a:lnTo>
                    <a:lnTo>
                      <a:pt x="602" y="381"/>
                    </a:lnTo>
                    <a:lnTo>
                      <a:pt x="574" y="376"/>
                    </a:lnTo>
                    <a:lnTo>
                      <a:pt x="550" y="371"/>
                    </a:lnTo>
                    <a:lnTo>
                      <a:pt x="550" y="376"/>
                    </a:lnTo>
                    <a:lnTo>
                      <a:pt x="555" y="371"/>
                    </a:lnTo>
                    <a:lnTo>
                      <a:pt x="550" y="366"/>
                    </a:lnTo>
                    <a:lnTo>
                      <a:pt x="550" y="366"/>
                    </a:lnTo>
                    <a:lnTo>
                      <a:pt x="545" y="366"/>
                    </a:lnTo>
                    <a:lnTo>
                      <a:pt x="527" y="362"/>
                    </a:lnTo>
                    <a:lnTo>
                      <a:pt x="527" y="366"/>
                    </a:lnTo>
                    <a:lnTo>
                      <a:pt x="531" y="362"/>
                    </a:lnTo>
                    <a:lnTo>
                      <a:pt x="517" y="352"/>
                    </a:lnTo>
                    <a:lnTo>
                      <a:pt x="503" y="343"/>
                    </a:lnTo>
                    <a:lnTo>
                      <a:pt x="498" y="348"/>
                    </a:lnTo>
                    <a:lnTo>
                      <a:pt x="508" y="348"/>
                    </a:lnTo>
                    <a:lnTo>
                      <a:pt x="498" y="334"/>
                    </a:lnTo>
                    <a:lnTo>
                      <a:pt x="489" y="319"/>
                    </a:lnTo>
                    <a:lnTo>
                      <a:pt x="484" y="310"/>
                    </a:lnTo>
                    <a:lnTo>
                      <a:pt x="480" y="296"/>
                    </a:lnTo>
                    <a:lnTo>
                      <a:pt x="475" y="287"/>
                    </a:lnTo>
                    <a:lnTo>
                      <a:pt x="465" y="287"/>
                    </a:lnTo>
                    <a:lnTo>
                      <a:pt x="475" y="287"/>
                    </a:lnTo>
                    <a:lnTo>
                      <a:pt x="475" y="272"/>
                    </a:lnTo>
                    <a:lnTo>
                      <a:pt x="465" y="272"/>
                    </a:lnTo>
                    <a:lnTo>
                      <a:pt x="475" y="277"/>
                    </a:lnTo>
                    <a:lnTo>
                      <a:pt x="480" y="263"/>
                    </a:lnTo>
                    <a:lnTo>
                      <a:pt x="480" y="263"/>
                    </a:lnTo>
                    <a:lnTo>
                      <a:pt x="480" y="258"/>
                    </a:lnTo>
                    <a:lnTo>
                      <a:pt x="480" y="244"/>
                    </a:lnTo>
                    <a:lnTo>
                      <a:pt x="470" y="244"/>
                    </a:lnTo>
                    <a:lnTo>
                      <a:pt x="480" y="249"/>
                    </a:lnTo>
                    <a:lnTo>
                      <a:pt x="484" y="239"/>
                    </a:lnTo>
                    <a:lnTo>
                      <a:pt x="489" y="230"/>
                    </a:lnTo>
                    <a:lnTo>
                      <a:pt x="480" y="225"/>
                    </a:lnTo>
                    <a:lnTo>
                      <a:pt x="484" y="230"/>
                    </a:lnTo>
                    <a:lnTo>
                      <a:pt x="494" y="221"/>
                    </a:lnTo>
                    <a:lnTo>
                      <a:pt x="498" y="221"/>
                    </a:lnTo>
                    <a:lnTo>
                      <a:pt x="498" y="221"/>
                    </a:lnTo>
                    <a:lnTo>
                      <a:pt x="503" y="211"/>
                    </a:lnTo>
                    <a:lnTo>
                      <a:pt x="494" y="207"/>
                    </a:lnTo>
                    <a:lnTo>
                      <a:pt x="498" y="211"/>
                    </a:lnTo>
                    <a:lnTo>
                      <a:pt x="508" y="202"/>
                    </a:lnTo>
                    <a:lnTo>
                      <a:pt x="517" y="192"/>
                    </a:lnTo>
                    <a:lnTo>
                      <a:pt x="522" y="192"/>
                    </a:lnTo>
                    <a:lnTo>
                      <a:pt x="522" y="192"/>
                    </a:lnTo>
                    <a:lnTo>
                      <a:pt x="527" y="183"/>
                    </a:lnTo>
                    <a:lnTo>
                      <a:pt x="536" y="169"/>
                    </a:lnTo>
                    <a:lnTo>
                      <a:pt x="541" y="155"/>
                    </a:lnTo>
                    <a:lnTo>
                      <a:pt x="545" y="141"/>
                    </a:lnTo>
                    <a:lnTo>
                      <a:pt x="545" y="141"/>
                    </a:lnTo>
                    <a:lnTo>
                      <a:pt x="545" y="136"/>
                    </a:lnTo>
                    <a:lnTo>
                      <a:pt x="545" y="117"/>
                    </a:lnTo>
                    <a:lnTo>
                      <a:pt x="545" y="103"/>
                    </a:lnTo>
                    <a:lnTo>
                      <a:pt x="545" y="84"/>
                    </a:lnTo>
                    <a:lnTo>
                      <a:pt x="545" y="84"/>
                    </a:lnTo>
                    <a:lnTo>
                      <a:pt x="545" y="84"/>
                    </a:lnTo>
                    <a:lnTo>
                      <a:pt x="541" y="70"/>
                    </a:lnTo>
                    <a:lnTo>
                      <a:pt x="536" y="51"/>
                    </a:lnTo>
                    <a:lnTo>
                      <a:pt x="536" y="51"/>
                    </a:lnTo>
                    <a:lnTo>
                      <a:pt x="531" y="47"/>
                    </a:lnTo>
                    <a:lnTo>
                      <a:pt x="527" y="42"/>
                    </a:lnTo>
                    <a:lnTo>
                      <a:pt x="522" y="37"/>
                    </a:lnTo>
                    <a:lnTo>
                      <a:pt x="512" y="28"/>
                    </a:lnTo>
                    <a:lnTo>
                      <a:pt x="508" y="23"/>
                    </a:lnTo>
                    <a:lnTo>
                      <a:pt x="503" y="19"/>
                    </a:lnTo>
                    <a:lnTo>
                      <a:pt x="503" y="19"/>
                    </a:lnTo>
                    <a:lnTo>
                      <a:pt x="503" y="19"/>
                    </a:lnTo>
                    <a:lnTo>
                      <a:pt x="494" y="14"/>
                    </a:lnTo>
                    <a:lnTo>
                      <a:pt x="484" y="9"/>
                    </a:lnTo>
                    <a:lnTo>
                      <a:pt x="475" y="4"/>
                    </a:lnTo>
                    <a:lnTo>
                      <a:pt x="461" y="0"/>
                    </a:lnTo>
                    <a:lnTo>
                      <a:pt x="461" y="0"/>
                    </a:lnTo>
                    <a:lnTo>
                      <a:pt x="456" y="0"/>
                    </a:lnTo>
                    <a:lnTo>
                      <a:pt x="447" y="0"/>
                    </a:lnTo>
                    <a:lnTo>
                      <a:pt x="433" y="0"/>
                    </a:lnTo>
                    <a:lnTo>
                      <a:pt x="418" y="0"/>
                    </a:lnTo>
                    <a:lnTo>
                      <a:pt x="409" y="0"/>
                    </a:lnTo>
                    <a:lnTo>
                      <a:pt x="395" y="0"/>
                    </a:lnTo>
                    <a:lnTo>
                      <a:pt x="386" y="0"/>
                    </a:lnTo>
                    <a:lnTo>
                      <a:pt x="386" y="0"/>
                    </a:lnTo>
                    <a:lnTo>
                      <a:pt x="386" y="0"/>
                    </a:lnTo>
                    <a:lnTo>
                      <a:pt x="376" y="4"/>
                    </a:lnTo>
                    <a:lnTo>
                      <a:pt x="376" y="9"/>
                    </a:lnTo>
                    <a:lnTo>
                      <a:pt x="376" y="4"/>
                    </a:lnTo>
                    <a:lnTo>
                      <a:pt x="367" y="4"/>
                    </a:lnTo>
                    <a:lnTo>
                      <a:pt x="367" y="4"/>
                    </a:lnTo>
                    <a:lnTo>
                      <a:pt x="367" y="4"/>
                    </a:lnTo>
                    <a:lnTo>
                      <a:pt x="357" y="9"/>
                    </a:lnTo>
                    <a:lnTo>
                      <a:pt x="348" y="14"/>
                    </a:lnTo>
                    <a:lnTo>
                      <a:pt x="338" y="19"/>
                    </a:lnTo>
                    <a:lnTo>
                      <a:pt x="338" y="19"/>
                    </a:lnTo>
                    <a:lnTo>
                      <a:pt x="334" y="19"/>
                    </a:lnTo>
                    <a:lnTo>
                      <a:pt x="329" y="23"/>
                    </a:lnTo>
                    <a:lnTo>
                      <a:pt x="334" y="28"/>
                    </a:lnTo>
                    <a:lnTo>
                      <a:pt x="334" y="23"/>
                    </a:lnTo>
                    <a:lnTo>
                      <a:pt x="324" y="28"/>
                    </a:lnTo>
                    <a:lnTo>
                      <a:pt x="324" y="28"/>
                    </a:lnTo>
                    <a:lnTo>
                      <a:pt x="320" y="28"/>
                    </a:lnTo>
                    <a:lnTo>
                      <a:pt x="315" y="33"/>
                    </a:lnTo>
                    <a:lnTo>
                      <a:pt x="315" y="37"/>
                    </a:lnTo>
                    <a:lnTo>
                      <a:pt x="315" y="37"/>
                    </a:lnTo>
                    <a:lnTo>
                      <a:pt x="310" y="47"/>
                    </a:lnTo>
                    <a:lnTo>
                      <a:pt x="315" y="47"/>
                    </a:lnTo>
                    <a:lnTo>
                      <a:pt x="310" y="42"/>
                    </a:lnTo>
                    <a:lnTo>
                      <a:pt x="301" y="51"/>
                    </a:lnTo>
                    <a:lnTo>
                      <a:pt x="301" y="56"/>
                    </a:lnTo>
                    <a:lnTo>
                      <a:pt x="301" y="56"/>
                    </a:lnTo>
                    <a:lnTo>
                      <a:pt x="296" y="75"/>
                    </a:lnTo>
                    <a:lnTo>
                      <a:pt x="291" y="89"/>
                    </a:lnTo>
                    <a:lnTo>
                      <a:pt x="291" y="89"/>
                    </a:lnTo>
                    <a:lnTo>
                      <a:pt x="291" y="89"/>
                    </a:lnTo>
                    <a:lnTo>
                      <a:pt x="291" y="103"/>
                    </a:lnTo>
                    <a:lnTo>
                      <a:pt x="291" y="117"/>
                    </a:lnTo>
                    <a:lnTo>
                      <a:pt x="291" y="136"/>
                    </a:lnTo>
                    <a:lnTo>
                      <a:pt x="291" y="141"/>
                    </a:lnTo>
                    <a:lnTo>
                      <a:pt x="291" y="141"/>
                    </a:lnTo>
                    <a:lnTo>
                      <a:pt x="296" y="155"/>
                    </a:lnTo>
                    <a:lnTo>
                      <a:pt x="301" y="169"/>
                    </a:lnTo>
                    <a:lnTo>
                      <a:pt x="301" y="169"/>
                    </a:lnTo>
                    <a:lnTo>
                      <a:pt x="301" y="169"/>
                    </a:lnTo>
                    <a:lnTo>
                      <a:pt x="310" y="178"/>
                    </a:lnTo>
                    <a:lnTo>
                      <a:pt x="315" y="174"/>
                    </a:lnTo>
                    <a:lnTo>
                      <a:pt x="310" y="178"/>
                    </a:lnTo>
                    <a:lnTo>
                      <a:pt x="320" y="192"/>
                    </a:lnTo>
                    <a:lnTo>
                      <a:pt x="320" y="192"/>
                    </a:lnTo>
                    <a:lnTo>
                      <a:pt x="320" y="192"/>
                    </a:lnTo>
                    <a:lnTo>
                      <a:pt x="329" y="202"/>
                    </a:lnTo>
                    <a:lnTo>
                      <a:pt x="334" y="197"/>
                    </a:lnTo>
                    <a:lnTo>
                      <a:pt x="329" y="202"/>
                    </a:lnTo>
                    <a:lnTo>
                      <a:pt x="338" y="216"/>
                    </a:lnTo>
                    <a:lnTo>
                      <a:pt x="343" y="230"/>
                    </a:lnTo>
                    <a:lnTo>
                      <a:pt x="348" y="239"/>
                    </a:lnTo>
                    <a:lnTo>
                      <a:pt x="353" y="254"/>
                    </a:lnTo>
                    <a:lnTo>
                      <a:pt x="357" y="249"/>
                    </a:lnTo>
                    <a:lnTo>
                      <a:pt x="353" y="249"/>
                    </a:lnTo>
                    <a:lnTo>
                      <a:pt x="353" y="263"/>
                    </a:lnTo>
                    <a:lnTo>
                      <a:pt x="357" y="263"/>
                    </a:lnTo>
                    <a:lnTo>
                      <a:pt x="353" y="263"/>
                    </a:lnTo>
                    <a:lnTo>
                      <a:pt x="348" y="277"/>
                    </a:lnTo>
                    <a:lnTo>
                      <a:pt x="348" y="277"/>
                    </a:lnTo>
                    <a:lnTo>
                      <a:pt x="348" y="277"/>
                    </a:lnTo>
                    <a:lnTo>
                      <a:pt x="348" y="291"/>
                    </a:lnTo>
                    <a:lnTo>
                      <a:pt x="353" y="291"/>
                    </a:lnTo>
                    <a:lnTo>
                      <a:pt x="348" y="291"/>
                    </a:lnTo>
                    <a:lnTo>
                      <a:pt x="338" y="305"/>
                    </a:lnTo>
                    <a:lnTo>
                      <a:pt x="334" y="315"/>
                    </a:lnTo>
                    <a:lnTo>
                      <a:pt x="324" y="329"/>
                    </a:lnTo>
                    <a:lnTo>
                      <a:pt x="329" y="329"/>
                    </a:lnTo>
                    <a:lnTo>
                      <a:pt x="329" y="324"/>
                    </a:lnTo>
                    <a:lnTo>
                      <a:pt x="315" y="334"/>
                    </a:lnTo>
                    <a:lnTo>
                      <a:pt x="301" y="343"/>
                    </a:lnTo>
                    <a:lnTo>
                      <a:pt x="287" y="352"/>
                    </a:lnTo>
                    <a:lnTo>
                      <a:pt x="263" y="362"/>
                    </a:lnTo>
                    <a:lnTo>
                      <a:pt x="263" y="366"/>
                    </a:lnTo>
                    <a:lnTo>
                      <a:pt x="263" y="362"/>
                    </a:lnTo>
                    <a:lnTo>
                      <a:pt x="244" y="366"/>
                    </a:lnTo>
                    <a:lnTo>
                      <a:pt x="230" y="366"/>
                    </a:lnTo>
                    <a:lnTo>
                      <a:pt x="207" y="366"/>
                    </a:lnTo>
                    <a:lnTo>
                      <a:pt x="183" y="366"/>
                    </a:lnTo>
                    <a:lnTo>
                      <a:pt x="155" y="366"/>
                    </a:lnTo>
                    <a:lnTo>
                      <a:pt x="127" y="366"/>
                    </a:lnTo>
                    <a:lnTo>
                      <a:pt x="94" y="366"/>
                    </a:lnTo>
                    <a:lnTo>
                      <a:pt x="61" y="366"/>
                    </a:lnTo>
                    <a:lnTo>
                      <a:pt x="28" y="366"/>
                    </a:lnTo>
                    <a:lnTo>
                      <a:pt x="23" y="366"/>
                    </a:lnTo>
                    <a:lnTo>
                      <a:pt x="23" y="371"/>
                    </a:lnTo>
                    <a:lnTo>
                      <a:pt x="19" y="395"/>
                    </a:lnTo>
                    <a:lnTo>
                      <a:pt x="14" y="428"/>
                    </a:lnTo>
                    <a:lnTo>
                      <a:pt x="9" y="465"/>
                    </a:lnTo>
                    <a:lnTo>
                      <a:pt x="5" y="503"/>
                    </a:lnTo>
                    <a:lnTo>
                      <a:pt x="0" y="540"/>
                    </a:lnTo>
                    <a:lnTo>
                      <a:pt x="0" y="573"/>
                    </a:lnTo>
                    <a:lnTo>
                      <a:pt x="0" y="601"/>
                    </a:lnTo>
                    <a:lnTo>
                      <a:pt x="0" y="620"/>
                    </a:lnTo>
                    <a:lnTo>
                      <a:pt x="0" y="625"/>
                    </a:lnTo>
                    <a:lnTo>
                      <a:pt x="0" y="625"/>
                    </a:lnTo>
                    <a:lnTo>
                      <a:pt x="5" y="634"/>
                    </a:lnTo>
                    <a:lnTo>
                      <a:pt x="9" y="644"/>
                    </a:lnTo>
                    <a:lnTo>
                      <a:pt x="9" y="644"/>
                    </a:lnTo>
                    <a:lnTo>
                      <a:pt x="9" y="644"/>
                    </a:lnTo>
                    <a:lnTo>
                      <a:pt x="14" y="649"/>
                    </a:lnTo>
                    <a:lnTo>
                      <a:pt x="23" y="658"/>
                    </a:lnTo>
                    <a:lnTo>
                      <a:pt x="28" y="663"/>
                    </a:lnTo>
                    <a:lnTo>
                      <a:pt x="28" y="663"/>
                    </a:lnTo>
                    <a:lnTo>
                      <a:pt x="38" y="667"/>
                    </a:lnTo>
                    <a:lnTo>
                      <a:pt x="47" y="672"/>
                    </a:lnTo>
                    <a:lnTo>
                      <a:pt x="61" y="677"/>
                    </a:lnTo>
                    <a:lnTo>
                      <a:pt x="70" y="681"/>
                    </a:lnTo>
                    <a:lnTo>
                      <a:pt x="70" y="681"/>
                    </a:lnTo>
                    <a:lnTo>
                      <a:pt x="70" y="681"/>
                    </a:lnTo>
                    <a:lnTo>
                      <a:pt x="85" y="681"/>
                    </a:lnTo>
                    <a:lnTo>
                      <a:pt x="99" y="681"/>
                    </a:lnTo>
                    <a:lnTo>
                      <a:pt x="108" y="681"/>
                    </a:lnTo>
                    <a:lnTo>
                      <a:pt x="122" y="681"/>
                    </a:lnTo>
                    <a:lnTo>
                      <a:pt x="122" y="681"/>
                    </a:lnTo>
                    <a:lnTo>
                      <a:pt x="127" y="681"/>
                    </a:lnTo>
                    <a:lnTo>
                      <a:pt x="141" y="677"/>
                    </a:lnTo>
                    <a:lnTo>
                      <a:pt x="150" y="672"/>
                    </a:lnTo>
                    <a:lnTo>
                      <a:pt x="160" y="667"/>
                    </a:lnTo>
                    <a:lnTo>
                      <a:pt x="160" y="667"/>
                    </a:lnTo>
                    <a:lnTo>
                      <a:pt x="160" y="663"/>
                    </a:lnTo>
                    <a:lnTo>
                      <a:pt x="169" y="653"/>
                    </a:lnTo>
                    <a:lnTo>
                      <a:pt x="165" y="649"/>
                    </a:lnTo>
                    <a:lnTo>
                      <a:pt x="169" y="658"/>
                    </a:lnTo>
                    <a:lnTo>
                      <a:pt x="179" y="653"/>
                    </a:lnTo>
                    <a:lnTo>
                      <a:pt x="179" y="653"/>
                    </a:lnTo>
                    <a:lnTo>
                      <a:pt x="179" y="649"/>
                    </a:lnTo>
                    <a:lnTo>
                      <a:pt x="188" y="639"/>
                    </a:lnTo>
                    <a:lnTo>
                      <a:pt x="183" y="634"/>
                    </a:lnTo>
                    <a:lnTo>
                      <a:pt x="183" y="644"/>
                    </a:lnTo>
                    <a:lnTo>
                      <a:pt x="197" y="644"/>
                    </a:lnTo>
                    <a:lnTo>
                      <a:pt x="197" y="644"/>
                    </a:lnTo>
                    <a:lnTo>
                      <a:pt x="202" y="644"/>
                    </a:lnTo>
                    <a:lnTo>
                      <a:pt x="212" y="639"/>
                    </a:lnTo>
                    <a:lnTo>
                      <a:pt x="207" y="630"/>
                    </a:lnTo>
                    <a:lnTo>
                      <a:pt x="207" y="639"/>
                    </a:lnTo>
                    <a:lnTo>
                      <a:pt x="221" y="639"/>
                    </a:lnTo>
                    <a:lnTo>
                      <a:pt x="235" y="639"/>
                    </a:lnTo>
                    <a:lnTo>
                      <a:pt x="235" y="630"/>
                    </a:lnTo>
                    <a:lnTo>
                      <a:pt x="235" y="639"/>
                    </a:lnTo>
                    <a:lnTo>
                      <a:pt x="249" y="644"/>
                    </a:lnTo>
                    <a:lnTo>
                      <a:pt x="263" y="649"/>
                    </a:lnTo>
                    <a:lnTo>
                      <a:pt x="273" y="653"/>
                    </a:lnTo>
                    <a:lnTo>
                      <a:pt x="287" y="663"/>
                    </a:lnTo>
                    <a:lnTo>
                      <a:pt x="287" y="653"/>
                    </a:lnTo>
                    <a:lnTo>
                      <a:pt x="282" y="658"/>
                    </a:lnTo>
                    <a:lnTo>
                      <a:pt x="291" y="667"/>
                    </a:lnTo>
                    <a:lnTo>
                      <a:pt x="296" y="663"/>
                    </a:lnTo>
                    <a:lnTo>
                      <a:pt x="291" y="667"/>
                    </a:lnTo>
                    <a:lnTo>
                      <a:pt x="301" y="681"/>
                    </a:lnTo>
                    <a:lnTo>
                      <a:pt x="310" y="696"/>
                    </a:lnTo>
                    <a:lnTo>
                      <a:pt x="315" y="710"/>
                    </a:lnTo>
                    <a:lnTo>
                      <a:pt x="320" y="728"/>
                    </a:lnTo>
                    <a:lnTo>
                      <a:pt x="324" y="724"/>
                    </a:lnTo>
                    <a:lnTo>
                      <a:pt x="320" y="724"/>
                    </a:lnTo>
                    <a:lnTo>
                      <a:pt x="320" y="743"/>
                    </a:lnTo>
                    <a:lnTo>
                      <a:pt x="320" y="757"/>
                    </a:lnTo>
                    <a:lnTo>
                      <a:pt x="324" y="757"/>
                    </a:lnTo>
                    <a:lnTo>
                      <a:pt x="320" y="757"/>
                    </a:lnTo>
                    <a:lnTo>
                      <a:pt x="315" y="766"/>
                    </a:lnTo>
                    <a:lnTo>
                      <a:pt x="310" y="780"/>
                    </a:lnTo>
                    <a:lnTo>
                      <a:pt x="315" y="780"/>
                    </a:lnTo>
                    <a:lnTo>
                      <a:pt x="310" y="775"/>
                    </a:lnTo>
                    <a:lnTo>
                      <a:pt x="301" y="785"/>
                    </a:lnTo>
                    <a:lnTo>
                      <a:pt x="291" y="794"/>
                    </a:lnTo>
                    <a:lnTo>
                      <a:pt x="282" y="804"/>
                    </a:lnTo>
                    <a:lnTo>
                      <a:pt x="287" y="808"/>
                    </a:lnTo>
                    <a:lnTo>
                      <a:pt x="287" y="804"/>
                    </a:lnTo>
                    <a:lnTo>
                      <a:pt x="273" y="808"/>
                    </a:lnTo>
                    <a:lnTo>
                      <a:pt x="263" y="813"/>
                    </a:lnTo>
                    <a:lnTo>
                      <a:pt x="249" y="818"/>
                    </a:lnTo>
                    <a:lnTo>
                      <a:pt x="235" y="822"/>
                    </a:lnTo>
                    <a:lnTo>
                      <a:pt x="235" y="827"/>
                    </a:lnTo>
                    <a:lnTo>
                      <a:pt x="235" y="822"/>
                    </a:lnTo>
                    <a:lnTo>
                      <a:pt x="221" y="822"/>
                    </a:lnTo>
                    <a:lnTo>
                      <a:pt x="207" y="822"/>
                    </a:lnTo>
                    <a:lnTo>
                      <a:pt x="207" y="827"/>
                    </a:lnTo>
                    <a:lnTo>
                      <a:pt x="212" y="822"/>
                    </a:lnTo>
                    <a:lnTo>
                      <a:pt x="202" y="818"/>
                    </a:lnTo>
                    <a:lnTo>
                      <a:pt x="188" y="813"/>
                    </a:lnTo>
                    <a:lnTo>
                      <a:pt x="183" y="818"/>
                    </a:lnTo>
                    <a:lnTo>
                      <a:pt x="188" y="813"/>
                    </a:lnTo>
                    <a:lnTo>
                      <a:pt x="179" y="804"/>
                    </a:lnTo>
                    <a:lnTo>
                      <a:pt x="169" y="794"/>
                    </a:lnTo>
                    <a:lnTo>
                      <a:pt x="160" y="785"/>
                    </a:lnTo>
                    <a:lnTo>
                      <a:pt x="160" y="785"/>
                    </a:lnTo>
                    <a:lnTo>
                      <a:pt x="160" y="785"/>
                    </a:lnTo>
                    <a:lnTo>
                      <a:pt x="150" y="780"/>
                    </a:lnTo>
                    <a:lnTo>
                      <a:pt x="141" y="775"/>
                    </a:lnTo>
                    <a:lnTo>
                      <a:pt x="132" y="771"/>
                    </a:lnTo>
                    <a:lnTo>
                      <a:pt x="132" y="771"/>
                    </a:lnTo>
                    <a:lnTo>
                      <a:pt x="127" y="771"/>
                    </a:lnTo>
                    <a:lnTo>
                      <a:pt x="117" y="771"/>
                    </a:lnTo>
                    <a:lnTo>
                      <a:pt x="108" y="771"/>
                    </a:lnTo>
                    <a:lnTo>
                      <a:pt x="94" y="771"/>
                    </a:lnTo>
                    <a:lnTo>
                      <a:pt x="85" y="771"/>
                    </a:lnTo>
                    <a:lnTo>
                      <a:pt x="85" y="771"/>
                    </a:lnTo>
                    <a:lnTo>
                      <a:pt x="80" y="771"/>
                    </a:lnTo>
                    <a:lnTo>
                      <a:pt x="70" y="780"/>
                    </a:lnTo>
                    <a:lnTo>
                      <a:pt x="75" y="785"/>
                    </a:lnTo>
                    <a:lnTo>
                      <a:pt x="75" y="780"/>
                    </a:lnTo>
                    <a:lnTo>
                      <a:pt x="61" y="785"/>
                    </a:lnTo>
                    <a:lnTo>
                      <a:pt x="52" y="790"/>
                    </a:lnTo>
                    <a:lnTo>
                      <a:pt x="52" y="790"/>
                    </a:lnTo>
                    <a:lnTo>
                      <a:pt x="47" y="790"/>
                    </a:lnTo>
                    <a:lnTo>
                      <a:pt x="38" y="799"/>
                    </a:lnTo>
                    <a:lnTo>
                      <a:pt x="28" y="808"/>
                    </a:lnTo>
                    <a:lnTo>
                      <a:pt x="28" y="813"/>
                    </a:lnTo>
                    <a:lnTo>
                      <a:pt x="28" y="813"/>
                    </a:lnTo>
                    <a:lnTo>
                      <a:pt x="23" y="822"/>
                    </a:lnTo>
                    <a:lnTo>
                      <a:pt x="28" y="822"/>
                    </a:lnTo>
                    <a:lnTo>
                      <a:pt x="23" y="818"/>
                    </a:lnTo>
                    <a:lnTo>
                      <a:pt x="14" y="827"/>
                    </a:lnTo>
                    <a:lnTo>
                      <a:pt x="14" y="832"/>
                    </a:lnTo>
                    <a:lnTo>
                      <a:pt x="14" y="832"/>
                    </a:lnTo>
                    <a:lnTo>
                      <a:pt x="9" y="846"/>
                    </a:lnTo>
                    <a:lnTo>
                      <a:pt x="5" y="855"/>
                    </a:lnTo>
                    <a:lnTo>
                      <a:pt x="5" y="855"/>
                    </a:lnTo>
                    <a:lnTo>
                      <a:pt x="5" y="855"/>
                    </a:lnTo>
                    <a:lnTo>
                      <a:pt x="5" y="874"/>
                    </a:lnTo>
                    <a:lnTo>
                      <a:pt x="5" y="888"/>
                    </a:lnTo>
                    <a:lnTo>
                      <a:pt x="5" y="888"/>
                    </a:lnTo>
                    <a:lnTo>
                      <a:pt x="5" y="893"/>
                    </a:lnTo>
                    <a:lnTo>
                      <a:pt x="9" y="912"/>
                    </a:lnTo>
                    <a:lnTo>
                      <a:pt x="14" y="907"/>
                    </a:lnTo>
                    <a:lnTo>
                      <a:pt x="9" y="907"/>
                    </a:lnTo>
                    <a:lnTo>
                      <a:pt x="14" y="949"/>
                    </a:lnTo>
                    <a:lnTo>
                      <a:pt x="23" y="996"/>
                    </a:lnTo>
                    <a:lnTo>
                      <a:pt x="28" y="1020"/>
                    </a:lnTo>
                    <a:lnTo>
                      <a:pt x="28" y="1034"/>
                    </a:lnTo>
                    <a:lnTo>
                      <a:pt x="28" y="1025"/>
                    </a:lnTo>
                    <a:lnTo>
                      <a:pt x="33" y="1043"/>
                    </a:lnTo>
                    <a:lnTo>
                      <a:pt x="38" y="1039"/>
                    </a:lnTo>
                    <a:lnTo>
                      <a:pt x="33" y="1039"/>
                    </a:lnTo>
                    <a:lnTo>
                      <a:pt x="33" y="1062"/>
                    </a:lnTo>
                    <a:lnTo>
                      <a:pt x="38" y="1086"/>
                    </a:lnTo>
                    <a:lnTo>
                      <a:pt x="38" y="1105"/>
                    </a:lnTo>
                    <a:lnTo>
                      <a:pt x="42" y="1105"/>
                    </a:lnTo>
                    <a:lnTo>
                      <a:pt x="38" y="1105"/>
                    </a:lnTo>
                    <a:lnTo>
                      <a:pt x="33" y="1123"/>
                    </a:lnTo>
                    <a:lnTo>
                      <a:pt x="33" y="1123"/>
                    </a:lnTo>
                    <a:lnTo>
                      <a:pt x="33" y="1123"/>
                    </a:lnTo>
                    <a:lnTo>
                      <a:pt x="33" y="1133"/>
                    </a:lnTo>
                    <a:lnTo>
                      <a:pt x="38" y="1133"/>
                    </a:lnTo>
                    <a:lnTo>
                      <a:pt x="33" y="1133"/>
                    </a:lnTo>
                    <a:lnTo>
                      <a:pt x="28" y="1142"/>
                    </a:lnTo>
                    <a:lnTo>
                      <a:pt x="28" y="1142"/>
                    </a:lnTo>
                    <a:lnTo>
                      <a:pt x="28" y="1142"/>
                    </a:lnTo>
                    <a:lnTo>
                      <a:pt x="28" y="1152"/>
                    </a:lnTo>
                    <a:lnTo>
                      <a:pt x="33" y="1152"/>
                    </a:lnTo>
                    <a:lnTo>
                      <a:pt x="28" y="1147"/>
                    </a:lnTo>
                    <a:lnTo>
                      <a:pt x="23" y="1152"/>
                    </a:lnTo>
                    <a:lnTo>
                      <a:pt x="9" y="1166"/>
                    </a:lnTo>
                    <a:lnTo>
                      <a:pt x="28" y="1166"/>
                    </a:lnTo>
                    <a:lnTo>
                      <a:pt x="61" y="1161"/>
                    </a:lnTo>
                    <a:lnTo>
                      <a:pt x="66" y="1156"/>
                    </a:lnTo>
                    <a:lnTo>
                      <a:pt x="66" y="1161"/>
                    </a:lnTo>
                    <a:lnTo>
                      <a:pt x="99" y="1152"/>
                    </a:lnTo>
                    <a:lnTo>
                      <a:pt x="94" y="1142"/>
                    </a:lnTo>
                    <a:lnTo>
                      <a:pt x="94" y="1152"/>
                    </a:lnTo>
                    <a:lnTo>
                      <a:pt x="127" y="1152"/>
                    </a:lnTo>
                    <a:lnTo>
                      <a:pt x="155" y="1147"/>
                    </a:lnTo>
                    <a:lnTo>
                      <a:pt x="188" y="1142"/>
                    </a:lnTo>
                    <a:lnTo>
                      <a:pt x="216" y="1142"/>
                    </a:lnTo>
                    <a:lnTo>
                      <a:pt x="216" y="1133"/>
                    </a:lnTo>
                    <a:lnTo>
                      <a:pt x="216" y="1142"/>
                    </a:lnTo>
                    <a:lnTo>
                      <a:pt x="230" y="1147"/>
                    </a:lnTo>
                    <a:lnTo>
                      <a:pt x="230" y="1147"/>
                    </a:lnTo>
                    <a:lnTo>
                      <a:pt x="230" y="1147"/>
                    </a:lnTo>
                    <a:lnTo>
                      <a:pt x="244" y="1147"/>
                    </a:lnTo>
                    <a:lnTo>
                      <a:pt x="244" y="1137"/>
                    </a:lnTo>
                    <a:lnTo>
                      <a:pt x="244" y="1147"/>
                    </a:lnTo>
                    <a:lnTo>
                      <a:pt x="254" y="1152"/>
                    </a:lnTo>
                    <a:lnTo>
                      <a:pt x="268" y="1156"/>
                    </a:lnTo>
                    <a:lnTo>
                      <a:pt x="259" y="1152"/>
                    </a:lnTo>
                    <a:lnTo>
                      <a:pt x="268" y="1156"/>
                    </a:lnTo>
                    <a:lnTo>
                      <a:pt x="287" y="1161"/>
                    </a:lnTo>
                    <a:close/>
                    <a:moveTo>
                      <a:pt x="268" y="1142"/>
                    </a:moveTo>
                    <a:lnTo>
                      <a:pt x="268" y="1147"/>
                    </a:lnTo>
                    <a:lnTo>
                      <a:pt x="273" y="1142"/>
                    </a:lnTo>
                    <a:lnTo>
                      <a:pt x="259" y="1137"/>
                    </a:lnTo>
                    <a:lnTo>
                      <a:pt x="249" y="1133"/>
                    </a:lnTo>
                    <a:lnTo>
                      <a:pt x="249" y="1133"/>
                    </a:lnTo>
                    <a:lnTo>
                      <a:pt x="244" y="1133"/>
                    </a:lnTo>
                    <a:lnTo>
                      <a:pt x="230" y="1133"/>
                    </a:lnTo>
                    <a:lnTo>
                      <a:pt x="230" y="1137"/>
                    </a:lnTo>
                    <a:lnTo>
                      <a:pt x="235" y="1133"/>
                    </a:lnTo>
                    <a:lnTo>
                      <a:pt x="221" y="1128"/>
                    </a:lnTo>
                    <a:lnTo>
                      <a:pt x="221" y="1128"/>
                    </a:lnTo>
                    <a:lnTo>
                      <a:pt x="216" y="1128"/>
                    </a:lnTo>
                    <a:lnTo>
                      <a:pt x="188" y="1128"/>
                    </a:lnTo>
                    <a:lnTo>
                      <a:pt x="155" y="1133"/>
                    </a:lnTo>
                    <a:lnTo>
                      <a:pt x="127" y="1137"/>
                    </a:lnTo>
                    <a:lnTo>
                      <a:pt x="94" y="1137"/>
                    </a:lnTo>
                    <a:lnTo>
                      <a:pt x="94" y="1137"/>
                    </a:lnTo>
                    <a:lnTo>
                      <a:pt x="94" y="1137"/>
                    </a:lnTo>
                    <a:lnTo>
                      <a:pt x="61" y="1147"/>
                    </a:lnTo>
                    <a:lnTo>
                      <a:pt x="61" y="1152"/>
                    </a:lnTo>
                    <a:lnTo>
                      <a:pt x="61" y="1147"/>
                    </a:lnTo>
                    <a:lnTo>
                      <a:pt x="28" y="1152"/>
                    </a:lnTo>
                    <a:lnTo>
                      <a:pt x="28" y="1156"/>
                    </a:lnTo>
                    <a:lnTo>
                      <a:pt x="33" y="1161"/>
                    </a:lnTo>
                    <a:lnTo>
                      <a:pt x="38" y="1156"/>
                    </a:lnTo>
                    <a:lnTo>
                      <a:pt x="42" y="1156"/>
                    </a:lnTo>
                    <a:lnTo>
                      <a:pt x="42" y="1152"/>
                    </a:lnTo>
                    <a:lnTo>
                      <a:pt x="42" y="1142"/>
                    </a:lnTo>
                    <a:lnTo>
                      <a:pt x="33" y="1142"/>
                    </a:lnTo>
                    <a:lnTo>
                      <a:pt x="42" y="1147"/>
                    </a:lnTo>
                    <a:lnTo>
                      <a:pt x="47" y="1137"/>
                    </a:lnTo>
                    <a:lnTo>
                      <a:pt x="47" y="1137"/>
                    </a:lnTo>
                    <a:lnTo>
                      <a:pt x="47" y="1133"/>
                    </a:lnTo>
                    <a:lnTo>
                      <a:pt x="47" y="1123"/>
                    </a:lnTo>
                    <a:lnTo>
                      <a:pt x="38" y="1123"/>
                    </a:lnTo>
                    <a:lnTo>
                      <a:pt x="47" y="1128"/>
                    </a:lnTo>
                    <a:lnTo>
                      <a:pt x="52" y="1109"/>
                    </a:lnTo>
                    <a:lnTo>
                      <a:pt x="52" y="1109"/>
                    </a:lnTo>
                    <a:lnTo>
                      <a:pt x="52" y="1105"/>
                    </a:lnTo>
                    <a:lnTo>
                      <a:pt x="52" y="1086"/>
                    </a:lnTo>
                    <a:lnTo>
                      <a:pt x="47" y="1062"/>
                    </a:lnTo>
                    <a:lnTo>
                      <a:pt x="47" y="1039"/>
                    </a:lnTo>
                    <a:lnTo>
                      <a:pt x="47" y="1039"/>
                    </a:lnTo>
                    <a:lnTo>
                      <a:pt x="47" y="1039"/>
                    </a:lnTo>
                    <a:lnTo>
                      <a:pt x="42" y="1020"/>
                    </a:lnTo>
                    <a:lnTo>
                      <a:pt x="33" y="1020"/>
                    </a:lnTo>
                    <a:lnTo>
                      <a:pt x="42" y="1020"/>
                    </a:lnTo>
                    <a:lnTo>
                      <a:pt x="38" y="996"/>
                    </a:lnTo>
                    <a:lnTo>
                      <a:pt x="28" y="949"/>
                    </a:lnTo>
                    <a:lnTo>
                      <a:pt x="23" y="907"/>
                    </a:lnTo>
                    <a:lnTo>
                      <a:pt x="19" y="902"/>
                    </a:lnTo>
                    <a:lnTo>
                      <a:pt x="23" y="907"/>
                    </a:lnTo>
                    <a:lnTo>
                      <a:pt x="19" y="888"/>
                    </a:lnTo>
                    <a:lnTo>
                      <a:pt x="9" y="888"/>
                    </a:lnTo>
                    <a:lnTo>
                      <a:pt x="19" y="888"/>
                    </a:lnTo>
                    <a:lnTo>
                      <a:pt x="19" y="874"/>
                    </a:lnTo>
                    <a:lnTo>
                      <a:pt x="19" y="855"/>
                    </a:lnTo>
                    <a:lnTo>
                      <a:pt x="9" y="855"/>
                    </a:lnTo>
                    <a:lnTo>
                      <a:pt x="19" y="860"/>
                    </a:lnTo>
                    <a:lnTo>
                      <a:pt x="23" y="851"/>
                    </a:lnTo>
                    <a:lnTo>
                      <a:pt x="28" y="837"/>
                    </a:lnTo>
                    <a:lnTo>
                      <a:pt x="19" y="832"/>
                    </a:lnTo>
                    <a:lnTo>
                      <a:pt x="23" y="837"/>
                    </a:lnTo>
                    <a:lnTo>
                      <a:pt x="33" y="827"/>
                    </a:lnTo>
                    <a:lnTo>
                      <a:pt x="38" y="827"/>
                    </a:lnTo>
                    <a:lnTo>
                      <a:pt x="38" y="827"/>
                    </a:lnTo>
                    <a:lnTo>
                      <a:pt x="42" y="818"/>
                    </a:lnTo>
                    <a:lnTo>
                      <a:pt x="33" y="813"/>
                    </a:lnTo>
                    <a:lnTo>
                      <a:pt x="38" y="818"/>
                    </a:lnTo>
                    <a:lnTo>
                      <a:pt x="47" y="808"/>
                    </a:lnTo>
                    <a:lnTo>
                      <a:pt x="56" y="799"/>
                    </a:lnTo>
                    <a:lnTo>
                      <a:pt x="52" y="794"/>
                    </a:lnTo>
                    <a:lnTo>
                      <a:pt x="56" y="804"/>
                    </a:lnTo>
                    <a:lnTo>
                      <a:pt x="66" y="799"/>
                    </a:lnTo>
                    <a:lnTo>
                      <a:pt x="80" y="794"/>
                    </a:lnTo>
                    <a:lnTo>
                      <a:pt x="80" y="794"/>
                    </a:lnTo>
                    <a:lnTo>
                      <a:pt x="80" y="790"/>
                    </a:lnTo>
                    <a:lnTo>
                      <a:pt x="89" y="780"/>
                    </a:lnTo>
                    <a:lnTo>
                      <a:pt x="85" y="775"/>
                    </a:lnTo>
                    <a:lnTo>
                      <a:pt x="85" y="785"/>
                    </a:lnTo>
                    <a:lnTo>
                      <a:pt x="94" y="785"/>
                    </a:lnTo>
                    <a:lnTo>
                      <a:pt x="108" y="785"/>
                    </a:lnTo>
                    <a:lnTo>
                      <a:pt x="117" y="785"/>
                    </a:lnTo>
                    <a:lnTo>
                      <a:pt x="127" y="785"/>
                    </a:lnTo>
                    <a:lnTo>
                      <a:pt x="127" y="775"/>
                    </a:lnTo>
                    <a:lnTo>
                      <a:pt x="127" y="785"/>
                    </a:lnTo>
                    <a:lnTo>
                      <a:pt x="136" y="790"/>
                    </a:lnTo>
                    <a:lnTo>
                      <a:pt x="146" y="794"/>
                    </a:lnTo>
                    <a:lnTo>
                      <a:pt x="155" y="799"/>
                    </a:lnTo>
                    <a:lnTo>
                      <a:pt x="155" y="790"/>
                    </a:lnTo>
                    <a:lnTo>
                      <a:pt x="150" y="794"/>
                    </a:lnTo>
                    <a:lnTo>
                      <a:pt x="160" y="804"/>
                    </a:lnTo>
                    <a:lnTo>
                      <a:pt x="169" y="813"/>
                    </a:lnTo>
                    <a:lnTo>
                      <a:pt x="179" y="822"/>
                    </a:lnTo>
                    <a:lnTo>
                      <a:pt x="183" y="827"/>
                    </a:lnTo>
                    <a:lnTo>
                      <a:pt x="183" y="827"/>
                    </a:lnTo>
                    <a:lnTo>
                      <a:pt x="197" y="832"/>
                    </a:lnTo>
                    <a:lnTo>
                      <a:pt x="207" y="837"/>
                    </a:lnTo>
                    <a:lnTo>
                      <a:pt x="207" y="837"/>
                    </a:lnTo>
                    <a:lnTo>
                      <a:pt x="207" y="837"/>
                    </a:lnTo>
                    <a:lnTo>
                      <a:pt x="221" y="837"/>
                    </a:lnTo>
                    <a:lnTo>
                      <a:pt x="235" y="837"/>
                    </a:lnTo>
                    <a:lnTo>
                      <a:pt x="240" y="837"/>
                    </a:lnTo>
                    <a:lnTo>
                      <a:pt x="240" y="837"/>
                    </a:lnTo>
                    <a:lnTo>
                      <a:pt x="254" y="832"/>
                    </a:lnTo>
                    <a:lnTo>
                      <a:pt x="268" y="827"/>
                    </a:lnTo>
                    <a:lnTo>
                      <a:pt x="277" y="822"/>
                    </a:lnTo>
                    <a:lnTo>
                      <a:pt x="291" y="818"/>
                    </a:lnTo>
                    <a:lnTo>
                      <a:pt x="291" y="818"/>
                    </a:lnTo>
                    <a:lnTo>
                      <a:pt x="291" y="813"/>
                    </a:lnTo>
                    <a:lnTo>
                      <a:pt x="301" y="804"/>
                    </a:lnTo>
                    <a:lnTo>
                      <a:pt x="310" y="794"/>
                    </a:lnTo>
                    <a:lnTo>
                      <a:pt x="320" y="785"/>
                    </a:lnTo>
                    <a:lnTo>
                      <a:pt x="324" y="785"/>
                    </a:lnTo>
                    <a:lnTo>
                      <a:pt x="324" y="785"/>
                    </a:lnTo>
                    <a:lnTo>
                      <a:pt x="329" y="771"/>
                    </a:lnTo>
                    <a:lnTo>
                      <a:pt x="334" y="761"/>
                    </a:lnTo>
                    <a:lnTo>
                      <a:pt x="334" y="761"/>
                    </a:lnTo>
                    <a:lnTo>
                      <a:pt x="334" y="757"/>
                    </a:lnTo>
                    <a:lnTo>
                      <a:pt x="334" y="743"/>
                    </a:lnTo>
                    <a:lnTo>
                      <a:pt x="334" y="724"/>
                    </a:lnTo>
                    <a:lnTo>
                      <a:pt x="334" y="724"/>
                    </a:lnTo>
                    <a:lnTo>
                      <a:pt x="334" y="724"/>
                    </a:lnTo>
                    <a:lnTo>
                      <a:pt x="329" y="705"/>
                    </a:lnTo>
                    <a:lnTo>
                      <a:pt x="324" y="691"/>
                    </a:lnTo>
                    <a:lnTo>
                      <a:pt x="315" y="677"/>
                    </a:lnTo>
                    <a:lnTo>
                      <a:pt x="306" y="663"/>
                    </a:lnTo>
                    <a:lnTo>
                      <a:pt x="306" y="663"/>
                    </a:lnTo>
                    <a:lnTo>
                      <a:pt x="301" y="658"/>
                    </a:lnTo>
                    <a:lnTo>
                      <a:pt x="291" y="649"/>
                    </a:lnTo>
                    <a:lnTo>
                      <a:pt x="291" y="649"/>
                    </a:lnTo>
                    <a:lnTo>
                      <a:pt x="291" y="649"/>
                    </a:lnTo>
                    <a:lnTo>
                      <a:pt x="277" y="639"/>
                    </a:lnTo>
                    <a:lnTo>
                      <a:pt x="268" y="634"/>
                    </a:lnTo>
                    <a:lnTo>
                      <a:pt x="254" y="630"/>
                    </a:lnTo>
                    <a:lnTo>
                      <a:pt x="240" y="625"/>
                    </a:lnTo>
                    <a:lnTo>
                      <a:pt x="240" y="625"/>
                    </a:lnTo>
                    <a:lnTo>
                      <a:pt x="235" y="625"/>
                    </a:lnTo>
                    <a:lnTo>
                      <a:pt x="221" y="625"/>
                    </a:lnTo>
                    <a:lnTo>
                      <a:pt x="207" y="625"/>
                    </a:lnTo>
                    <a:lnTo>
                      <a:pt x="207" y="625"/>
                    </a:lnTo>
                    <a:lnTo>
                      <a:pt x="207" y="625"/>
                    </a:lnTo>
                    <a:lnTo>
                      <a:pt x="197" y="630"/>
                    </a:lnTo>
                    <a:lnTo>
                      <a:pt x="197" y="634"/>
                    </a:lnTo>
                    <a:lnTo>
                      <a:pt x="197" y="630"/>
                    </a:lnTo>
                    <a:lnTo>
                      <a:pt x="183" y="630"/>
                    </a:lnTo>
                    <a:lnTo>
                      <a:pt x="183" y="630"/>
                    </a:lnTo>
                    <a:lnTo>
                      <a:pt x="179" y="630"/>
                    </a:lnTo>
                    <a:lnTo>
                      <a:pt x="169" y="639"/>
                    </a:lnTo>
                    <a:lnTo>
                      <a:pt x="174" y="644"/>
                    </a:lnTo>
                    <a:lnTo>
                      <a:pt x="174" y="639"/>
                    </a:lnTo>
                    <a:lnTo>
                      <a:pt x="165" y="644"/>
                    </a:lnTo>
                    <a:lnTo>
                      <a:pt x="165" y="644"/>
                    </a:lnTo>
                    <a:lnTo>
                      <a:pt x="160" y="644"/>
                    </a:lnTo>
                    <a:lnTo>
                      <a:pt x="150" y="653"/>
                    </a:lnTo>
                    <a:lnTo>
                      <a:pt x="155" y="658"/>
                    </a:lnTo>
                    <a:lnTo>
                      <a:pt x="155" y="653"/>
                    </a:lnTo>
                    <a:lnTo>
                      <a:pt x="146" y="658"/>
                    </a:lnTo>
                    <a:lnTo>
                      <a:pt x="136" y="663"/>
                    </a:lnTo>
                    <a:lnTo>
                      <a:pt x="122" y="667"/>
                    </a:lnTo>
                    <a:lnTo>
                      <a:pt x="122" y="672"/>
                    </a:lnTo>
                    <a:lnTo>
                      <a:pt x="122" y="667"/>
                    </a:lnTo>
                    <a:lnTo>
                      <a:pt x="108" y="667"/>
                    </a:lnTo>
                    <a:lnTo>
                      <a:pt x="99" y="667"/>
                    </a:lnTo>
                    <a:lnTo>
                      <a:pt x="85" y="667"/>
                    </a:lnTo>
                    <a:lnTo>
                      <a:pt x="70" y="667"/>
                    </a:lnTo>
                    <a:lnTo>
                      <a:pt x="70" y="672"/>
                    </a:lnTo>
                    <a:lnTo>
                      <a:pt x="75" y="667"/>
                    </a:lnTo>
                    <a:lnTo>
                      <a:pt x="66" y="663"/>
                    </a:lnTo>
                    <a:lnTo>
                      <a:pt x="52" y="658"/>
                    </a:lnTo>
                    <a:lnTo>
                      <a:pt x="42" y="653"/>
                    </a:lnTo>
                    <a:lnTo>
                      <a:pt x="33" y="649"/>
                    </a:lnTo>
                    <a:lnTo>
                      <a:pt x="28" y="653"/>
                    </a:lnTo>
                    <a:lnTo>
                      <a:pt x="33" y="649"/>
                    </a:lnTo>
                    <a:lnTo>
                      <a:pt x="23" y="639"/>
                    </a:lnTo>
                    <a:lnTo>
                      <a:pt x="19" y="634"/>
                    </a:lnTo>
                    <a:lnTo>
                      <a:pt x="14" y="639"/>
                    </a:lnTo>
                    <a:lnTo>
                      <a:pt x="23" y="639"/>
                    </a:lnTo>
                    <a:lnTo>
                      <a:pt x="19" y="630"/>
                    </a:lnTo>
                    <a:lnTo>
                      <a:pt x="14" y="620"/>
                    </a:lnTo>
                    <a:lnTo>
                      <a:pt x="5" y="620"/>
                    </a:lnTo>
                    <a:lnTo>
                      <a:pt x="14" y="620"/>
                    </a:lnTo>
                    <a:lnTo>
                      <a:pt x="14" y="601"/>
                    </a:lnTo>
                    <a:lnTo>
                      <a:pt x="14" y="573"/>
                    </a:lnTo>
                    <a:lnTo>
                      <a:pt x="14" y="540"/>
                    </a:lnTo>
                    <a:lnTo>
                      <a:pt x="19" y="503"/>
                    </a:lnTo>
                    <a:lnTo>
                      <a:pt x="23" y="465"/>
                    </a:lnTo>
                    <a:lnTo>
                      <a:pt x="28" y="428"/>
                    </a:lnTo>
                    <a:lnTo>
                      <a:pt x="33" y="395"/>
                    </a:lnTo>
                    <a:lnTo>
                      <a:pt x="38" y="371"/>
                    </a:lnTo>
                    <a:lnTo>
                      <a:pt x="28" y="371"/>
                    </a:lnTo>
                    <a:lnTo>
                      <a:pt x="28" y="381"/>
                    </a:lnTo>
                    <a:lnTo>
                      <a:pt x="61" y="381"/>
                    </a:lnTo>
                    <a:lnTo>
                      <a:pt x="94" y="381"/>
                    </a:lnTo>
                    <a:lnTo>
                      <a:pt x="127" y="381"/>
                    </a:lnTo>
                    <a:lnTo>
                      <a:pt x="155" y="381"/>
                    </a:lnTo>
                    <a:lnTo>
                      <a:pt x="183" y="381"/>
                    </a:lnTo>
                    <a:lnTo>
                      <a:pt x="207" y="381"/>
                    </a:lnTo>
                    <a:lnTo>
                      <a:pt x="230" y="381"/>
                    </a:lnTo>
                    <a:lnTo>
                      <a:pt x="244" y="381"/>
                    </a:lnTo>
                    <a:lnTo>
                      <a:pt x="263" y="376"/>
                    </a:lnTo>
                    <a:lnTo>
                      <a:pt x="268" y="371"/>
                    </a:lnTo>
                    <a:lnTo>
                      <a:pt x="268" y="376"/>
                    </a:lnTo>
                    <a:lnTo>
                      <a:pt x="291" y="366"/>
                    </a:lnTo>
                    <a:lnTo>
                      <a:pt x="306" y="357"/>
                    </a:lnTo>
                    <a:lnTo>
                      <a:pt x="320" y="348"/>
                    </a:lnTo>
                    <a:lnTo>
                      <a:pt x="334" y="338"/>
                    </a:lnTo>
                    <a:lnTo>
                      <a:pt x="334" y="334"/>
                    </a:lnTo>
                    <a:lnTo>
                      <a:pt x="338" y="334"/>
                    </a:lnTo>
                    <a:lnTo>
                      <a:pt x="348" y="319"/>
                    </a:lnTo>
                    <a:lnTo>
                      <a:pt x="353" y="310"/>
                    </a:lnTo>
                    <a:lnTo>
                      <a:pt x="362" y="296"/>
                    </a:lnTo>
                    <a:lnTo>
                      <a:pt x="362" y="296"/>
                    </a:lnTo>
                    <a:lnTo>
                      <a:pt x="362" y="291"/>
                    </a:lnTo>
                    <a:lnTo>
                      <a:pt x="362" y="277"/>
                    </a:lnTo>
                    <a:lnTo>
                      <a:pt x="353" y="277"/>
                    </a:lnTo>
                    <a:lnTo>
                      <a:pt x="362" y="282"/>
                    </a:lnTo>
                    <a:lnTo>
                      <a:pt x="367" y="268"/>
                    </a:lnTo>
                    <a:lnTo>
                      <a:pt x="367" y="268"/>
                    </a:lnTo>
                    <a:lnTo>
                      <a:pt x="367" y="263"/>
                    </a:lnTo>
                    <a:lnTo>
                      <a:pt x="367" y="249"/>
                    </a:lnTo>
                    <a:lnTo>
                      <a:pt x="367" y="249"/>
                    </a:lnTo>
                    <a:lnTo>
                      <a:pt x="367" y="249"/>
                    </a:lnTo>
                    <a:lnTo>
                      <a:pt x="362" y="235"/>
                    </a:lnTo>
                    <a:lnTo>
                      <a:pt x="357" y="225"/>
                    </a:lnTo>
                    <a:lnTo>
                      <a:pt x="353" y="211"/>
                    </a:lnTo>
                    <a:lnTo>
                      <a:pt x="343" y="197"/>
                    </a:lnTo>
                    <a:lnTo>
                      <a:pt x="343" y="197"/>
                    </a:lnTo>
                    <a:lnTo>
                      <a:pt x="338" y="192"/>
                    </a:lnTo>
                    <a:lnTo>
                      <a:pt x="329" y="183"/>
                    </a:lnTo>
                    <a:lnTo>
                      <a:pt x="324" y="188"/>
                    </a:lnTo>
                    <a:lnTo>
                      <a:pt x="334" y="188"/>
                    </a:lnTo>
                    <a:lnTo>
                      <a:pt x="324" y="174"/>
                    </a:lnTo>
                    <a:lnTo>
                      <a:pt x="324" y="174"/>
                    </a:lnTo>
                    <a:lnTo>
                      <a:pt x="320" y="169"/>
                    </a:lnTo>
                    <a:lnTo>
                      <a:pt x="310" y="160"/>
                    </a:lnTo>
                    <a:lnTo>
                      <a:pt x="306" y="164"/>
                    </a:lnTo>
                    <a:lnTo>
                      <a:pt x="315" y="164"/>
                    </a:lnTo>
                    <a:lnTo>
                      <a:pt x="310" y="150"/>
                    </a:lnTo>
                    <a:lnTo>
                      <a:pt x="306" y="136"/>
                    </a:lnTo>
                    <a:lnTo>
                      <a:pt x="296" y="136"/>
                    </a:lnTo>
                    <a:lnTo>
                      <a:pt x="306" y="136"/>
                    </a:lnTo>
                    <a:lnTo>
                      <a:pt x="306" y="117"/>
                    </a:lnTo>
                    <a:lnTo>
                      <a:pt x="306" y="103"/>
                    </a:lnTo>
                    <a:lnTo>
                      <a:pt x="306" y="89"/>
                    </a:lnTo>
                    <a:lnTo>
                      <a:pt x="296" y="89"/>
                    </a:lnTo>
                    <a:lnTo>
                      <a:pt x="306" y="94"/>
                    </a:lnTo>
                    <a:lnTo>
                      <a:pt x="310" y="80"/>
                    </a:lnTo>
                    <a:lnTo>
                      <a:pt x="315" y="61"/>
                    </a:lnTo>
                    <a:lnTo>
                      <a:pt x="306" y="56"/>
                    </a:lnTo>
                    <a:lnTo>
                      <a:pt x="310" y="61"/>
                    </a:lnTo>
                    <a:lnTo>
                      <a:pt x="320" y="51"/>
                    </a:lnTo>
                    <a:lnTo>
                      <a:pt x="324" y="51"/>
                    </a:lnTo>
                    <a:lnTo>
                      <a:pt x="324" y="51"/>
                    </a:lnTo>
                    <a:lnTo>
                      <a:pt x="329" y="42"/>
                    </a:lnTo>
                    <a:lnTo>
                      <a:pt x="320" y="37"/>
                    </a:lnTo>
                    <a:lnTo>
                      <a:pt x="324" y="42"/>
                    </a:lnTo>
                    <a:lnTo>
                      <a:pt x="329" y="37"/>
                    </a:lnTo>
                    <a:lnTo>
                      <a:pt x="324" y="33"/>
                    </a:lnTo>
                    <a:lnTo>
                      <a:pt x="329" y="42"/>
                    </a:lnTo>
                    <a:lnTo>
                      <a:pt x="338" y="37"/>
                    </a:lnTo>
                    <a:lnTo>
                      <a:pt x="338" y="37"/>
                    </a:lnTo>
                    <a:lnTo>
                      <a:pt x="338" y="33"/>
                    </a:lnTo>
                    <a:lnTo>
                      <a:pt x="343" y="28"/>
                    </a:lnTo>
                    <a:lnTo>
                      <a:pt x="338" y="23"/>
                    </a:lnTo>
                    <a:lnTo>
                      <a:pt x="343" y="33"/>
                    </a:lnTo>
                    <a:lnTo>
                      <a:pt x="353" y="28"/>
                    </a:lnTo>
                    <a:lnTo>
                      <a:pt x="362" y="23"/>
                    </a:lnTo>
                    <a:lnTo>
                      <a:pt x="371" y="19"/>
                    </a:lnTo>
                    <a:lnTo>
                      <a:pt x="367" y="9"/>
                    </a:lnTo>
                    <a:lnTo>
                      <a:pt x="367" y="19"/>
                    </a:lnTo>
                    <a:lnTo>
                      <a:pt x="376" y="19"/>
                    </a:lnTo>
                    <a:lnTo>
                      <a:pt x="381" y="19"/>
                    </a:lnTo>
                    <a:lnTo>
                      <a:pt x="381" y="19"/>
                    </a:lnTo>
                    <a:lnTo>
                      <a:pt x="390" y="14"/>
                    </a:lnTo>
                    <a:lnTo>
                      <a:pt x="386" y="4"/>
                    </a:lnTo>
                    <a:lnTo>
                      <a:pt x="386" y="14"/>
                    </a:lnTo>
                    <a:lnTo>
                      <a:pt x="395" y="14"/>
                    </a:lnTo>
                    <a:lnTo>
                      <a:pt x="409" y="14"/>
                    </a:lnTo>
                    <a:lnTo>
                      <a:pt x="418" y="14"/>
                    </a:lnTo>
                    <a:lnTo>
                      <a:pt x="433" y="14"/>
                    </a:lnTo>
                    <a:lnTo>
                      <a:pt x="447" y="14"/>
                    </a:lnTo>
                    <a:lnTo>
                      <a:pt x="456" y="14"/>
                    </a:lnTo>
                    <a:lnTo>
                      <a:pt x="456" y="4"/>
                    </a:lnTo>
                    <a:lnTo>
                      <a:pt x="456" y="14"/>
                    </a:lnTo>
                    <a:lnTo>
                      <a:pt x="470" y="19"/>
                    </a:lnTo>
                    <a:lnTo>
                      <a:pt x="480" y="23"/>
                    </a:lnTo>
                    <a:lnTo>
                      <a:pt x="489" y="28"/>
                    </a:lnTo>
                    <a:lnTo>
                      <a:pt x="498" y="33"/>
                    </a:lnTo>
                    <a:lnTo>
                      <a:pt x="498" y="23"/>
                    </a:lnTo>
                    <a:lnTo>
                      <a:pt x="494" y="28"/>
                    </a:lnTo>
                    <a:lnTo>
                      <a:pt x="498" y="33"/>
                    </a:lnTo>
                    <a:lnTo>
                      <a:pt x="503" y="37"/>
                    </a:lnTo>
                    <a:lnTo>
                      <a:pt x="512" y="47"/>
                    </a:lnTo>
                    <a:lnTo>
                      <a:pt x="517" y="51"/>
                    </a:lnTo>
                    <a:lnTo>
                      <a:pt x="522" y="56"/>
                    </a:lnTo>
                    <a:lnTo>
                      <a:pt x="527" y="51"/>
                    </a:lnTo>
                    <a:lnTo>
                      <a:pt x="522" y="56"/>
                    </a:lnTo>
                    <a:lnTo>
                      <a:pt x="527" y="75"/>
                    </a:lnTo>
                    <a:lnTo>
                      <a:pt x="531" y="89"/>
                    </a:lnTo>
                    <a:lnTo>
                      <a:pt x="536" y="84"/>
                    </a:lnTo>
                    <a:lnTo>
                      <a:pt x="531" y="84"/>
                    </a:lnTo>
                    <a:lnTo>
                      <a:pt x="531" y="103"/>
                    </a:lnTo>
                    <a:lnTo>
                      <a:pt x="531" y="117"/>
                    </a:lnTo>
                    <a:lnTo>
                      <a:pt x="531" y="136"/>
                    </a:lnTo>
                    <a:lnTo>
                      <a:pt x="536" y="136"/>
                    </a:lnTo>
                    <a:lnTo>
                      <a:pt x="531" y="136"/>
                    </a:lnTo>
                    <a:lnTo>
                      <a:pt x="527" y="150"/>
                    </a:lnTo>
                    <a:lnTo>
                      <a:pt x="522" y="164"/>
                    </a:lnTo>
                    <a:lnTo>
                      <a:pt x="512" y="178"/>
                    </a:lnTo>
                    <a:lnTo>
                      <a:pt x="508" y="188"/>
                    </a:lnTo>
                    <a:lnTo>
                      <a:pt x="512" y="188"/>
                    </a:lnTo>
                    <a:lnTo>
                      <a:pt x="508" y="183"/>
                    </a:lnTo>
                    <a:lnTo>
                      <a:pt x="498" y="192"/>
                    </a:lnTo>
                    <a:lnTo>
                      <a:pt x="489" y="202"/>
                    </a:lnTo>
                    <a:lnTo>
                      <a:pt x="489" y="207"/>
                    </a:lnTo>
                    <a:lnTo>
                      <a:pt x="489" y="207"/>
                    </a:lnTo>
                    <a:lnTo>
                      <a:pt x="484" y="216"/>
                    </a:lnTo>
                    <a:lnTo>
                      <a:pt x="489" y="216"/>
                    </a:lnTo>
                    <a:lnTo>
                      <a:pt x="484" y="211"/>
                    </a:lnTo>
                    <a:lnTo>
                      <a:pt x="475" y="221"/>
                    </a:lnTo>
                    <a:lnTo>
                      <a:pt x="475" y="225"/>
                    </a:lnTo>
                    <a:lnTo>
                      <a:pt x="475" y="225"/>
                    </a:lnTo>
                    <a:lnTo>
                      <a:pt x="470" y="235"/>
                    </a:lnTo>
                    <a:lnTo>
                      <a:pt x="465" y="244"/>
                    </a:lnTo>
                    <a:lnTo>
                      <a:pt x="465" y="244"/>
                    </a:lnTo>
                    <a:lnTo>
                      <a:pt x="465" y="244"/>
                    </a:lnTo>
                    <a:lnTo>
                      <a:pt x="465" y="258"/>
                    </a:lnTo>
                    <a:lnTo>
                      <a:pt x="470" y="258"/>
                    </a:lnTo>
                    <a:lnTo>
                      <a:pt x="465" y="258"/>
                    </a:lnTo>
                    <a:lnTo>
                      <a:pt x="461" y="272"/>
                    </a:lnTo>
                    <a:lnTo>
                      <a:pt x="461" y="272"/>
                    </a:lnTo>
                    <a:lnTo>
                      <a:pt x="461" y="272"/>
                    </a:lnTo>
                    <a:lnTo>
                      <a:pt x="461" y="287"/>
                    </a:lnTo>
                    <a:lnTo>
                      <a:pt x="461" y="291"/>
                    </a:lnTo>
                    <a:lnTo>
                      <a:pt x="461" y="291"/>
                    </a:lnTo>
                    <a:lnTo>
                      <a:pt x="465" y="301"/>
                    </a:lnTo>
                    <a:lnTo>
                      <a:pt x="470" y="315"/>
                    </a:lnTo>
                    <a:lnTo>
                      <a:pt x="475" y="324"/>
                    </a:lnTo>
                    <a:lnTo>
                      <a:pt x="484" y="338"/>
                    </a:lnTo>
                    <a:lnTo>
                      <a:pt x="494" y="352"/>
                    </a:lnTo>
                    <a:lnTo>
                      <a:pt x="494" y="352"/>
                    </a:lnTo>
                    <a:lnTo>
                      <a:pt x="498" y="357"/>
                    </a:lnTo>
                    <a:lnTo>
                      <a:pt x="512" y="366"/>
                    </a:lnTo>
                    <a:lnTo>
                      <a:pt x="527" y="376"/>
                    </a:lnTo>
                    <a:lnTo>
                      <a:pt x="522" y="371"/>
                    </a:lnTo>
                    <a:lnTo>
                      <a:pt x="527" y="376"/>
                    </a:lnTo>
                    <a:lnTo>
                      <a:pt x="545" y="381"/>
                    </a:lnTo>
                    <a:lnTo>
                      <a:pt x="545" y="371"/>
                    </a:lnTo>
                    <a:lnTo>
                      <a:pt x="541" y="376"/>
                    </a:lnTo>
                    <a:lnTo>
                      <a:pt x="545" y="381"/>
                    </a:lnTo>
                    <a:lnTo>
                      <a:pt x="545" y="381"/>
                    </a:lnTo>
                    <a:lnTo>
                      <a:pt x="550" y="385"/>
                    </a:lnTo>
                    <a:lnTo>
                      <a:pt x="574" y="390"/>
                    </a:lnTo>
                    <a:lnTo>
                      <a:pt x="602" y="395"/>
                    </a:lnTo>
                    <a:lnTo>
                      <a:pt x="644" y="399"/>
                    </a:lnTo>
                    <a:lnTo>
                      <a:pt x="663" y="399"/>
                    </a:lnTo>
                    <a:lnTo>
                      <a:pt x="686" y="404"/>
                    </a:lnTo>
                    <a:lnTo>
                      <a:pt x="710" y="404"/>
                    </a:lnTo>
                    <a:lnTo>
                      <a:pt x="733" y="404"/>
                    </a:lnTo>
                    <a:lnTo>
                      <a:pt x="757" y="404"/>
                    </a:lnTo>
                    <a:lnTo>
                      <a:pt x="781" y="399"/>
                    </a:lnTo>
                    <a:lnTo>
                      <a:pt x="804" y="399"/>
                    </a:lnTo>
                    <a:lnTo>
                      <a:pt x="828" y="395"/>
                    </a:lnTo>
                    <a:lnTo>
                      <a:pt x="828" y="385"/>
                    </a:lnTo>
                    <a:lnTo>
                      <a:pt x="823" y="390"/>
                    </a:lnTo>
                    <a:lnTo>
                      <a:pt x="832" y="418"/>
                    </a:lnTo>
                    <a:lnTo>
                      <a:pt x="842" y="456"/>
                    </a:lnTo>
                    <a:lnTo>
                      <a:pt x="851" y="493"/>
                    </a:lnTo>
                    <a:lnTo>
                      <a:pt x="860" y="536"/>
                    </a:lnTo>
                    <a:lnTo>
                      <a:pt x="865" y="531"/>
                    </a:lnTo>
                    <a:lnTo>
                      <a:pt x="860" y="531"/>
                    </a:lnTo>
                    <a:lnTo>
                      <a:pt x="865" y="554"/>
                    </a:lnTo>
                    <a:lnTo>
                      <a:pt x="865" y="573"/>
                    </a:lnTo>
                    <a:lnTo>
                      <a:pt x="865" y="592"/>
                    </a:lnTo>
                    <a:lnTo>
                      <a:pt x="865" y="611"/>
                    </a:lnTo>
                    <a:lnTo>
                      <a:pt x="865" y="630"/>
                    </a:lnTo>
                    <a:lnTo>
                      <a:pt x="870" y="630"/>
                    </a:lnTo>
                    <a:lnTo>
                      <a:pt x="865" y="630"/>
                    </a:lnTo>
                    <a:lnTo>
                      <a:pt x="860" y="644"/>
                    </a:lnTo>
                    <a:lnTo>
                      <a:pt x="860" y="644"/>
                    </a:lnTo>
                    <a:lnTo>
                      <a:pt x="860" y="644"/>
                    </a:lnTo>
                    <a:lnTo>
                      <a:pt x="860" y="649"/>
                    </a:lnTo>
                    <a:lnTo>
                      <a:pt x="865" y="649"/>
                    </a:lnTo>
                    <a:lnTo>
                      <a:pt x="860" y="649"/>
                    </a:lnTo>
                    <a:lnTo>
                      <a:pt x="856" y="658"/>
                    </a:lnTo>
                    <a:lnTo>
                      <a:pt x="860" y="658"/>
                    </a:lnTo>
                    <a:lnTo>
                      <a:pt x="860" y="653"/>
                    </a:lnTo>
                    <a:lnTo>
                      <a:pt x="856" y="653"/>
                    </a:lnTo>
                    <a:lnTo>
                      <a:pt x="851" y="653"/>
                    </a:lnTo>
                    <a:lnTo>
                      <a:pt x="851" y="658"/>
                    </a:lnTo>
                    <a:lnTo>
                      <a:pt x="851" y="663"/>
                    </a:lnTo>
                    <a:lnTo>
                      <a:pt x="856" y="663"/>
                    </a:lnTo>
                    <a:lnTo>
                      <a:pt x="851" y="658"/>
                    </a:lnTo>
                    <a:lnTo>
                      <a:pt x="842" y="667"/>
                    </a:lnTo>
                    <a:lnTo>
                      <a:pt x="846" y="672"/>
                    </a:lnTo>
                    <a:lnTo>
                      <a:pt x="846" y="667"/>
                    </a:lnTo>
                    <a:lnTo>
                      <a:pt x="837" y="672"/>
                    </a:lnTo>
                    <a:lnTo>
                      <a:pt x="828" y="677"/>
                    </a:lnTo>
                    <a:lnTo>
                      <a:pt x="818" y="681"/>
                    </a:lnTo>
                    <a:lnTo>
                      <a:pt x="818" y="686"/>
                    </a:lnTo>
                    <a:lnTo>
                      <a:pt x="818" y="681"/>
                    </a:lnTo>
                    <a:lnTo>
                      <a:pt x="809" y="681"/>
                    </a:lnTo>
                    <a:lnTo>
                      <a:pt x="809" y="681"/>
                    </a:lnTo>
                    <a:lnTo>
                      <a:pt x="809" y="681"/>
                    </a:lnTo>
                    <a:lnTo>
                      <a:pt x="799" y="686"/>
                    </a:lnTo>
                    <a:lnTo>
                      <a:pt x="799" y="691"/>
                    </a:lnTo>
                    <a:lnTo>
                      <a:pt x="799" y="686"/>
                    </a:lnTo>
                    <a:lnTo>
                      <a:pt x="790" y="686"/>
                    </a:lnTo>
                    <a:lnTo>
                      <a:pt x="781" y="686"/>
                    </a:lnTo>
                    <a:lnTo>
                      <a:pt x="771" y="686"/>
                    </a:lnTo>
                    <a:lnTo>
                      <a:pt x="762" y="686"/>
                    </a:lnTo>
                    <a:lnTo>
                      <a:pt x="762" y="691"/>
                    </a:lnTo>
                    <a:lnTo>
                      <a:pt x="766" y="686"/>
                    </a:lnTo>
                    <a:lnTo>
                      <a:pt x="757" y="681"/>
                    </a:lnTo>
                    <a:lnTo>
                      <a:pt x="748" y="677"/>
                    </a:lnTo>
                    <a:lnTo>
                      <a:pt x="748" y="677"/>
                    </a:lnTo>
                    <a:lnTo>
                      <a:pt x="743" y="677"/>
                    </a:lnTo>
                    <a:lnTo>
                      <a:pt x="733" y="677"/>
                    </a:lnTo>
                    <a:lnTo>
                      <a:pt x="733" y="681"/>
                    </a:lnTo>
                    <a:lnTo>
                      <a:pt x="738" y="677"/>
                    </a:lnTo>
                    <a:lnTo>
                      <a:pt x="733" y="672"/>
                    </a:lnTo>
                    <a:lnTo>
                      <a:pt x="733" y="672"/>
                    </a:lnTo>
                    <a:lnTo>
                      <a:pt x="733" y="672"/>
                    </a:lnTo>
                    <a:lnTo>
                      <a:pt x="724" y="667"/>
                    </a:lnTo>
                    <a:lnTo>
                      <a:pt x="719" y="672"/>
                    </a:lnTo>
                    <a:lnTo>
                      <a:pt x="729" y="672"/>
                    </a:lnTo>
                    <a:lnTo>
                      <a:pt x="724" y="663"/>
                    </a:lnTo>
                    <a:lnTo>
                      <a:pt x="719" y="658"/>
                    </a:lnTo>
                    <a:lnTo>
                      <a:pt x="719" y="658"/>
                    </a:lnTo>
                    <a:lnTo>
                      <a:pt x="710" y="653"/>
                    </a:lnTo>
                    <a:lnTo>
                      <a:pt x="705" y="658"/>
                    </a:lnTo>
                    <a:lnTo>
                      <a:pt x="710" y="653"/>
                    </a:lnTo>
                    <a:lnTo>
                      <a:pt x="701" y="644"/>
                    </a:lnTo>
                    <a:lnTo>
                      <a:pt x="701" y="644"/>
                    </a:lnTo>
                    <a:lnTo>
                      <a:pt x="701" y="644"/>
                    </a:lnTo>
                    <a:lnTo>
                      <a:pt x="686" y="639"/>
                    </a:lnTo>
                    <a:lnTo>
                      <a:pt x="672" y="634"/>
                    </a:lnTo>
                    <a:lnTo>
                      <a:pt x="672" y="634"/>
                    </a:lnTo>
                    <a:lnTo>
                      <a:pt x="668" y="634"/>
                    </a:lnTo>
                    <a:lnTo>
                      <a:pt x="654" y="634"/>
                    </a:lnTo>
                    <a:lnTo>
                      <a:pt x="635" y="634"/>
                    </a:lnTo>
                    <a:lnTo>
                      <a:pt x="621" y="634"/>
                    </a:lnTo>
                    <a:lnTo>
                      <a:pt x="621" y="634"/>
                    </a:lnTo>
                    <a:lnTo>
                      <a:pt x="621" y="634"/>
                    </a:lnTo>
                    <a:lnTo>
                      <a:pt x="607" y="639"/>
                    </a:lnTo>
                    <a:lnTo>
                      <a:pt x="592" y="644"/>
                    </a:lnTo>
                    <a:lnTo>
                      <a:pt x="578" y="653"/>
                    </a:lnTo>
                    <a:lnTo>
                      <a:pt x="578" y="653"/>
                    </a:lnTo>
                    <a:lnTo>
                      <a:pt x="574" y="653"/>
                    </a:lnTo>
                    <a:lnTo>
                      <a:pt x="559" y="667"/>
                    </a:lnTo>
                    <a:lnTo>
                      <a:pt x="550" y="677"/>
                    </a:lnTo>
                    <a:lnTo>
                      <a:pt x="541" y="686"/>
                    </a:lnTo>
                    <a:lnTo>
                      <a:pt x="536" y="691"/>
                    </a:lnTo>
                    <a:lnTo>
                      <a:pt x="536" y="696"/>
                    </a:lnTo>
                    <a:lnTo>
                      <a:pt x="536" y="696"/>
                    </a:lnTo>
                    <a:lnTo>
                      <a:pt x="536" y="705"/>
                    </a:lnTo>
                    <a:lnTo>
                      <a:pt x="541" y="705"/>
                    </a:lnTo>
                    <a:lnTo>
                      <a:pt x="536" y="705"/>
                    </a:lnTo>
                    <a:lnTo>
                      <a:pt x="531" y="714"/>
                    </a:lnTo>
                    <a:lnTo>
                      <a:pt x="527" y="724"/>
                    </a:lnTo>
                    <a:lnTo>
                      <a:pt x="527" y="724"/>
                    </a:lnTo>
                    <a:lnTo>
                      <a:pt x="527" y="724"/>
                    </a:lnTo>
                    <a:lnTo>
                      <a:pt x="527" y="733"/>
                    </a:lnTo>
                    <a:lnTo>
                      <a:pt x="527" y="747"/>
                    </a:lnTo>
                    <a:lnTo>
                      <a:pt x="527" y="757"/>
                    </a:lnTo>
                    <a:lnTo>
                      <a:pt x="527" y="766"/>
                    </a:lnTo>
                    <a:lnTo>
                      <a:pt x="527" y="775"/>
                    </a:lnTo>
                    <a:lnTo>
                      <a:pt x="527" y="785"/>
                    </a:lnTo>
                    <a:lnTo>
                      <a:pt x="527" y="790"/>
                    </a:lnTo>
                    <a:lnTo>
                      <a:pt x="527" y="790"/>
                    </a:lnTo>
                    <a:lnTo>
                      <a:pt x="531" y="799"/>
                    </a:lnTo>
                    <a:lnTo>
                      <a:pt x="531" y="799"/>
                    </a:lnTo>
                    <a:lnTo>
                      <a:pt x="531" y="799"/>
                    </a:lnTo>
                    <a:lnTo>
                      <a:pt x="536" y="804"/>
                    </a:lnTo>
                    <a:lnTo>
                      <a:pt x="541" y="799"/>
                    </a:lnTo>
                    <a:lnTo>
                      <a:pt x="536" y="799"/>
                    </a:lnTo>
                    <a:lnTo>
                      <a:pt x="536" y="808"/>
                    </a:lnTo>
                    <a:lnTo>
                      <a:pt x="536" y="813"/>
                    </a:lnTo>
                    <a:lnTo>
                      <a:pt x="536" y="813"/>
                    </a:lnTo>
                    <a:lnTo>
                      <a:pt x="541" y="818"/>
                    </a:lnTo>
                    <a:lnTo>
                      <a:pt x="545" y="813"/>
                    </a:lnTo>
                    <a:lnTo>
                      <a:pt x="541" y="818"/>
                    </a:lnTo>
                    <a:lnTo>
                      <a:pt x="545" y="827"/>
                    </a:lnTo>
                    <a:lnTo>
                      <a:pt x="545" y="827"/>
                    </a:lnTo>
                    <a:lnTo>
                      <a:pt x="550" y="832"/>
                    </a:lnTo>
                    <a:lnTo>
                      <a:pt x="564" y="841"/>
                    </a:lnTo>
                    <a:lnTo>
                      <a:pt x="564" y="832"/>
                    </a:lnTo>
                    <a:lnTo>
                      <a:pt x="559" y="837"/>
                    </a:lnTo>
                    <a:lnTo>
                      <a:pt x="569" y="846"/>
                    </a:lnTo>
                    <a:lnTo>
                      <a:pt x="574" y="851"/>
                    </a:lnTo>
                    <a:lnTo>
                      <a:pt x="574" y="851"/>
                    </a:lnTo>
                    <a:lnTo>
                      <a:pt x="588" y="860"/>
                    </a:lnTo>
                    <a:lnTo>
                      <a:pt x="602" y="865"/>
                    </a:lnTo>
                    <a:lnTo>
                      <a:pt x="616" y="869"/>
                    </a:lnTo>
                    <a:lnTo>
                      <a:pt x="616" y="869"/>
                    </a:lnTo>
                    <a:lnTo>
                      <a:pt x="616" y="869"/>
                    </a:lnTo>
                    <a:lnTo>
                      <a:pt x="630" y="869"/>
                    </a:lnTo>
                    <a:lnTo>
                      <a:pt x="644" y="869"/>
                    </a:lnTo>
                    <a:lnTo>
                      <a:pt x="658" y="869"/>
                    </a:lnTo>
                    <a:lnTo>
                      <a:pt x="663" y="869"/>
                    </a:lnTo>
                    <a:lnTo>
                      <a:pt x="663" y="869"/>
                    </a:lnTo>
                    <a:lnTo>
                      <a:pt x="677" y="865"/>
                    </a:lnTo>
                    <a:lnTo>
                      <a:pt x="686" y="860"/>
                    </a:lnTo>
                    <a:lnTo>
                      <a:pt x="696" y="855"/>
                    </a:lnTo>
                    <a:lnTo>
                      <a:pt x="705" y="851"/>
                    </a:lnTo>
                    <a:lnTo>
                      <a:pt x="705" y="846"/>
                    </a:lnTo>
                    <a:lnTo>
                      <a:pt x="710" y="846"/>
                    </a:lnTo>
                    <a:lnTo>
                      <a:pt x="715" y="837"/>
                    </a:lnTo>
                    <a:lnTo>
                      <a:pt x="705" y="832"/>
                    </a:lnTo>
                    <a:lnTo>
                      <a:pt x="710" y="841"/>
                    </a:lnTo>
                    <a:lnTo>
                      <a:pt x="719" y="837"/>
                    </a:lnTo>
                    <a:lnTo>
                      <a:pt x="729" y="832"/>
                    </a:lnTo>
                    <a:lnTo>
                      <a:pt x="738" y="827"/>
                    </a:lnTo>
                    <a:lnTo>
                      <a:pt x="733" y="818"/>
                    </a:lnTo>
                    <a:lnTo>
                      <a:pt x="733" y="827"/>
                    </a:lnTo>
                    <a:lnTo>
                      <a:pt x="748" y="827"/>
                    </a:lnTo>
                    <a:lnTo>
                      <a:pt x="757" y="827"/>
                    </a:lnTo>
                    <a:lnTo>
                      <a:pt x="757" y="818"/>
                    </a:lnTo>
                    <a:lnTo>
                      <a:pt x="757" y="827"/>
                    </a:lnTo>
                    <a:lnTo>
                      <a:pt x="766" y="832"/>
                    </a:lnTo>
                    <a:lnTo>
                      <a:pt x="776" y="837"/>
                    </a:lnTo>
                    <a:lnTo>
                      <a:pt x="776" y="837"/>
                    </a:lnTo>
                    <a:lnTo>
                      <a:pt x="776" y="837"/>
                    </a:lnTo>
                    <a:lnTo>
                      <a:pt x="785" y="837"/>
                    </a:lnTo>
                    <a:lnTo>
                      <a:pt x="785" y="827"/>
                    </a:lnTo>
                    <a:lnTo>
                      <a:pt x="781" y="832"/>
                    </a:lnTo>
                    <a:lnTo>
                      <a:pt x="790" y="841"/>
                    </a:lnTo>
                    <a:lnTo>
                      <a:pt x="795" y="846"/>
                    </a:lnTo>
                    <a:lnTo>
                      <a:pt x="795" y="846"/>
                    </a:lnTo>
                    <a:lnTo>
                      <a:pt x="804" y="851"/>
                    </a:lnTo>
                    <a:lnTo>
                      <a:pt x="813" y="855"/>
                    </a:lnTo>
                    <a:lnTo>
                      <a:pt x="813" y="846"/>
                    </a:lnTo>
                    <a:lnTo>
                      <a:pt x="809" y="851"/>
                    </a:lnTo>
                    <a:lnTo>
                      <a:pt x="813" y="860"/>
                    </a:lnTo>
                    <a:lnTo>
                      <a:pt x="818" y="869"/>
                    </a:lnTo>
                    <a:lnTo>
                      <a:pt x="823" y="879"/>
                    </a:lnTo>
                    <a:lnTo>
                      <a:pt x="828" y="874"/>
                    </a:lnTo>
                    <a:lnTo>
                      <a:pt x="823" y="874"/>
                    </a:lnTo>
                    <a:lnTo>
                      <a:pt x="823" y="879"/>
                    </a:lnTo>
                    <a:lnTo>
                      <a:pt x="823" y="902"/>
                    </a:lnTo>
                    <a:lnTo>
                      <a:pt x="818" y="931"/>
                    </a:lnTo>
                    <a:lnTo>
                      <a:pt x="818" y="968"/>
                    </a:lnTo>
                    <a:lnTo>
                      <a:pt x="813" y="1006"/>
                    </a:lnTo>
                    <a:lnTo>
                      <a:pt x="813" y="1048"/>
                    </a:lnTo>
                    <a:lnTo>
                      <a:pt x="813" y="1086"/>
                    </a:lnTo>
                    <a:lnTo>
                      <a:pt x="813" y="1105"/>
                    </a:lnTo>
                    <a:lnTo>
                      <a:pt x="813" y="1109"/>
                    </a:lnTo>
                    <a:lnTo>
                      <a:pt x="813" y="1109"/>
                    </a:lnTo>
                    <a:lnTo>
                      <a:pt x="818" y="1128"/>
                    </a:lnTo>
                    <a:lnTo>
                      <a:pt x="823" y="1123"/>
                    </a:lnTo>
                    <a:lnTo>
                      <a:pt x="818" y="1123"/>
                    </a:lnTo>
                    <a:lnTo>
                      <a:pt x="818" y="1142"/>
                    </a:lnTo>
                    <a:lnTo>
                      <a:pt x="818" y="1147"/>
                    </a:lnTo>
                    <a:lnTo>
                      <a:pt x="818" y="1147"/>
                    </a:lnTo>
                    <a:lnTo>
                      <a:pt x="823" y="1161"/>
                    </a:lnTo>
                    <a:lnTo>
                      <a:pt x="828" y="1156"/>
                    </a:lnTo>
                    <a:lnTo>
                      <a:pt x="828" y="1152"/>
                    </a:lnTo>
                    <a:lnTo>
                      <a:pt x="813" y="1161"/>
                    </a:lnTo>
                    <a:lnTo>
                      <a:pt x="799" y="1170"/>
                    </a:lnTo>
                    <a:lnTo>
                      <a:pt x="799" y="1175"/>
                    </a:lnTo>
                    <a:lnTo>
                      <a:pt x="799" y="1170"/>
                    </a:lnTo>
                    <a:lnTo>
                      <a:pt x="781" y="1175"/>
                    </a:lnTo>
                    <a:lnTo>
                      <a:pt x="762" y="1180"/>
                    </a:lnTo>
                    <a:lnTo>
                      <a:pt x="743" y="1184"/>
                    </a:lnTo>
                    <a:lnTo>
                      <a:pt x="724" y="1184"/>
                    </a:lnTo>
                    <a:lnTo>
                      <a:pt x="701" y="1184"/>
                    </a:lnTo>
                    <a:lnTo>
                      <a:pt x="682" y="1184"/>
                    </a:lnTo>
                    <a:lnTo>
                      <a:pt x="658" y="1184"/>
                    </a:lnTo>
                    <a:lnTo>
                      <a:pt x="635" y="1180"/>
                    </a:lnTo>
                    <a:lnTo>
                      <a:pt x="616" y="1175"/>
                    </a:lnTo>
                    <a:lnTo>
                      <a:pt x="597" y="1170"/>
                    </a:lnTo>
                    <a:lnTo>
                      <a:pt x="578" y="1170"/>
                    </a:lnTo>
                    <a:lnTo>
                      <a:pt x="578" y="1175"/>
                    </a:lnTo>
                    <a:lnTo>
                      <a:pt x="583" y="1170"/>
                    </a:lnTo>
                    <a:lnTo>
                      <a:pt x="564" y="1161"/>
                    </a:lnTo>
                    <a:lnTo>
                      <a:pt x="564" y="1161"/>
                    </a:lnTo>
                    <a:lnTo>
                      <a:pt x="559" y="1161"/>
                    </a:lnTo>
                    <a:lnTo>
                      <a:pt x="541" y="1156"/>
                    </a:lnTo>
                    <a:lnTo>
                      <a:pt x="541" y="1161"/>
                    </a:lnTo>
                    <a:lnTo>
                      <a:pt x="545" y="1156"/>
                    </a:lnTo>
                    <a:lnTo>
                      <a:pt x="531" y="1152"/>
                    </a:lnTo>
                    <a:lnTo>
                      <a:pt x="517" y="1147"/>
                    </a:lnTo>
                    <a:lnTo>
                      <a:pt x="508" y="1142"/>
                    </a:lnTo>
                    <a:lnTo>
                      <a:pt x="503" y="1147"/>
                    </a:lnTo>
                    <a:lnTo>
                      <a:pt x="508" y="1142"/>
                    </a:lnTo>
                    <a:lnTo>
                      <a:pt x="503" y="1137"/>
                    </a:lnTo>
                    <a:lnTo>
                      <a:pt x="494" y="1128"/>
                    </a:lnTo>
                    <a:lnTo>
                      <a:pt x="489" y="1123"/>
                    </a:lnTo>
                    <a:lnTo>
                      <a:pt x="484" y="1119"/>
                    </a:lnTo>
                    <a:lnTo>
                      <a:pt x="480" y="1123"/>
                    </a:lnTo>
                    <a:lnTo>
                      <a:pt x="489" y="1123"/>
                    </a:lnTo>
                    <a:lnTo>
                      <a:pt x="489" y="1119"/>
                    </a:lnTo>
                    <a:lnTo>
                      <a:pt x="489" y="1109"/>
                    </a:lnTo>
                    <a:lnTo>
                      <a:pt x="489" y="1105"/>
                    </a:lnTo>
                    <a:lnTo>
                      <a:pt x="489" y="1095"/>
                    </a:lnTo>
                    <a:lnTo>
                      <a:pt x="480" y="1095"/>
                    </a:lnTo>
                    <a:lnTo>
                      <a:pt x="484" y="1100"/>
                    </a:lnTo>
                    <a:lnTo>
                      <a:pt x="489" y="1095"/>
                    </a:lnTo>
                    <a:lnTo>
                      <a:pt x="494" y="1095"/>
                    </a:lnTo>
                    <a:lnTo>
                      <a:pt x="494" y="1095"/>
                    </a:lnTo>
                    <a:lnTo>
                      <a:pt x="498" y="1086"/>
                    </a:lnTo>
                    <a:lnTo>
                      <a:pt x="508" y="1067"/>
                    </a:lnTo>
                    <a:lnTo>
                      <a:pt x="498" y="1062"/>
                    </a:lnTo>
                    <a:lnTo>
                      <a:pt x="503" y="1067"/>
                    </a:lnTo>
                    <a:lnTo>
                      <a:pt x="522" y="1048"/>
                    </a:lnTo>
                    <a:lnTo>
                      <a:pt x="527" y="1048"/>
                    </a:lnTo>
                    <a:lnTo>
                      <a:pt x="527" y="1048"/>
                    </a:lnTo>
                    <a:lnTo>
                      <a:pt x="536" y="1034"/>
                    </a:lnTo>
                    <a:lnTo>
                      <a:pt x="527" y="1029"/>
                    </a:lnTo>
                    <a:lnTo>
                      <a:pt x="531" y="1034"/>
                    </a:lnTo>
                    <a:lnTo>
                      <a:pt x="541" y="1025"/>
                    </a:lnTo>
                    <a:lnTo>
                      <a:pt x="545" y="1025"/>
                    </a:lnTo>
                    <a:lnTo>
                      <a:pt x="545" y="1025"/>
                    </a:lnTo>
                    <a:lnTo>
                      <a:pt x="550" y="1011"/>
                    </a:lnTo>
                    <a:lnTo>
                      <a:pt x="555" y="996"/>
                    </a:lnTo>
                    <a:lnTo>
                      <a:pt x="555" y="996"/>
                    </a:lnTo>
                    <a:lnTo>
                      <a:pt x="555" y="992"/>
                    </a:lnTo>
                    <a:lnTo>
                      <a:pt x="555" y="978"/>
                    </a:lnTo>
                    <a:lnTo>
                      <a:pt x="555" y="959"/>
                    </a:lnTo>
                    <a:lnTo>
                      <a:pt x="555" y="945"/>
                    </a:lnTo>
                    <a:lnTo>
                      <a:pt x="555" y="945"/>
                    </a:lnTo>
                    <a:lnTo>
                      <a:pt x="555" y="945"/>
                    </a:lnTo>
                    <a:lnTo>
                      <a:pt x="550" y="931"/>
                    </a:lnTo>
                    <a:lnTo>
                      <a:pt x="541" y="916"/>
                    </a:lnTo>
                    <a:lnTo>
                      <a:pt x="536" y="907"/>
                    </a:lnTo>
                    <a:lnTo>
                      <a:pt x="531" y="898"/>
                    </a:lnTo>
                    <a:lnTo>
                      <a:pt x="527" y="893"/>
                    </a:lnTo>
                    <a:lnTo>
                      <a:pt x="527" y="893"/>
                    </a:lnTo>
                    <a:lnTo>
                      <a:pt x="517" y="888"/>
                    </a:lnTo>
                    <a:lnTo>
                      <a:pt x="512" y="893"/>
                    </a:lnTo>
                    <a:lnTo>
                      <a:pt x="517" y="888"/>
                    </a:lnTo>
                    <a:lnTo>
                      <a:pt x="512" y="884"/>
                    </a:lnTo>
                    <a:lnTo>
                      <a:pt x="512" y="884"/>
                    </a:lnTo>
                    <a:lnTo>
                      <a:pt x="512" y="884"/>
                    </a:lnTo>
                    <a:lnTo>
                      <a:pt x="503" y="879"/>
                    </a:lnTo>
                    <a:lnTo>
                      <a:pt x="498" y="884"/>
                    </a:lnTo>
                    <a:lnTo>
                      <a:pt x="503" y="879"/>
                    </a:lnTo>
                    <a:lnTo>
                      <a:pt x="498" y="874"/>
                    </a:lnTo>
                    <a:lnTo>
                      <a:pt x="498" y="874"/>
                    </a:lnTo>
                    <a:lnTo>
                      <a:pt x="494" y="874"/>
                    </a:lnTo>
                    <a:lnTo>
                      <a:pt x="484" y="874"/>
                    </a:lnTo>
                    <a:lnTo>
                      <a:pt x="484" y="879"/>
                    </a:lnTo>
                    <a:lnTo>
                      <a:pt x="489" y="874"/>
                    </a:lnTo>
                    <a:lnTo>
                      <a:pt x="480" y="869"/>
                    </a:lnTo>
                    <a:lnTo>
                      <a:pt x="470" y="865"/>
                    </a:lnTo>
                    <a:lnTo>
                      <a:pt x="470" y="865"/>
                    </a:lnTo>
                    <a:lnTo>
                      <a:pt x="465" y="865"/>
                    </a:lnTo>
                    <a:lnTo>
                      <a:pt x="456" y="865"/>
                    </a:lnTo>
                    <a:lnTo>
                      <a:pt x="456" y="869"/>
                    </a:lnTo>
                    <a:lnTo>
                      <a:pt x="461" y="865"/>
                    </a:lnTo>
                    <a:lnTo>
                      <a:pt x="447" y="860"/>
                    </a:lnTo>
                    <a:lnTo>
                      <a:pt x="447" y="860"/>
                    </a:lnTo>
                    <a:lnTo>
                      <a:pt x="442" y="860"/>
                    </a:lnTo>
                    <a:lnTo>
                      <a:pt x="433" y="860"/>
                    </a:lnTo>
                    <a:lnTo>
                      <a:pt x="418" y="860"/>
                    </a:lnTo>
                    <a:lnTo>
                      <a:pt x="409" y="860"/>
                    </a:lnTo>
                    <a:lnTo>
                      <a:pt x="409" y="860"/>
                    </a:lnTo>
                    <a:lnTo>
                      <a:pt x="409" y="860"/>
                    </a:lnTo>
                    <a:lnTo>
                      <a:pt x="400" y="865"/>
                    </a:lnTo>
                    <a:lnTo>
                      <a:pt x="400" y="869"/>
                    </a:lnTo>
                    <a:lnTo>
                      <a:pt x="400" y="865"/>
                    </a:lnTo>
                    <a:lnTo>
                      <a:pt x="390" y="865"/>
                    </a:lnTo>
                    <a:lnTo>
                      <a:pt x="390" y="865"/>
                    </a:lnTo>
                    <a:lnTo>
                      <a:pt x="390" y="865"/>
                    </a:lnTo>
                    <a:lnTo>
                      <a:pt x="381" y="869"/>
                    </a:lnTo>
                    <a:lnTo>
                      <a:pt x="371" y="874"/>
                    </a:lnTo>
                    <a:lnTo>
                      <a:pt x="371" y="879"/>
                    </a:lnTo>
                    <a:lnTo>
                      <a:pt x="371" y="874"/>
                    </a:lnTo>
                    <a:lnTo>
                      <a:pt x="367" y="874"/>
                    </a:lnTo>
                    <a:lnTo>
                      <a:pt x="367" y="874"/>
                    </a:lnTo>
                    <a:lnTo>
                      <a:pt x="367" y="874"/>
                    </a:lnTo>
                    <a:lnTo>
                      <a:pt x="357" y="879"/>
                    </a:lnTo>
                    <a:lnTo>
                      <a:pt x="357" y="879"/>
                    </a:lnTo>
                    <a:lnTo>
                      <a:pt x="353" y="879"/>
                    </a:lnTo>
                    <a:lnTo>
                      <a:pt x="348" y="884"/>
                    </a:lnTo>
                    <a:lnTo>
                      <a:pt x="343" y="888"/>
                    </a:lnTo>
                    <a:lnTo>
                      <a:pt x="338" y="893"/>
                    </a:lnTo>
                    <a:lnTo>
                      <a:pt x="338" y="898"/>
                    </a:lnTo>
                    <a:lnTo>
                      <a:pt x="338" y="898"/>
                    </a:lnTo>
                    <a:lnTo>
                      <a:pt x="334" y="907"/>
                    </a:lnTo>
                    <a:lnTo>
                      <a:pt x="338" y="907"/>
                    </a:lnTo>
                    <a:lnTo>
                      <a:pt x="334" y="902"/>
                    </a:lnTo>
                    <a:lnTo>
                      <a:pt x="329" y="907"/>
                    </a:lnTo>
                    <a:lnTo>
                      <a:pt x="329" y="912"/>
                    </a:lnTo>
                    <a:lnTo>
                      <a:pt x="329" y="912"/>
                    </a:lnTo>
                    <a:lnTo>
                      <a:pt x="324" y="926"/>
                    </a:lnTo>
                    <a:lnTo>
                      <a:pt x="320" y="940"/>
                    </a:lnTo>
                    <a:lnTo>
                      <a:pt x="315" y="959"/>
                    </a:lnTo>
                    <a:lnTo>
                      <a:pt x="315" y="959"/>
                    </a:lnTo>
                    <a:lnTo>
                      <a:pt x="315" y="959"/>
                    </a:lnTo>
                    <a:lnTo>
                      <a:pt x="315" y="973"/>
                    </a:lnTo>
                    <a:lnTo>
                      <a:pt x="315" y="978"/>
                    </a:lnTo>
                    <a:lnTo>
                      <a:pt x="315" y="978"/>
                    </a:lnTo>
                    <a:lnTo>
                      <a:pt x="320" y="996"/>
                    </a:lnTo>
                    <a:lnTo>
                      <a:pt x="324" y="1011"/>
                    </a:lnTo>
                    <a:lnTo>
                      <a:pt x="329" y="1025"/>
                    </a:lnTo>
                    <a:lnTo>
                      <a:pt x="334" y="1039"/>
                    </a:lnTo>
                    <a:lnTo>
                      <a:pt x="343" y="1058"/>
                    </a:lnTo>
                    <a:lnTo>
                      <a:pt x="343" y="1058"/>
                    </a:lnTo>
                    <a:lnTo>
                      <a:pt x="343" y="1058"/>
                    </a:lnTo>
                    <a:lnTo>
                      <a:pt x="353" y="1067"/>
                    </a:lnTo>
                    <a:lnTo>
                      <a:pt x="362" y="1076"/>
                    </a:lnTo>
                    <a:lnTo>
                      <a:pt x="367" y="1072"/>
                    </a:lnTo>
                    <a:lnTo>
                      <a:pt x="362" y="1076"/>
                    </a:lnTo>
                    <a:lnTo>
                      <a:pt x="367" y="1086"/>
                    </a:lnTo>
                    <a:lnTo>
                      <a:pt x="371" y="1095"/>
                    </a:lnTo>
                    <a:lnTo>
                      <a:pt x="376" y="1090"/>
                    </a:lnTo>
                    <a:lnTo>
                      <a:pt x="371" y="1090"/>
                    </a:lnTo>
                    <a:lnTo>
                      <a:pt x="371" y="1100"/>
                    </a:lnTo>
                    <a:lnTo>
                      <a:pt x="371" y="1114"/>
                    </a:lnTo>
                    <a:lnTo>
                      <a:pt x="371" y="1123"/>
                    </a:lnTo>
                    <a:lnTo>
                      <a:pt x="371" y="1133"/>
                    </a:lnTo>
                    <a:lnTo>
                      <a:pt x="376" y="1133"/>
                    </a:lnTo>
                    <a:lnTo>
                      <a:pt x="376" y="1128"/>
                    </a:lnTo>
                    <a:lnTo>
                      <a:pt x="367" y="1133"/>
                    </a:lnTo>
                    <a:lnTo>
                      <a:pt x="362" y="1133"/>
                    </a:lnTo>
                    <a:lnTo>
                      <a:pt x="362" y="1137"/>
                    </a:lnTo>
                    <a:lnTo>
                      <a:pt x="357" y="1147"/>
                    </a:lnTo>
                    <a:lnTo>
                      <a:pt x="362" y="1147"/>
                    </a:lnTo>
                    <a:lnTo>
                      <a:pt x="362" y="1142"/>
                    </a:lnTo>
                    <a:lnTo>
                      <a:pt x="353" y="1147"/>
                    </a:lnTo>
                    <a:lnTo>
                      <a:pt x="343" y="1152"/>
                    </a:lnTo>
                    <a:lnTo>
                      <a:pt x="343" y="1156"/>
                    </a:lnTo>
                    <a:lnTo>
                      <a:pt x="343" y="1152"/>
                    </a:lnTo>
                    <a:lnTo>
                      <a:pt x="334" y="1152"/>
                    </a:lnTo>
                    <a:lnTo>
                      <a:pt x="320" y="1152"/>
                    </a:lnTo>
                    <a:lnTo>
                      <a:pt x="301" y="1152"/>
                    </a:lnTo>
                    <a:lnTo>
                      <a:pt x="301" y="1156"/>
                    </a:lnTo>
                    <a:lnTo>
                      <a:pt x="306" y="1152"/>
                    </a:lnTo>
                    <a:lnTo>
                      <a:pt x="291" y="1147"/>
                    </a:lnTo>
                    <a:lnTo>
                      <a:pt x="296" y="1147"/>
                    </a:lnTo>
                    <a:lnTo>
                      <a:pt x="287" y="1147"/>
                    </a:lnTo>
                    <a:lnTo>
                      <a:pt x="268" y="11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9144000" y="649908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INCLUSIÓN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strips dir="r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67494E-006 L 0.54723 -0.12914 E">
                                      <p:cBhvr>
                                        <p:cTn id="181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21594E-006 L -0.52761 -0.45853 E">
                                      <p:cBhvr>
                                        <p:cTn id="184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79280" y="2565360"/>
            <a:ext cx="3232080" cy="32320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564000" y="3933720"/>
            <a:ext cx="1224000" cy="574920"/>
          </a:xfrm>
          <a:prstGeom prst="rightArrow">
            <a:avLst>
              <a:gd name="adj1" fmla="val 50000"/>
              <a:gd name="adj2" fmla="val 53225"/>
            </a:avLst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5003640" y="2637000"/>
            <a:ext cx="3961080" cy="31255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LACIÓN AJUSTE - INCLUS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LACIÓN AJUSTE - INCLUS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S JÓVENES CON UN BUEN AJUSTE A SU DISCAPACIDAD DESPLIEGAN MAS HABILIDADES QUE FACILITAN LA INCLUSIÓN (preguntan,  proponen alternativas ante actividades muy visuales, etc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651640" y="2781360"/>
            <a:ext cx="3232080" cy="32320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284720" y="3933720"/>
            <a:ext cx="1224000" cy="574920"/>
          </a:xfrm>
          <a:prstGeom prst="rightArrow">
            <a:avLst>
              <a:gd name="adj1" fmla="val 50000"/>
              <a:gd name="adj2" fmla="val 53225"/>
            </a:avLst>
          </a:prstGeom>
          <a:solidFill>
            <a:srgbClr val="ff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79280" y="2852640"/>
            <a:ext cx="3961080" cy="31258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LACIÓN AJUSTE - INCLUS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LACIÓN AJUSTE - INCLUS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S AMBIENTES INCLUSIVOS FACILITAN EL AJUSTE A LA DISCAPACIDAD (favorecen una autovaloración más realista, una autoestima más positiva, etc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-60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2. ¿CÓMO CONSTRUIR UNA ESCUELA MÁS INCLUSIVA? 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1. CLARIFICANDO NUESTRAS MET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4" name="Picture 4" descr="C:\Users\María Aragorn\Pictures\Galería multimedia de Microsoft\j0425503.jpg"/>
          <p:cNvPicPr/>
          <p:nvPr/>
        </p:nvPicPr>
        <p:blipFill>
          <a:blip r:embed="rId1"/>
          <a:stretch/>
        </p:blipFill>
        <p:spPr>
          <a:xfrm>
            <a:off x="1000080" y="2286000"/>
            <a:ext cx="7143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2</a:t>
            </a: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. DIAGNOSTICANDO LA SITUACIÓN DE PARTI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1835280" y="2276640"/>
            <a:ext cx="576252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6666"/>
                </a:solidFill>
                <a:latin typeface="Arial"/>
              </a:rPr>
              <a:t>OBJETIVOS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81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MEJORAR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NUESTRO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 CONOCIMIENTO ACERCA DE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LA </a:t>
            </a:r>
            <a:r>
              <a:rPr b="1" i="1" lang="es-ES" sz="2800" spc="-1" strike="noStrike">
                <a:solidFill>
                  <a:srgbClr val="003366"/>
                </a:solidFill>
                <a:latin typeface="Arial"/>
              </a:rPr>
              <a:t>INCLUSIÓN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 DE LOS JÓVENES CON D.V.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EN LA ESCUEL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IDENTIFICAR FACTORES ESENCIALES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PARA CONSTRUIR UNA </a:t>
            </a:r>
            <a:r>
              <a:rPr b="1" i="1" lang="es-ES" sz="2800" spc="-1" strike="noStrike">
                <a:solidFill>
                  <a:srgbClr val="003366"/>
                </a:solidFill>
                <a:latin typeface="Arial"/>
              </a:rPr>
              <a:t>ESCUELA INCLUSIVA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 QUE FAVOREZCA EL </a:t>
            </a:r>
            <a:r>
              <a:rPr b="1" i="1" lang="es-ES" sz="2800" spc="-1" strike="noStrike">
                <a:solidFill>
                  <a:srgbClr val="003366"/>
                </a:solidFill>
                <a:latin typeface="Arial"/>
              </a:rPr>
              <a:t>AJUSTE A LA DISCAPACIDAD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 VISUAL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PROMOVER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 UN BANCO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DE ACTIVIDADES 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QUE RECOJA BUENAS PRÁCTICAS DE </a:t>
            </a:r>
            <a:r>
              <a:rPr b="1" i="1" lang="es-ES_tradnl" sz="2800" spc="-1" strike="noStrike">
                <a:solidFill>
                  <a:srgbClr val="003366"/>
                </a:solidFill>
                <a:latin typeface="Arial"/>
              </a:rPr>
              <a:t>INCLUSIÓN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 EDUCATIV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3</a:t>
            </a: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. CREANDO UN EQUIPO DE TRABAJ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8" name="Picture 2" descr="C:\Users\María Aragorn\Pictures\Galería multimedia de Microsoft\bd19668_.wmf"/>
          <p:cNvPicPr/>
          <p:nvPr/>
        </p:nvPicPr>
        <p:blipFill>
          <a:blip r:embed="rId1"/>
          <a:stretch/>
        </p:blipFill>
        <p:spPr>
          <a:xfrm>
            <a:off x="3071880" y="2214720"/>
            <a:ext cx="28954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4</a:t>
            </a: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. IDENTIFICANDO OBSTÁCULOS EN EL CAMIN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0" name="11 Marcador de contenido" descr="j0406098.wmf"/>
          <p:cNvPicPr/>
          <p:nvPr/>
        </p:nvPicPr>
        <p:blipFill>
          <a:blip r:embed="rId1"/>
          <a:stretch/>
        </p:blipFill>
        <p:spPr>
          <a:xfrm>
            <a:off x="1428840" y="2286000"/>
            <a:ext cx="6124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5</a:t>
            </a: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. PLANIFICANDO POSIBLES ITINERARI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2" name="Picture 2" descr="C:\Users\María Aragorn\Pictures\Galería multimedia de Microsoft\j0231729.wmf"/>
          <p:cNvPicPr/>
          <p:nvPr/>
        </p:nvPicPr>
        <p:blipFill>
          <a:blip r:embed="rId1"/>
          <a:stretch/>
        </p:blipFill>
        <p:spPr>
          <a:xfrm>
            <a:off x="2786040" y="2276640"/>
            <a:ext cx="357192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6</a:t>
            </a: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. ESTABLECIENDO CAMPAMENTOS BA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4" name="Picture 2" descr="C:\Users\María Aragorn\Pictures\Galería multimedia de Microsoft\j0422645.jpg"/>
          <p:cNvPicPr/>
          <p:nvPr/>
        </p:nvPicPr>
        <p:blipFill>
          <a:blip r:embed="rId1"/>
          <a:stretch/>
        </p:blipFill>
        <p:spPr>
          <a:xfrm>
            <a:off x="1071720" y="2286000"/>
            <a:ext cx="7000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7. EVALUANDO EL CAMINO SEGUID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2643120" y="2257560"/>
            <a:ext cx="345600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8. BUSCANDO NUEVOS RET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1428840" y="2286000"/>
            <a:ext cx="6561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Arial"/>
              </a:rPr>
              <a:t>INCLUSIÓN SOCIAL DE JÓVENES CON DISCAPACIDAD VISUAL DESDE EL ÁMBITO EDUCATIVO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UESTIONES CLAV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AJUSTE A LA DISCAPACIDA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71640" y="616572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SITUACIÓN DE PARTID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867280" y="234936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SITUACIÓN DESEAB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68360" y="321300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OBSTÁCUL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133800" y="2427120"/>
            <a:ext cx="3101760" cy="3594240"/>
          </a:xfrm>
          <a:prstGeom prst="rect">
            <a:avLst/>
          </a:prstGeom>
          <a:ln w="0">
            <a:noFill/>
          </a:ln>
        </p:spPr>
      </p:pic>
      <p:grpSp>
        <p:nvGrpSpPr>
          <p:cNvPr id="246" name=""/>
          <p:cNvGrpSpPr/>
          <p:nvPr/>
        </p:nvGrpSpPr>
        <p:grpSpPr>
          <a:xfrm>
            <a:off x="4571640" y="3213000"/>
            <a:ext cx="3816720" cy="1944720"/>
            <a:chOff x="4571640" y="3213000"/>
            <a:chExt cx="3816720" cy="1944720"/>
          </a:xfrm>
        </p:grpSpPr>
        <p:sp>
          <p:nvSpPr>
            <p:cNvPr id="247" name=""/>
            <p:cNvSpPr/>
            <p:nvPr/>
          </p:nvSpPr>
          <p:spPr>
            <a:xfrm>
              <a:off x="6478560" y="4076640"/>
              <a:ext cx="190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3366"/>
                  </a:solidFill>
                  <a:latin typeface="Arial"/>
                </a:rPr>
                <a:t>HIPÓTESIS DE PROGRESIÓN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 flipV="1">
              <a:off x="5076720" y="3213000"/>
              <a:ext cx="1440000" cy="936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4571640" y="4292640"/>
              <a:ext cx="1871640" cy="8650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91320" y="848880"/>
            <a:ext cx="8665560" cy="119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1. </a:t>
            </a: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SITUACIÓN DESEABLE</a:t>
            </a:r>
            <a:br>
              <a:rPr sz="3200"/>
            </a:b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 O CU</a:t>
            </a: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Á</a:t>
            </a: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NDO PODEMOS DECIR QUE NUESTRO SISTEMA EDUCATIVO PROMUEVE EL AJUST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2709720" y="2317680"/>
            <a:ext cx="394992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NUESTRO SISTEMA EDUCATIVO PROMUEVE EL AJUSTE CUANDO…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FACILITA EL CONOCIMIENTO DE LAS SEMEJANZAS Y DIFERENCI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OMUEVE EL RESPETO A LAS DIFERENCIAS Y LA SOLIDAR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TRANSMITE LA IDEA DE QUE EL CENTRO ES DE TODOS Y LA SOCIEDAD TAMBIÉ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NO SEGREGA.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ES ACCESIBL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CUBRE LAS NECESIDADES EDUCATIVAS DE TODO EL ALUMNAD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LANIFICA ACTIVIDADES PARA TOD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METODOLOGÍ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2565360"/>
            <a:ext cx="2735280" cy="1224000"/>
          </a:xfrm>
          <a:prstGeom prst="rightArrow">
            <a:avLst>
              <a:gd name="adj1" fmla="val 50000"/>
              <a:gd name="adj2" fmla="val 55868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ONENC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3860640"/>
            <a:ext cx="2735280" cy="1224000"/>
          </a:xfrm>
          <a:prstGeom prst="rightArrow">
            <a:avLst>
              <a:gd name="adj1" fmla="val 50000"/>
              <a:gd name="adj2" fmla="val 55868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EMINARI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5229360"/>
            <a:ext cx="2735280" cy="1224000"/>
          </a:xfrm>
          <a:prstGeom prst="rightArrow">
            <a:avLst>
              <a:gd name="adj1" fmla="val 50000"/>
              <a:gd name="adj2" fmla="val 55868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ENCUENTR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95640" y="3573360"/>
            <a:ext cx="4680000" cy="1747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DENTIFICAR FACTORES ESENCIAL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MOVER BANCO ACTIVIDAD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95640" y="5516640"/>
            <a:ext cx="4680000" cy="82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EPARACIÓN ENCUENTRO CON JÓVEN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95640" y="2924280"/>
            <a:ext cx="3816360" cy="45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NMARQUE DEL TEM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2. </a:t>
            </a: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SITUACIÓN DE PARTI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852640" y="2390760"/>
            <a:ext cx="366408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UESTIONES CLAV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¿QUÉ Y CÓMO SE ESTÁ TRABAJANDO AHORA CON EL ALUMNADO EN RELACIÓN A NUESTRO MODELO DESEABLE 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¿CUÁLES SON NUESTRAS POSIBILIDADES Y LIMITACIONES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3</a:t>
            </a: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. 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¿CUAL ES EL</a:t>
            </a:r>
            <a:br>
              <a:rPr sz="3600"/>
            </a:b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 PAPEL DE LOS DISTINTOS AGENTES EDUCATIVO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9" name="Picture 2" descr="C:\Users\María Aragorn\Pictures\Galería multimedia de Microsoft\bd19668_.wmf"/>
          <p:cNvPicPr/>
          <p:nvPr/>
        </p:nvPicPr>
        <p:blipFill>
          <a:blip r:embed="rId1"/>
          <a:stretch/>
        </p:blipFill>
        <p:spPr>
          <a:xfrm>
            <a:off x="3071880" y="2214720"/>
            <a:ext cx="28954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UESTIONES CLAV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¿CUÁL ES EL PAPEL DEL TUTOR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¿CUÁL ES EL PAPEL DE LOS ORIENTADORES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¿CUÁL ES EL PAPEL DE LOS ESPECIALISTAS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¿CUÁL ES EL PAPEL DE LAS FAMILIAS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4. </a:t>
            </a: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OBSTÁCUL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627280" y="2308320"/>
            <a:ext cx="411480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6666"/>
                </a:solidFill>
                <a:latin typeface="Arial"/>
              </a:rPr>
              <a:t>OBSTÁCULOS.</a:t>
            </a:r>
            <a:br>
              <a:rPr sz="4000"/>
            </a:br>
            <a:r>
              <a:rPr b="1" lang="es-ES_tradnl" sz="4000" spc="-1" strike="noStrike">
                <a:solidFill>
                  <a:srgbClr val="006666"/>
                </a:solidFill>
                <a:latin typeface="Arial"/>
              </a:rPr>
              <a:t>ÁMBITOS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3850920" y="2565000"/>
            <a:ext cx="48243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CENTRO EDUCATIV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COMPAÑER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PROFESORAD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EL PROPIO ALUMN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116000" y="3284640"/>
            <a:ext cx="2160720" cy="20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9" dur="5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6666"/>
                </a:solidFill>
                <a:latin typeface="Arial"/>
              </a:rPr>
              <a:t>OBSTÁCULOS.</a:t>
            </a:r>
            <a:br>
              <a:rPr sz="4000"/>
            </a:br>
            <a:r>
              <a:rPr b="1" lang="es-ES_tradnl" sz="4000" spc="-1" strike="noStrike">
                <a:solidFill>
                  <a:srgbClr val="006666"/>
                </a:solidFill>
                <a:latin typeface="Arial"/>
              </a:rPr>
              <a:t>MOMENTOS </a:t>
            </a:r>
            <a:r>
              <a:rPr b="1" lang="es-ES" sz="4000" spc="-1" strike="noStrike">
                <a:solidFill>
                  <a:srgbClr val="006666"/>
                </a:solidFill>
                <a:latin typeface="Arial"/>
              </a:rPr>
              <a:t>CRÍTICOS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3850920" y="2565000"/>
            <a:ext cx="482436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Arial"/>
              </a:rPr>
              <a:t>AL INGRESO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Arial"/>
              </a:rPr>
              <a:t>DURANTE LA ESCOLARIZACIÓN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Arial"/>
              </a:rPr>
              <a:t>EN LA TRANSICIÓN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116000" y="3284640"/>
            <a:ext cx="2160720" cy="20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5. </a:t>
            </a: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HIPOTESIS DE PROGRE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270240" y="2421000"/>
            <a:ext cx="282888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UESTIONES CLAV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¿QUÉ FASES SE HAN PREVISTO EN LA EVOLUCIÓN HACIA EL MODELO DESEABL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a escuela física para todo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os contenidos educativos accesibles para todo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os contenidos educativos relevantes para todos como persona y como ciudadano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os maestros para todo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. 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-685800" algn="ctr">
              <a:lnSpc>
                <a:spcPct val="90000"/>
              </a:lnSpc>
              <a:buClr>
                <a:srgbClr val="003366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¿DISPONEMOS DE UN 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BANCO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DE ACTIVIDADES DE </a:t>
            </a:r>
            <a:r>
              <a:rPr b="1" i="1" lang="es-ES" sz="2800" spc="-1" strike="noStrike">
                <a:solidFill>
                  <a:srgbClr val="003366"/>
                </a:solidFill>
                <a:latin typeface="Arial"/>
              </a:rPr>
              <a:t>EFICACIA PROBADA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QUE FAVOREZCAN </a:t>
            </a:r>
            <a:br>
              <a:rPr sz="2800"/>
            </a:b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LA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 INCLUSIÓN EDUCATIVA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09480" indent="-60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1. ¿QUÉ SABEMOS ACERCA DEL DE </a:t>
            </a:r>
            <a:r>
              <a:rPr b="1" i="1" lang="es-ES" sz="3200" spc="-1" strike="noStrike">
                <a:solidFill>
                  <a:srgbClr val="003366"/>
                </a:solidFill>
                <a:latin typeface="Arial"/>
              </a:rPr>
              <a:t>INCLUSIÓN</a:t>
            </a:r>
            <a:r>
              <a:rPr b="1" lang="es-ES_tradnl" sz="3200" spc="-1" strike="noStrike">
                <a:solidFill>
                  <a:srgbClr val="003366"/>
                </a:solidFill>
                <a:latin typeface="Arial"/>
              </a:rPr>
              <a:t> DE LOS JÓVENES CON D.V. </a:t>
            </a: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EN LA ESCUELA?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EJEMPLIFICACIONES.</a:t>
            </a:r>
            <a:br>
              <a:rPr sz="3200"/>
            </a:b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PRÁCTICAS INCLUSIVA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565360" y="2349360"/>
            <a:ext cx="423864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929160" y="929160"/>
            <a:ext cx="758988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EJEMPLIFICACIÓN DE UN POSIBLE SISTEMA DE TRABAJ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 ENTRADA DEL ALUMNADO CON D.V. EN LOS INSTITUT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 AJUSTE DEL ALUMNADO AL CENTRO Y DEL CENTRO AL ALUMNAD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 SALIDA DE LOS INSTITUT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ADIENTE DE INCLUS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736560" y="2276640"/>
            <a:ext cx="3667320" cy="424800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4427280" y="2361960"/>
            <a:ext cx="4103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4. Acogida a todo el alumnad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. Acogida al alumnado con discapacida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 Acogida al alumnado  con discapacidad visu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 Acogida a nuestro alumno/a con discapacidad visu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LA ACOGIDA DEL ALUMNADO EN SECUNDARI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 TODO EL ALUMNAD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SERTO EN LA ACCIÓN TUTORI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LA MEJORA DEL AJUSTE A LA DISCAPACIDAD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 TODO EL ALUMNAD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SERTO EN EL CURRÍCUL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RABAJO EN GRUPO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ABAJO EN GRUP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ABORAR UNA PROPUESTA DE INCLUSIÓN ESCOLAR PARA JÓVENES CON DISCAPACIDAD VISUAL A NIVEL DE AULA, CENTRO EDUCATIVO, DISTRITO O DE APOYO EXTERN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ABAJO EN GRUP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OSQUEJO DE LA SITUACIÓN FINAL DESEAB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RACTERIZACIÓN DE LA SITUACIÓN DE PARTID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EÑO DE LA HIPÓTESIS DE TRABAJ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SCRIPCIÓN DE UNA ACTIVIDAD.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CONCEPTOS PREVI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81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66"/>
                </a:solidFill>
                <a:latin typeface="Arial"/>
              </a:rPr>
              <a:t>INCLUSIÓN ESCOLAR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66"/>
                </a:solidFill>
                <a:latin typeface="Arial"/>
              </a:rPr>
              <a:t>AJUSTE A LA DISCAPACIDAD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66"/>
                </a:solidFill>
                <a:latin typeface="Arial"/>
              </a:rPr>
              <a:t>RELACIÓN ENTRE AJUSTE E INCLUSIÓN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INCLUSIÓN ESCOL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124000" y="2492280"/>
            <a:ext cx="51022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CEPTO DE INCLUS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A ESCUELA QUE DE RESPUESTA A LAS NECESIDADES DE TODO EL ALUMNAD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SCUELA INTEGRADO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619280" y="2000160"/>
            <a:ext cx="6018120" cy="4919760"/>
            <a:chOff x="1619280" y="2000160"/>
            <a:chExt cx="6018120" cy="4919760"/>
          </a:xfrm>
        </p:grpSpPr>
        <p:sp>
          <p:nvSpPr>
            <p:cNvPr id="123" name=""/>
            <p:cNvSpPr/>
            <p:nvPr/>
          </p:nvSpPr>
          <p:spPr>
            <a:xfrm>
              <a:off x="1619280" y="2000160"/>
              <a:ext cx="6018120" cy="4919760"/>
            </a:xfrm>
            <a:custGeom>
              <a:avLst/>
              <a:gdLst/>
              <a:ahLst/>
              <a:rect l="l" t="t" r="r" b="b"/>
              <a:pathLst>
                <a:path w="3791" h="3099">
                  <a:moveTo>
                    <a:pt x="3791" y="437"/>
                  </a:moveTo>
                  <a:lnTo>
                    <a:pt x="3745" y="3099"/>
                  </a:lnTo>
                  <a:lnTo>
                    <a:pt x="0" y="2785"/>
                  </a:lnTo>
                  <a:lnTo>
                    <a:pt x="462" y="0"/>
                  </a:lnTo>
                  <a:lnTo>
                    <a:pt x="3791" y="43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49600" y="2525760"/>
              <a:ext cx="2482920" cy="3951360"/>
            </a:xfrm>
            <a:custGeom>
              <a:avLst/>
              <a:gdLst/>
              <a:ahLst/>
              <a:rect l="l" t="t" r="r" b="b"/>
              <a:pathLst>
                <a:path w="1564" h="2489">
                  <a:moveTo>
                    <a:pt x="782" y="2489"/>
                  </a:moveTo>
                  <a:lnTo>
                    <a:pt x="864" y="2483"/>
                  </a:lnTo>
                  <a:lnTo>
                    <a:pt x="940" y="2464"/>
                  </a:lnTo>
                  <a:lnTo>
                    <a:pt x="1015" y="2433"/>
                  </a:lnTo>
                  <a:lnTo>
                    <a:pt x="1088" y="2391"/>
                  </a:lnTo>
                  <a:lnTo>
                    <a:pt x="1155" y="2339"/>
                  </a:lnTo>
                  <a:lnTo>
                    <a:pt x="1219" y="2277"/>
                  </a:lnTo>
                  <a:lnTo>
                    <a:pt x="1279" y="2204"/>
                  </a:lnTo>
                  <a:lnTo>
                    <a:pt x="1336" y="2125"/>
                  </a:lnTo>
                  <a:lnTo>
                    <a:pt x="1386" y="2036"/>
                  </a:lnTo>
                  <a:lnTo>
                    <a:pt x="1431" y="1940"/>
                  </a:lnTo>
                  <a:lnTo>
                    <a:pt x="1471" y="1838"/>
                  </a:lnTo>
                  <a:lnTo>
                    <a:pt x="1504" y="1730"/>
                  </a:lnTo>
                  <a:lnTo>
                    <a:pt x="1529" y="1616"/>
                  </a:lnTo>
                  <a:lnTo>
                    <a:pt x="1548" y="1495"/>
                  </a:lnTo>
                  <a:lnTo>
                    <a:pt x="1560" y="1372"/>
                  </a:lnTo>
                  <a:lnTo>
                    <a:pt x="1564" y="1246"/>
                  </a:lnTo>
                  <a:lnTo>
                    <a:pt x="1560" y="1119"/>
                  </a:lnTo>
                  <a:lnTo>
                    <a:pt x="1548" y="994"/>
                  </a:lnTo>
                  <a:lnTo>
                    <a:pt x="1529" y="875"/>
                  </a:lnTo>
                  <a:lnTo>
                    <a:pt x="1504" y="761"/>
                  </a:lnTo>
                  <a:lnTo>
                    <a:pt x="1471" y="651"/>
                  </a:lnTo>
                  <a:lnTo>
                    <a:pt x="1431" y="549"/>
                  </a:lnTo>
                  <a:lnTo>
                    <a:pt x="1386" y="453"/>
                  </a:lnTo>
                  <a:lnTo>
                    <a:pt x="1336" y="364"/>
                  </a:lnTo>
                  <a:lnTo>
                    <a:pt x="1279" y="285"/>
                  </a:lnTo>
                  <a:lnTo>
                    <a:pt x="1219" y="212"/>
                  </a:lnTo>
                  <a:lnTo>
                    <a:pt x="1155" y="150"/>
                  </a:lnTo>
                  <a:lnTo>
                    <a:pt x="1088" y="98"/>
                  </a:lnTo>
                  <a:lnTo>
                    <a:pt x="1015" y="56"/>
                  </a:lnTo>
                  <a:lnTo>
                    <a:pt x="940" y="25"/>
                  </a:lnTo>
                  <a:lnTo>
                    <a:pt x="864" y="6"/>
                  </a:lnTo>
                  <a:lnTo>
                    <a:pt x="782" y="0"/>
                  </a:lnTo>
                  <a:lnTo>
                    <a:pt x="703" y="6"/>
                  </a:lnTo>
                  <a:lnTo>
                    <a:pt x="624" y="25"/>
                  </a:lnTo>
                  <a:lnTo>
                    <a:pt x="550" y="56"/>
                  </a:lnTo>
                  <a:lnTo>
                    <a:pt x="479" y="98"/>
                  </a:lnTo>
                  <a:lnTo>
                    <a:pt x="410" y="150"/>
                  </a:lnTo>
                  <a:lnTo>
                    <a:pt x="346" y="212"/>
                  </a:lnTo>
                  <a:lnTo>
                    <a:pt x="285" y="285"/>
                  </a:lnTo>
                  <a:lnTo>
                    <a:pt x="229" y="364"/>
                  </a:lnTo>
                  <a:lnTo>
                    <a:pt x="179" y="453"/>
                  </a:lnTo>
                  <a:lnTo>
                    <a:pt x="134" y="549"/>
                  </a:lnTo>
                  <a:lnTo>
                    <a:pt x="96" y="651"/>
                  </a:lnTo>
                  <a:lnTo>
                    <a:pt x="63" y="761"/>
                  </a:lnTo>
                  <a:lnTo>
                    <a:pt x="36" y="875"/>
                  </a:lnTo>
                  <a:lnTo>
                    <a:pt x="17" y="994"/>
                  </a:lnTo>
                  <a:lnTo>
                    <a:pt x="5" y="1119"/>
                  </a:lnTo>
                  <a:lnTo>
                    <a:pt x="0" y="1246"/>
                  </a:lnTo>
                  <a:lnTo>
                    <a:pt x="5" y="1372"/>
                  </a:lnTo>
                  <a:lnTo>
                    <a:pt x="17" y="1495"/>
                  </a:lnTo>
                  <a:lnTo>
                    <a:pt x="36" y="1616"/>
                  </a:lnTo>
                  <a:lnTo>
                    <a:pt x="63" y="1730"/>
                  </a:lnTo>
                  <a:lnTo>
                    <a:pt x="96" y="1838"/>
                  </a:lnTo>
                  <a:lnTo>
                    <a:pt x="134" y="1940"/>
                  </a:lnTo>
                  <a:lnTo>
                    <a:pt x="179" y="2036"/>
                  </a:lnTo>
                  <a:lnTo>
                    <a:pt x="229" y="2125"/>
                  </a:lnTo>
                  <a:lnTo>
                    <a:pt x="285" y="2204"/>
                  </a:lnTo>
                  <a:lnTo>
                    <a:pt x="346" y="2277"/>
                  </a:lnTo>
                  <a:lnTo>
                    <a:pt x="410" y="2339"/>
                  </a:lnTo>
                  <a:lnTo>
                    <a:pt x="479" y="2391"/>
                  </a:lnTo>
                  <a:lnTo>
                    <a:pt x="550" y="2433"/>
                  </a:lnTo>
                  <a:lnTo>
                    <a:pt x="624" y="2464"/>
                  </a:lnTo>
                  <a:lnTo>
                    <a:pt x="703" y="2483"/>
                  </a:lnTo>
                  <a:lnTo>
                    <a:pt x="782" y="2489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79840" y="2571840"/>
              <a:ext cx="2427480" cy="3862080"/>
            </a:xfrm>
            <a:custGeom>
              <a:avLst/>
              <a:gdLst/>
              <a:ahLst/>
              <a:rect l="l" t="t" r="r" b="b"/>
              <a:pathLst>
                <a:path w="1529" h="2433">
                  <a:moveTo>
                    <a:pt x="763" y="2433"/>
                  </a:moveTo>
                  <a:lnTo>
                    <a:pt x="842" y="2427"/>
                  </a:lnTo>
                  <a:lnTo>
                    <a:pt x="917" y="2408"/>
                  </a:lnTo>
                  <a:lnTo>
                    <a:pt x="990" y="2379"/>
                  </a:lnTo>
                  <a:lnTo>
                    <a:pt x="1061" y="2337"/>
                  </a:lnTo>
                  <a:lnTo>
                    <a:pt x="1127" y="2285"/>
                  </a:lnTo>
                  <a:lnTo>
                    <a:pt x="1192" y="2225"/>
                  </a:lnTo>
                  <a:lnTo>
                    <a:pt x="1250" y="2154"/>
                  </a:lnTo>
                  <a:lnTo>
                    <a:pt x="1304" y="2077"/>
                  </a:lnTo>
                  <a:lnTo>
                    <a:pt x="1354" y="1990"/>
                  </a:lnTo>
                  <a:lnTo>
                    <a:pt x="1398" y="1897"/>
                  </a:lnTo>
                  <a:lnTo>
                    <a:pt x="1437" y="1797"/>
                  </a:lnTo>
                  <a:lnTo>
                    <a:pt x="1468" y="1691"/>
                  </a:lnTo>
                  <a:lnTo>
                    <a:pt x="1493" y="1578"/>
                  </a:lnTo>
                  <a:lnTo>
                    <a:pt x="1514" y="1462"/>
                  </a:lnTo>
                  <a:lnTo>
                    <a:pt x="1525" y="1341"/>
                  </a:lnTo>
                  <a:lnTo>
                    <a:pt x="1529" y="1217"/>
                  </a:lnTo>
                  <a:lnTo>
                    <a:pt x="1525" y="1092"/>
                  </a:lnTo>
                  <a:lnTo>
                    <a:pt x="1514" y="971"/>
                  </a:lnTo>
                  <a:lnTo>
                    <a:pt x="1493" y="855"/>
                  </a:lnTo>
                  <a:lnTo>
                    <a:pt x="1468" y="742"/>
                  </a:lnTo>
                  <a:lnTo>
                    <a:pt x="1437" y="636"/>
                  </a:lnTo>
                  <a:lnTo>
                    <a:pt x="1398" y="537"/>
                  </a:lnTo>
                  <a:lnTo>
                    <a:pt x="1354" y="443"/>
                  </a:lnTo>
                  <a:lnTo>
                    <a:pt x="1304" y="356"/>
                  </a:lnTo>
                  <a:lnTo>
                    <a:pt x="1250" y="277"/>
                  </a:lnTo>
                  <a:lnTo>
                    <a:pt x="1192" y="208"/>
                  </a:lnTo>
                  <a:lnTo>
                    <a:pt x="1127" y="146"/>
                  </a:lnTo>
                  <a:lnTo>
                    <a:pt x="1061" y="96"/>
                  </a:lnTo>
                  <a:lnTo>
                    <a:pt x="990" y="54"/>
                  </a:lnTo>
                  <a:lnTo>
                    <a:pt x="917" y="25"/>
                  </a:lnTo>
                  <a:lnTo>
                    <a:pt x="842" y="6"/>
                  </a:lnTo>
                  <a:lnTo>
                    <a:pt x="763" y="0"/>
                  </a:lnTo>
                  <a:lnTo>
                    <a:pt x="684" y="6"/>
                  </a:lnTo>
                  <a:lnTo>
                    <a:pt x="610" y="25"/>
                  </a:lnTo>
                  <a:lnTo>
                    <a:pt x="537" y="54"/>
                  </a:lnTo>
                  <a:lnTo>
                    <a:pt x="466" y="96"/>
                  </a:lnTo>
                  <a:lnTo>
                    <a:pt x="399" y="146"/>
                  </a:lnTo>
                  <a:lnTo>
                    <a:pt x="337" y="208"/>
                  </a:lnTo>
                  <a:lnTo>
                    <a:pt x="277" y="277"/>
                  </a:lnTo>
                  <a:lnTo>
                    <a:pt x="223" y="356"/>
                  </a:lnTo>
                  <a:lnTo>
                    <a:pt x="175" y="443"/>
                  </a:lnTo>
                  <a:lnTo>
                    <a:pt x="131" y="537"/>
                  </a:lnTo>
                  <a:lnTo>
                    <a:pt x="92" y="636"/>
                  </a:lnTo>
                  <a:lnTo>
                    <a:pt x="61" y="742"/>
                  </a:lnTo>
                  <a:lnTo>
                    <a:pt x="33" y="855"/>
                  </a:lnTo>
                  <a:lnTo>
                    <a:pt x="15" y="971"/>
                  </a:lnTo>
                  <a:lnTo>
                    <a:pt x="4" y="1092"/>
                  </a:lnTo>
                  <a:lnTo>
                    <a:pt x="0" y="1217"/>
                  </a:lnTo>
                  <a:lnTo>
                    <a:pt x="4" y="1341"/>
                  </a:lnTo>
                  <a:lnTo>
                    <a:pt x="15" y="1462"/>
                  </a:lnTo>
                  <a:lnTo>
                    <a:pt x="33" y="1578"/>
                  </a:lnTo>
                  <a:lnTo>
                    <a:pt x="61" y="1691"/>
                  </a:lnTo>
                  <a:lnTo>
                    <a:pt x="92" y="1797"/>
                  </a:lnTo>
                  <a:lnTo>
                    <a:pt x="131" y="1897"/>
                  </a:lnTo>
                  <a:lnTo>
                    <a:pt x="175" y="1990"/>
                  </a:lnTo>
                  <a:lnTo>
                    <a:pt x="223" y="2077"/>
                  </a:lnTo>
                  <a:lnTo>
                    <a:pt x="277" y="2154"/>
                  </a:lnTo>
                  <a:lnTo>
                    <a:pt x="337" y="2225"/>
                  </a:lnTo>
                  <a:lnTo>
                    <a:pt x="399" y="2285"/>
                  </a:lnTo>
                  <a:lnTo>
                    <a:pt x="466" y="2337"/>
                  </a:lnTo>
                  <a:lnTo>
                    <a:pt x="537" y="2379"/>
                  </a:lnTo>
                  <a:lnTo>
                    <a:pt x="610" y="2408"/>
                  </a:lnTo>
                  <a:lnTo>
                    <a:pt x="684" y="2427"/>
                  </a:lnTo>
                  <a:lnTo>
                    <a:pt x="763" y="2433"/>
                  </a:lnTo>
                  <a:close/>
                </a:path>
              </a:pathLst>
            </a:custGeom>
            <a:solidFill>
              <a:srgbClr val="b5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06840" y="2614680"/>
              <a:ext cx="2370240" cy="3773520"/>
            </a:xfrm>
            <a:custGeom>
              <a:avLst/>
              <a:gdLst/>
              <a:ahLst/>
              <a:rect l="l" t="t" r="r" b="b"/>
              <a:pathLst>
                <a:path w="1493" h="2377">
                  <a:moveTo>
                    <a:pt x="746" y="2377"/>
                  </a:moveTo>
                  <a:lnTo>
                    <a:pt x="823" y="2371"/>
                  </a:lnTo>
                  <a:lnTo>
                    <a:pt x="898" y="2352"/>
                  </a:lnTo>
                  <a:lnTo>
                    <a:pt x="969" y="2323"/>
                  </a:lnTo>
                  <a:lnTo>
                    <a:pt x="1038" y="2283"/>
                  </a:lnTo>
                  <a:lnTo>
                    <a:pt x="1102" y="2233"/>
                  </a:lnTo>
                  <a:lnTo>
                    <a:pt x="1164" y="2173"/>
                  </a:lnTo>
                  <a:lnTo>
                    <a:pt x="1223" y="2105"/>
                  </a:lnTo>
                  <a:lnTo>
                    <a:pt x="1275" y="2030"/>
                  </a:lnTo>
                  <a:lnTo>
                    <a:pt x="1322" y="1944"/>
                  </a:lnTo>
                  <a:lnTo>
                    <a:pt x="1366" y="1853"/>
                  </a:lnTo>
                  <a:lnTo>
                    <a:pt x="1404" y="1755"/>
                  </a:lnTo>
                  <a:lnTo>
                    <a:pt x="1435" y="1651"/>
                  </a:lnTo>
                  <a:lnTo>
                    <a:pt x="1460" y="1543"/>
                  </a:lnTo>
                  <a:lnTo>
                    <a:pt x="1478" y="1429"/>
                  </a:lnTo>
                  <a:lnTo>
                    <a:pt x="1489" y="1310"/>
                  </a:lnTo>
                  <a:lnTo>
                    <a:pt x="1493" y="1190"/>
                  </a:lnTo>
                  <a:lnTo>
                    <a:pt x="1489" y="1069"/>
                  </a:lnTo>
                  <a:lnTo>
                    <a:pt x="1478" y="950"/>
                  </a:lnTo>
                  <a:lnTo>
                    <a:pt x="1460" y="836"/>
                  </a:lnTo>
                  <a:lnTo>
                    <a:pt x="1435" y="726"/>
                  </a:lnTo>
                  <a:lnTo>
                    <a:pt x="1404" y="622"/>
                  </a:lnTo>
                  <a:lnTo>
                    <a:pt x="1366" y="524"/>
                  </a:lnTo>
                  <a:lnTo>
                    <a:pt x="1322" y="433"/>
                  </a:lnTo>
                  <a:lnTo>
                    <a:pt x="1275" y="347"/>
                  </a:lnTo>
                  <a:lnTo>
                    <a:pt x="1223" y="272"/>
                  </a:lnTo>
                  <a:lnTo>
                    <a:pt x="1164" y="204"/>
                  </a:lnTo>
                  <a:lnTo>
                    <a:pt x="1102" y="144"/>
                  </a:lnTo>
                  <a:lnTo>
                    <a:pt x="1038" y="94"/>
                  </a:lnTo>
                  <a:lnTo>
                    <a:pt x="969" y="54"/>
                  </a:lnTo>
                  <a:lnTo>
                    <a:pt x="898" y="25"/>
                  </a:lnTo>
                  <a:lnTo>
                    <a:pt x="823" y="6"/>
                  </a:lnTo>
                  <a:lnTo>
                    <a:pt x="746" y="0"/>
                  </a:lnTo>
                  <a:lnTo>
                    <a:pt x="669" y="6"/>
                  </a:lnTo>
                  <a:lnTo>
                    <a:pt x="597" y="25"/>
                  </a:lnTo>
                  <a:lnTo>
                    <a:pt x="524" y="54"/>
                  </a:lnTo>
                  <a:lnTo>
                    <a:pt x="455" y="94"/>
                  </a:lnTo>
                  <a:lnTo>
                    <a:pt x="391" y="144"/>
                  </a:lnTo>
                  <a:lnTo>
                    <a:pt x="328" y="204"/>
                  </a:lnTo>
                  <a:lnTo>
                    <a:pt x="272" y="272"/>
                  </a:lnTo>
                  <a:lnTo>
                    <a:pt x="218" y="347"/>
                  </a:lnTo>
                  <a:lnTo>
                    <a:pt x="170" y="433"/>
                  </a:lnTo>
                  <a:lnTo>
                    <a:pt x="127" y="524"/>
                  </a:lnTo>
                  <a:lnTo>
                    <a:pt x="89" y="622"/>
                  </a:lnTo>
                  <a:lnTo>
                    <a:pt x="58" y="726"/>
                  </a:lnTo>
                  <a:lnTo>
                    <a:pt x="33" y="836"/>
                  </a:lnTo>
                  <a:lnTo>
                    <a:pt x="14" y="950"/>
                  </a:lnTo>
                  <a:lnTo>
                    <a:pt x="4" y="1069"/>
                  </a:lnTo>
                  <a:lnTo>
                    <a:pt x="0" y="1190"/>
                  </a:lnTo>
                  <a:lnTo>
                    <a:pt x="4" y="1310"/>
                  </a:lnTo>
                  <a:lnTo>
                    <a:pt x="14" y="1429"/>
                  </a:lnTo>
                  <a:lnTo>
                    <a:pt x="33" y="1543"/>
                  </a:lnTo>
                  <a:lnTo>
                    <a:pt x="58" y="1651"/>
                  </a:lnTo>
                  <a:lnTo>
                    <a:pt x="89" y="1755"/>
                  </a:lnTo>
                  <a:lnTo>
                    <a:pt x="127" y="1853"/>
                  </a:lnTo>
                  <a:lnTo>
                    <a:pt x="170" y="1944"/>
                  </a:lnTo>
                  <a:lnTo>
                    <a:pt x="218" y="2030"/>
                  </a:lnTo>
                  <a:lnTo>
                    <a:pt x="272" y="2105"/>
                  </a:lnTo>
                  <a:lnTo>
                    <a:pt x="328" y="2173"/>
                  </a:lnTo>
                  <a:lnTo>
                    <a:pt x="391" y="2233"/>
                  </a:lnTo>
                  <a:lnTo>
                    <a:pt x="455" y="2283"/>
                  </a:lnTo>
                  <a:lnTo>
                    <a:pt x="524" y="2323"/>
                  </a:lnTo>
                  <a:lnTo>
                    <a:pt x="597" y="2352"/>
                  </a:lnTo>
                  <a:lnTo>
                    <a:pt x="669" y="2371"/>
                  </a:lnTo>
                  <a:lnTo>
                    <a:pt x="746" y="2377"/>
                  </a:lnTo>
                  <a:close/>
                </a:path>
              </a:pathLst>
            </a:custGeom>
            <a:solidFill>
              <a:srgbClr val="bcd8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37080" y="2660760"/>
              <a:ext cx="2313000" cy="3684240"/>
            </a:xfrm>
            <a:custGeom>
              <a:avLst/>
              <a:gdLst/>
              <a:ahLst/>
              <a:rect l="l" t="t" r="r" b="b"/>
              <a:pathLst>
                <a:path w="1457" h="2321">
                  <a:moveTo>
                    <a:pt x="727" y="2321"/>
                  </a:moveTo>
                  <a:lnTo>
                    <a:pt x="802" y="2315"/>
                  </a:lnTo>
                  <a:lnTo>
                    <a:pt x="875" y="2298"/>
                  </a:lnTo>
                  <a:lnTo>
                    <a:pt x="944" y="2269"/>
                  </a:lnTo>
                  <a:lnTo>
                    <a:pt x="1012" y="2229"/>
                  </a:lnTo>
                  <a:lnTo>
                    <a:pt x="1075" y="2182"/>
                  </a:lnTo>
                  <a:lnTo>
                    <a:pt x="1135" y="2123"/>
                  </a:lnTo>
                  <a:lnTo>
                    <a:pt x="1191" y="2057"/>
                  </a:lnTo>
                  <a:lnTo>
                    <a:pt x="1243" y="1980"/>
                  </a:lnTo>
                  <a:lnTo>
                    <a:pt x="1291" y="1899"/>
                  </a:lnTo>
                  <a:lnTo>
                    <a:pt x="1333" y="1809"/>
                  </a:lnTo>
                  <a:lnTo>
                    <a:pt x="1370" y="1714"/>
                  </a:lnTo>
                  <a:lnTo>
                    <a:pt x="1399" y="1612"/>
                  </a:lnTo>
                  <a:lnTo>
                    <a:pt x="1424" y="1506"/>
                  </a:lnTo>
                  <a:lnTo>
                    <a:pt x="1443" y="1393"/>
                  </a:lnTo>
                  <a:lnTo>
                    <a:pt x="1453" y="1279"/>
                  </a:lnTo>
                  <a:lnTo>
                    <a:pt x="1457" y="1161"/>
                  </a:lnTo>
                  <a:lnTo>
                    <a:pt x="1453" y="1042"/>
                  </a:lnTo>
                  <a:lnTo>
                    <a:pt x="1443" y="926"/>
                  </a:lnTo>
                  <a:lnTo>
                    <a:pt x="1424" y="815"/>
                  </a:lnTo>
                  <a:lnTo>
                    <a:pt x="1399" y="707"/>
                  </a:lnTo>
                  <a:lnTo>
                    <a:pt x="1370" y="607"/>
                  </a:lnTo>
                  <a:lnTo>
                    <a:pt x="1333" y="512"/>
                  </a:lnTo>
                  <a:lnTo>
                    <a:pt x="1291" y="422"/>
                  </a:lnTo>
                  <a:lnTo>
                    <a:pt x="1243" y="339"/>
                  </a:lnTo>
                  <a:lnTo>
                    <a:pt x="1191" y="264"/>
                  </a:lnTo>
                  <a:lnTo>
                    <a:pt x="1135" y="198"/>
                  </a:lnTo>
                  <a:lnTo>
                    <a:pt x="1075" y="139"/>
                  </a:lnTo>
                  <a:lnTo>
                    <a:pt x="1012" y="92"/>
                  </a:lnTo>
                  <a:lnTo>
                    <a:pt x="944" y="52"/>
                  </a:lnTo>
                  <a:lnTo>
                    <a:pt x="875" y="23"/>
                  </a:lnTo>
                  <a:lnTo>
                    <a:pt x="802" y="6"/>
                  </a:lnTo>
                  <a:lnTo>
                    <a:pt x="727" y="0"/>
                  </a:lnTo>
                  <a:lnTo>
                    <a:pt x="653" y="6"/>
                  </a:lnTo>
                  <a:lnTo>
                    <a:pt x="582" y="23"/>
                  </a:lnTo>
                  <a:lnTo>
                    <a:pt x="511" y="52"/>
                  </a:lnTo>
                  <a:lnTo>
                    <a:pt x="445" y="92"/>
                  </a:lnTo>
                  <a:lnTo>
                    <a:pt x="380" y="139"/>
                  </a:lnTo>
                  <a:lnTo>
                    <a:pt x="320" y="198"/>
                  </a:lnTo>
                  <a:lnTo>
                    <a:pt x="264" y="264"/>
                  </a:lnTo>
                  <a:lnTo>
                    <a:pt x="214" y="339"/>
                  </a:lnTo>
                  <a:lnTo>
                    <a:pt x="166" y="422"/>
                  </a:lnTo>
                  <a:lnTo>
                    <a:pt x="124" y="512"/>
                  </a:lnTo>
                  <a:lnTo>
                    <a:pt x="87" y="607"/>
                  </a:lnTo>
                  <a:lnTo>
                    <a:pt x="58" y="707"/>
                  </a:lnTo>
                  <a:lnTo>
                    <a:pt x="33" y="815"/>
                  </a:lnTo>
                  <a:lnTo>
                    <a:pt x="14" y="926"/>
                  </a:lnTo>
                  <a:lnTo>
                    <a:pt x="4" y="1042"/>
                  </a:lnTo>
                  <a:lnTo>
                    <a:pt x="0" y="1161"/>
                  </a:lnTo>
                  <a:lnTo>
                    <a:pt x="4" y="1279"/>
                  </a:lnTo>
                  <a:lnTo>
                    <a:pt x="14" y="1393"/>
                  </a:lnTo>
                  <a:lnTo>
                    <a:pt x="33" y="1506"/>
                  </a:lnTo>
                  <a:lnTo>
                    <a:pt x="58" y="1612"/>
                  </a:lnTo>
                  <a:lnTo>
                    <a:pt x="87" y="1714"/>
                  </a:lnTo>
                  <a:lnTo>
                    <a:pt x="124" y="1809"/>
                  </a:lnTo>
                  <a:lnTo>
                    <a:pt x="166" y="1899"/>
                  </a:lnTo>
                  <a:lnTo>
                    <a:pt x="214" y="1980"/>
                  </a:lnTo>
                  <a:lnTo>
                    <a:pt x="264" y="2057"/>
                  </a:lnTo>
                  <a:lnTo>
                    <a:pt x="320" y="2123"/>
                  </a:lnTo>
                  <a:lnTo>
                    <a:pt x="380" y="2182"/>
                  </a:lnTo>
                  <a:lnTo>
                    <a:pt x="445" y="2229"/>
                  </a:lnTo>
                  <a:lnTo>
                    <a:pt x="511" y="2269"/>
                  </a:lnTo>
                  <a:lnTo>
                    <a:pt x="582" y="2298"/>
                  </a:lnTo>
                  <a:lnTo>
                    <a:pt x="653" y="2315"/>
                  </a:lnTo>
                  <a:lnTo>
                    <a:pt x="727" y="2321"/>
                  </a:lnTo>
                  <a:close/>
                </a:path>
              </a:pathLst>
            </a:custGeom>
            <a:solidFill>
              <a:srgbClr val="c1d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62640" y="2703600"/>
              <a:ext cx="2261880" cy="3595680"/>
            </a:xfrm>
            <a:custGeom>
              <a:avLst/>
              <a:gdLst/>
              <a:ahLst/>
              <a:rect l="l" t="t" r="r" b="b"/>
              <a:pathLst>
                <a:path w="1425" h="2265">
                  <a:moveTo>
                    <a:pt x="711" y="2265"/>
                  </a:moveTo>
                  <a:lnTo>
                    <a:pt x="784" y="2259"/>
                  </a:lnTo>
                  <a:lnTo>
                    <a:pt x="855" y="2242"/>
                  </a:lnTo>
                  <a:lnTo>
                    <a:pt x="924" y="2215"/>
                  </a:lnTo>
                  <a:lnTo>
                    <a:pt x="988" y="2175"/>
                  </a:lnTo>
                  <a:lnTo>
                    <a:pt x="1050" y="2128"/>
                  </a:lnTo>
                  <a:lnTo>
                    <a:pt x="1111" y="2071"/>
                  </a:lnTo>
                  <a:lnTo>
                    <a:pt x="1165" y="2007"/>
                  </a:lnTo>
                  <a:lnTo>
                    <a:pt x="1215" y="1932"/>
                  </a:lnTo>
                  <a:lnTo>
                    <a:pt x="1263" y="1853"/>
                  </a:lnTo>
                  <a:lnTo>
                    <a:pt x="1302" y="1766"/>
                  </a:lnTo>
                  <a:lnTo>
                    <a:pt x="1339" y="1672"/>
                  </a:lnTo>
                  <a:lnTo>
                    <a:pt x="1369" y="1574"/>
                  </a:lnTo>
                  <a:lnTo>
                    <a:pt x="1394" y="1470"/>
                  </a:lnTo>
                  <a:lnTo>
                    <a:pt x="1410" y="1362"/>
                  </a:lnTo>
                  <a:lnTo>
                    <a:pt x="1421" y="1250"/>
                  </a:lnTo>
                  <a:lnTo>
                    <a:pt x="1425" y="1134"/>
                  </a:lnTo>
                  <a:lnTo>
                    <a:pt x="1421" y="1017"/>
                  </a:lnTo>
                  <a:lnTo>
                    <a:pt x="1410" y="905"/>
                  </a:lnTo>
                  <a:lnTo>
                    <a:pt x="1394" y="797"/>
                  </a:lnTo>
                  <a:lnTo>
                    <a:pt x="1369" y="693"/>
                  </a:lnTo>
                  <a:lnTo>
                    <a:pt x="1339" y="593"/>
                  </a:lnTo>
                  <a:lnTo>
                    <a:pt x="1302" y="499"/>
                  </a:lnTo>
                  <a:lnTo>
                    <a:pt x="1263" y="412"/>
                  </a:lnTo>
                  <a:lnTo>
                    <a:pt x="1215" y="333"/>
                  </a:lnTo>
                  <a:lnTo>
                    <a:pt x="1165" y="258"/>
                  </a:lnTo>
                  <a:lnTo>
                    <a:pt x="1111" y="194"/>
                  </a:lnTo>
                  <a:lnTo>
                    <a:pt x="1050" y="137"/>
                  </a:lnTo>
                  <a:lnTo>
                    <a:pt x="988" y="90"/>
                  </a:lnTo>
                  <a:lnTo>
                    <a:pt x="924" y="52"/>
                  </a:lnTo>
                  <a:lnTo>
                    <a:pt x="855" y="23"/>
                  </a:lnTo>
                  <a:lnTo>
                    <a:pt x="784" y="6"/>
                  </a:lnTo>
                  <a:lnTo>
                    <a:pt x="711" y="0"/>
                  </a:lnTo>
                  <a:lnTo>
                    <a:pt x="639" y="6"/>
                  </a:lnTo>
                  <a:lnTo>
                    <a:pt x="568" y="23"/>
                  </a:lnTo>
                  <a:lnTo>
                    <a:pt x="499" y="52"/>
                  </a:lnTo>
                  <a:lnTo>
                    <a:pt x="435" y="90"/>
                  </a:lnTo>
                  <a:lnTo>
                    <a:pt x="372" y="137"/>
                  </a:lnTo>
                  <a:lnTo>
                    <a:pt x="314" y="194"/>
                  </a:lnTo>
                  <a:lnTo>
                    <a:pt x="258" y="258"/>
                  </a:lnTo>
                  <a:lnTo>
                    <a:pt x="208" y="333"/>
                  </a:lnTo>
                  <a:lnTo>
                    <a:pt x="162" y="412"/>
                  </a:lnTo>
                  <a:lnTo>
                    <a:pt x="121" y="499"/>
                  </a:lnTo>
                  <a:lnTo>
                    <a:pt x="85" y="593"/>
                  </a:lnTo>
                  <a:lnTo>
                    <a:pt x="56" y="693"/>
                  </a:lnTo>
                  <a:lnTo>
                    <a:pt x="31" y="797"/>
                  </a:lnTo>
                  <a:lnTo>
                    <a:pt x="15" y="905"/>
                  </a:lnTo>
                  <a:lnTo>
                    <a:pt x="4" y="1017"/>
                  </a:lnTo>
                  <a:lnTo>
                    <a:pt x="0" y="1134"/>
                  </a:lnTo>
                  <a:lnTo>
                    <a:pt x="4" y="1250"/>
                  </a:lnTo>
                  <a:lnTo>
                    <a:pt x="15" y="1362"/>
                  </a:lnTo>
                  <a:lnTo>
                    <a:pt x="31" y="1470"/>
                  </a:lnTo>
                  <a:lnTo>
                    <a:pt x="56" y="1574"/>
                  </a:lnTo>
                  <a:lnTo>
                    <a:pt x="85" y="1672"/>
                  </a:lnTo>
                  <a:lnTo>
                    <a:pt x="121" y="1766"/>
                  </a:lnTo>
                  <a:lnTo>
                    <a:pt x="162" y="1853"/>
                  </a:lnTo>
                  <a:lnTo>
                    <a:pt x="208" y="1932"/>
                  </a:lnTo>
                  <a:lnTo>
                    <a:pt x="258" y="2007"/>
                  </a:lnTo>
                  <a:lnTo>
                    <a:pt x="314" y="2071"/>
                  </a:lnTo>
                  <a:lnTo>
                    <a:pt x="372" y="2128"/>
                  </a:lnTo>
                  <a:lnTo>
                    <a:pt x="435" y="2175"/>
                  </a:lnTo>
                  <a:lnTo>
                    <a:pt x="499" y="2215"/>
                  </a:lnTo>
                  <a:lnTo>
                    <a:pt x="568" y="2242"/>
                  </a:lnTo>
                  <a:lnTo>
                    <a:pt x="639" y="2259"/>
                  </a:lnTo>
                  <a:lnTo>
                    <a:pt x="711" y="2265"/>
                  </a:lnTo>
                  <a:close/>
                </a:path>
              </a:pathLst>
            </a:custGeom>
            <a:solidFill>
              <a:srgbClr val="c4db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92520" y="2746440"/>
              <a:ext cx="2202120" cy="3510000"/>
            </a:xfrm>
            <a:custGeom>
              <a:avLst/>
              <a:gdLst/>
              <a:ahLst/>
              <a:rect l="l" t="t" r="r" b="b"/>
              <a:pathLst>
                <a:path w="1387" h="2211">
                  <a:moveTo>
                    <a:pt x="692" y="2211"/>
                  </a:moveTo>
                  <a:lnTo>
                    <a:pt x="763" y="2205"/>
                  </a:lnTo>
                  <a:lnTo>
                    <a:pt x="832" y="2188"/>
                  </a:lnTo>
                  <a:lnTo>
                    <a:pt x="900" y="2161"/>
                  </a:lnTo>
                  <a:lnTo>
                    <a:pt x="963" y="2123"/>
                  </a:lnTo>
                  <a:lnTo>
                    <a:pt x="1023" y="2078"/>
                  </a:lnTo>
                  <a:lnTo>
                    <a:pt x="1081" y="2022"/>
                  </a:lnTo>
                  <a:lnTo>
                    <a:pt x="1135" y="1959"/>
                  </a:lnTo>
                  <a:lnTo>
                    <a:pt x="1183" y="1886"/>
                  </a:lnTo>
                  <a:lnTo>
                    <a:pt x="1229" y="1809"/>
                  </a:lnTo>
                  <a:lnTo>
                    <a:pt x="1268" y="1724"/>
                  </a:lnTo>
                  <a:lnTo>
                    <a:pt x="1304" y="1633"/>
                  </a:lnTo>
                  <a:lnTo>
                    <a:pt x="1333" y="1537"/>
                  </a:lnTo>
                  <a:lnTo>
                    <a:pt x="1356" y="1435"/>
                  </a:lnTo>
                  <a:lnTo>
                    <a:pt x="1372" y="1329"/>
                  </a:lnTo>
                  <a:lnTo>
                    <a:pt x="1383" y="1219"/>
                  </a:lnTo>
                  <a:lnTo>
                    <a:pt x="1387" y="1107"/>
                  </a:lnTo>
                  <a:lnTo>
                    <a:pt x="1383" y="994"/>
                  </a:lnTo>
                  <a:lnTo>
                    <a:pt x="1372" y="884"/>
                  </a:lnTo>
                  <a:lnTo>
                    <a:pt x="1356" y="778"/>
                  </a:lnTo>
                  <a:lnTo>
                    <a:pt x="1333" y="676"/>
                  </a:lnTo>
                  <a:lnTo>
                    <a:pt x="1304" y="578"/>
                  </a:lnTo>
                  <a:lnTo>
                    <a:pt x="1268" y="487"/>
                  </a:lnTo>
                  <a:lnTo>
                    <a:pt x="1229" y="404"/>
                  </a:lnTo>
                  <a:lnTo>
                    <a:pt x="1183" y="325"/>
                  </a:lnTo>
                  <a:lnTo>
                    <a:pt x="1135" y="252"/>
                  </a:lnTo>
                  <a:lnTo>
                    <a:pt x="1081" y="189"/>
                  </a:lnTo>
                  <a:lnTo>
                    <a:pt x="1023" y="133"/>
                  </a:lnTo>
                  <a:lnTo>
                    <a:pt x="963" y="88"/>
                  </a:lnTo>
                  <a:lnTo>
                    <a:pt x="900" y="50"/>
                  </a:lnTo>
                  <a:lnTo>
                    <a:pt x="832" y="23"/>
                  </a:lnTo>
                  <a:lnTo>
                    <a:pt x="763" y="6"/>
                  </a:lnTo>
                  <a:lnTo>
                    <a:pt x="692" y="0"/>
                  </a:lnTo>
                  <a:lnTo>
                    <a:pt x="622" y="6"/>
                  </a:lnTo>
                  <a:lnTo>
                    <a:pt x="553" y="23"/>
                  </a:lnTo>
                  <a:lnTo>
                    <a:pt x="487" y="50"/>
                  </a:lnTo>
                  <a:lnTo>
                    <a:pt x="422" y="88"/>
                  </a:lnTo>
                  <a:lnTo>
                    <a:pt x="362" y="133"/>
                  </a:lnTo>
                  <a:lnTo>
                    <a:pt x="306" y="189"/>
                  </a:lnTo>
                  <a:lnTo>
                    <a:pt x="252" y="252"/>
                  </a:lnTo>
                  <a:lnTo>
                    <a:pt x="204" y="325"/>
                  </a:lnTo>
                  <a:lnTo>
                    <a:pt x="158" y="404"/>
                  </a:lnTo>
                  <a:lnTo>
                    <a:pt x="118" y="487"/>
                  </a:lnTo>
                  <a:lnTo>
                    <a:pt x="83" y="578"/>
                  </a:lnTo>
                  <a:lnTo>
                    <a:pt x="54" y="676"/>
                  </a:lnTo>
                  <a:lnTo>
                    <a:pt x="31" y="778"/>
                  </a:lnTo>
                  <a:lnTo>
                    <a:pt x="14" y="884"/>
                  </a:lnTo>
                  <a:lnTo>
                    <a:pt x="4" y="994"/>
                  </a:lnTo>
                  <a:lnTo>
                    <a:pt x="0" y="1107"/>
                  </a:lnTo>
                  <a:lnTo>
                    <a:pt x="4" y="1219"/>
                  </a:lnTo>
                  <a:lnTo>
                    <a:pt x="14" y="1329"/>
                  </a:lnTo>
                  <a:lnTo>
                    <a:pt x="31" y="1435"/>
                  </a:lnTo>
                  <a:lnTo>
                    <a:pt x="54" y="1537"/>
                  </a:lnTo>
                  <a:lnTo>
                    <a:pt x="83" y="1633"/>
                  </a:lnTo>
                  <a:lnTo>
                    <a:pt x="118" y="1724"/>
                  </a:lnTo>
                  <a:lnTo>
                    <a:pt x="158" y="1809"/>
                  </a:lnTo>
                  <a:lnTo>
                    <a:pt x="204" y="1886"/>
                  </a:lnTo>
                  <a:lnTo>
                    <a:pt x="252" y="1959"/>
                  </a:lnTo>
                  <a:lnTo>
                    <a:pt x="306" y="2022"/>
                  </a:lnTo>
                  <a:lnTo>
                    <a:pt x="362" y="2078"/>
                  </a:lnTo>
                  <a:lnTo>
                    <a:pt x="422" y="2123"/>
                  </a:lnTo>
                  <a:lnTo>
                    <a:pt x="487" y="2161"/>
                  </a:lnTo>
                  <a:lnTo>
                    <a:pt x="553" y="2188"/>
                  </a:lnTo>
                  <a:lnTo>
                    <a:pt x="622" y="2205"/>
                  </a:lnTo>
                  <a:lnTo>
                    <a:pt x="692" y="2211"/>
                  </a:lnTo>
                  <a:close/>
                </a:path>
              </a:pathLst>
            </a:custGeom>
            <a:solidFill>
              <a:srgbClr val="c9d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719520" y="2792520"/>
              <a:ext cx="2148120" cy="3417840"/>
            </a:xfrm>
            <a:custGeom>
              <a:avLst/>
              <a:gdLst/>
              <a:ahLst/>
              <a:rect l="l" t="t" r="r" b="b"/>
              <a:pathLst>
                <a:path w="1353" h="2153">
                  <a:moveTo>
                    <a:pt x="675" y="2153"/>
                  </a:moveTo>
                  <a:lnTo>
                    <a:pt x="744" y="2146"/>
                  </a:lnTo>
                  <a:lnTo>
                    <a:pt x="813" y="2130"/>
                  </a:lnTo>
                  <a:lnTo>
                    <a:pt x="877" y="2105"/>
                  </a:lnTo>
                  <a:lnTo>
                    <a:pt x="940" y="2067"/>
                  </a:lnTo>
                  <a:lnTo>
                    <a:pt x="998" y="2022"/>
                  </a:lnTo>
                  <a:lnTo>
                    <a:pt x="1054" y="1970"/>
                  </a:lnTo>
                  <a:lnTo>
                    <a:pt x="1106" y="1907"/>
                  </a:lnTo>
                  <a:lnTo>
                    <a:pt x="1156" y="1837"/>
                  </a:lnTo>
                  <a:lnTo>
                    <a:pt x="1199" y="1762"/>
                  </a:lnTo>
                  <a:lnTo>
                    <a:pt x="1237" y="1679"/>
                  </a:lnTo>
                  <a:lnTo>
                    <a:pt x="1272" y="1589"/>
                  </a:lnTo>
                  <a:lnTo>
                    <a:pt x="1299" y="1496"/>
                  </a:lnTo>
                  <a:lnTo>
                    <a:pt x="1322" y="1398"/>
                  </a:lnTo>
                  <a:lnTo>
                    <a:pt x="1339" y="1294"/>
                  </a:lnTo>
                  <a:lnTo>
                    <a:pt x="1349" y="1188"/>
                  </a:lnTo>
                  <a:lnTo>
                    <a:pt x="1353" y="1078"/>
                  </a:lnTo>
                  <a:lnTo>
                    <a:pt x="1349" y="967"/>
                  </a:lnTo>
                  <a:lnTo>
                    <a:pt x="1339" y="861"/>
                  </a:lnTo>
                  <a:lnTo>
                    <a:pt x="1322" y="757"/>
                  </a:lnTo>
                  <a:lnTo>
                    <a:pt x="1299" y="657"/>
                  </a:lnTo>
                  <a:lnTo>
                    <a:pt x="1272" y="564"/>
                  </a:lnTo>
                  <a:lnTo>
                    <a:pt x="1237" y="474"/>
                  </a:lnTo>
                  <a:lnTo>
                    <a:pt x="1199" y="393"/>
                  </a:lnTo>
                  <a:lnTo>
                    <a:pt x="1156" y="316"/>
                  </a:lnTo>
                  <a:lnTo>
                    <a:pt x="1106" y="246"/>
                  </a:lnTo>
                  <a:lnTo>
                    <a:pt x="1054" y="183"/>
                  </a:lnTo>
                  <a:lnTo>
                    <a:pt x="998" y="131"/>
                  </a:lnTo>
                  <a:lnTo>
                    <a:pt x="940" y="86"/>
                  </a:lnTo>
                  <a:lnTo>
                    <a:pt x="877" y="48"/>
                  </a:lnTo>
                  <a:lnTo>
                    <a:pt x="813" y="23"/>
                  </a:lnTo>
                  <a:lnTo>
                    <a:pt x="744" y="7"/>
                  </a:lnTo>
                  <a:lnTo>
                    <a:pt x="675" y="0"/>
                  </a:lnTo>
                  <a:lnTo>
                    <a:pt x="607" y="7"/>
                  </a:lnTo>
                  <a:lnTo>
                    <a:pt x="540" y="23"/>
                  </a:lnTo>
                  <a:lnTo>
                    <a:pt x="476" y="48"/>
                  </a:lnTo>
                  <a:lnTo>
                    <a:pt x="413" y="86"/>
                  </a:lnTo>
                  <a:lnTo>
                    <a:pt x="353" y="131"/>
                  </a:lnTo>
                  <a:lnTo>
                    <a:pt x="299" y="183"/>
                  </a:lnTo>
                  <a:lnTo>
                    <a:pt x="245" y="246"/>
                  </a:lnTo>
                  <a:lnTo>
                    <a:pt x="197" y="316"/>
                  </a:lnTo>
                  <a:lnTo>
                    <a:pt x="153" y="393"/>
                  </a:lnTo>
                  <a:lnTo>
                    <a:pt x="116" y="474"/>
                  </a:lnTo>
                  <a:lnTo>
                    <a:pt x="81" y="564"/>
                  </a:lnTo>
                  <a:lnTo>
                    <a:pt x="54" y="657"/>
                  </a:lnTo>
                  <a:lnTo>
                    <a:pt x="31" y="757"/>
                  </a:lnTo>
                  <a:lnTo>
                    <a:pt x="14" y="861"/>
                  </a:lnTo>
                  <a:lnTo>
                    <a:pt x="4" y="967"/>
                  </a:lnTo>
                  <a:lnTo>
                    <a:pt x="0" y="1078"/>
                  </a:lnTo>
                  <a:lnTo>
                    <a:pt x="4" y="1188"/>
                  </a:lnTo>
                  <a:lnTo>
                    <a:pt x="14" y="1294"/>
                  </a:lnTo>
                  <a:lnTo>
                    <a:pt x="31" y="1398"/>
                  </a:lnTo>
                  <a:lnTo>
                    <a:pt x="54" y="1496"/>
                  </a:lnTo>
                  <a:lnTo>
                    <a:pt x="81" y="1589"/>
                  </a:lnTo>
                  <a:lnTo>
                    <a:pt x="116" y="1679"/>
                  </a:lnTo>
                  <a:lnTo>
                    <a:pt x="153" y="1762"/>
                  </a:lnTo>
                  <a:lnTo>
                    <a:pt x="197" y="1837"/>
                  </a:lnTo>
                  <a:lnTo>
                    <a:pt x="245" y="1907"/>
                  </a:lnTo>
                  <a:lnTo>
                    <a:pt x="299" y="1970"/>
                  </a:lnTo>
                  <a:lnTo>
                    <a:pt x="353" y="2022"/>
                  </a:lnTo>
                  <a:lnTo>
                    <a:pt x="413" y="2067"/>
                  </a:lnTo>
                  <a:lnTo>
                    <a:pt x="476" y="2105"/>
                  </a:lnTo>
                  <a:lnTo>
                    <a:pt x="540" y="2130"/>
                  </a:lnTo>
                  <a:lnTo>
                    <a:pt x="607" y="2146"/>
                  </a:lnTo>
                  <a:lnTo>
                    <a:pt x="675" y="2153"/>
                  </a:lnTo>
                  <a:close/>
                </a:path>
              </a:pathLst>
            </a:custGeom>
            <a:solidFill>
              <a:srgbClr val="cee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48320" y="2835360"/>
              <a:ext cx="2090520" cy="3332160"/>
            </a:xfrm>
            <a:custGeom>
              <a:avLst/>
              <a:gdLst/>
              <a:ahLst/>
              <a:rect l="l" t="t" r="r" b="b"/>
              <a:pathLst>
                <a:path w="1317" h="2099">
                  <a:moveTo>
                    <a:pt x="657" y="2099"/>
                  </a:moveTo>
                  <a:lnTo>
                    <a:pt x="724" y="2092"/>
                  </a:lnTo>
                  <a:lnTo>
                    <a:pt x="791" y="2078"/>
                  </a:lnTo>
                  <a:lnTo>
                    <a:pt x="853" y="2051"/>
                  </a:lnTo>
                  <a:lnTo>
                    <a:pt x="913" y="2015"/>
                  </a:lnTo>
                  <a:lnTo>
                    <a:pt x="971" y="1972"/>
                  </a:lnTo>
                  <a:lnTo>
                    <a:pt x="1026" y="1920"/>
                  </a:lnTo>
                  <a:lnTo>
                    <a:pt x="1077" y="1859"/>
                  </a:lnTo>
                  <a:lnTo>
                    <a:pt x="1123" y="1791"/>
                  </a:lnTo>
                  <a:lnTo>
                    <a:pt x="1167" y="1716"/>
                  </a:lnTo>
                  <a:lnTo>
                    <a:pt x="1204" y="1637"/>
                  </a:lnTo>
                  <a:lnTo>
                    <a:pt x="1238" y="1550"/>
                  </a:lnTo>
                  <a:lnTo>
                    <a:pt x="1265" y="1458"/>
                  </a:lnTo>
                  <a:lnTo>
                    <a:pt x="1288" y="1362"/>
                  </a:lnTo>
                  <a:lnTo>
                    <a:pt x="1304" y="1261"/>
                  </a:lnTo>
                  <a:lnTo>
                    <a:pt x="1312" y="1157"/>
                  </a:lnTo>
                  <a:lnTo>
                    <a:pt x="1317" y="1051"/>
                  </a:lnTo>
                  <a:lnTo>
                    <a:pt x="1312" y="942"/>
                  </a:lnTo>
                  <a:lnTo>
                    <a:pt x="1304" y="838"/>
                  </a:lnTo>
                  <a:lnTo>
                    <a:pt x="1288" y="739"/>
                  </a:lnTo>
                  <a:lnTo>
                    <a:pt x="1265" y="641"/>
                  </a:lnTo>
                  <a:lnTo>
                    <a:pt x="1238" y="549"/>
                  </a:lnTo>
                  <a:lnTo>
                    <a:pt x="1204" y="464"/>
                  </a:lnTo>
                  <a:lnTo>
                    <a:pt x="1167" y="383"/>
                  </a:lnTo>
                  <a:lnTo>
                    <a:pt x="1123" y="308"/>
                  </a:lnTo>
                  <a:lnTo>
                    <a:pt x="1077" y="240"/>
                  </a:lnTo>
                  <a:lnTo>
                    <a:pt x="1026" y="179"/>
                  </a:lnTo>
                  <a:lnTo>
                    <a:pt x="971" y="127"/>
                  </a:lnTo>
                  <a:lnTo>
                    <a:pt x="913" y="84"/>
                  </a:lnTo>
                  <a:lnTo>
                    <a:pt x="853" y="48"/>
                  </a:lnTo>
                  <a:lnTo>
                    <a:pt x="791" y="21"/>
                  </a:lnTo>
                  <a:lnTo>
                    <a:pt x="724" y="7"/>
                  </a:lnTo>
                  <a:lnTo>
                    <a:pt x="657" y="0"/>
                  </a:lnTo>
                  <a:lnTo>
                    <a:pt x="591" y="7"/>
                  </a:lnTo>
                  <a:lnTo>
                    <a:pt x="524" y="21"/>
                  </a:lnTo>
                  <a:lnTo>
                    <a:pt x="462" y="48"/>
                  </a:lnTo>
                  <a:lnTo>
                    <a:pt x="402" y="84"/>
                  </a:lnTo>
                  <a:lnTo>
                    <a:pt x="343" y="127"/>
                  </a:lnTo>
                  <a:lnTo>
                    <a:pt x="289" y="179"/>
                  </a:lnTo>
                  <a:lnTo>
                    <a:pt x="239" y="240"/>
                  </a:lnTo>
                  <a:lnTo>
                    <a:pt x="192" y="308"/>
                  </a:lnTo>
                  <a:lnTo>
                    <a:pt x="150" y="383"/>
                  </a:lnTo>
                  <a:lnTo>
                    <a:pt x="113" y="464"/>
                  </a:lnTo>
                  <a:lnTo>
                    <a:pt x="79" y="549"/>
                  </a:lnTo>
                  <a:lnTo>
                    <a:pt x="52" y="641"/>
                  </a:lnTo>
                  <a:lnTo>
                    <a:pt x="29" y="739"/>
                  </a:lnTo>
                  <a:lnTo>
                    <a:pt x="13" y="838"/>
                  </a:lnTo>
                  <a:lnTo>
                    <a:pt x="4" y="942"/>
                  </a:lnTo>
                  <a:lnTo>
                    <a:pt x="0" y="1051"/>
                  </a:lnTo>
                  <a:lnTo>
                    <a:pt x="4" y="1157"/>
                  </a:lnTo>
                  <a:lnTo>
                    <a:pt x="13" y="1261"/>
                  </a:lnTo>
                  <a:lnTo>
                    <a:pt x="29" y="1362"/>
                  </a:lnTo>
                  <a:lnTo>
                    <a:pt x="52" y="1458"/>
                  </a:lnTo>
                  <a:lnTo>
                    <a:pt x="79" y="1550"/>
                  </a:lnTo>
                  <a:lnTo>
                    <a:pt x="113" y="1637"/>
                  </a:lnTo>
                  <a:lnTo>
                    <a:pt x="150" y="1716"/>
                  </a:lnTo>
                  <a:lnTo>
                    <a:pt x="192" y="1791"/>
                  </a:lnTo>
                  <a:lnTo>
                    <a:pt x="239" y="1859"/>
                  </a:lnTo>
                  <a:lnTo>
                    <a:pt x="289" y="1920"/>
                  </a:lnTo>
                  <a:lnTo>
                    <a:pt x="343" y="1972"/>
                  </a:lnTo>
                  <a:lnTo>
                    <a:pt x="402" y="2015"/>
                  </a:lnTo>
                  <a:lnTo>
                    <a:pt x="462" y="2051"/>
                  </a:lnTo>
                  <a:lnTo>
                    <a:pt x="524" y="2078"/>
                  </a:lnTo>
                  <a:lnTo>
                    <a:pt x="591" y="2092"/>
                  </a:lnTo>
                  <a:lnTo>
                    <a:pt x="657" y="2099"/>
                  </a:lnTo>
                  <a:close/>
                </a:path>
              </a:pathLst>
            </a:custGeom>
            <a:solidFill>
              <a:srgbClr val="d3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75320" y="2881080"/>
              <a:ext cx="2036520" cy="3240360"/>
            </a:xfrm>
            <a:custGeom>
              <a:avLst/>
              <a:gdLst/>
              <a:ahLst/>
              <a:rect l="l" t="t" r="r" b="b"/>
              <a:pathLst>
                <a:path w="1283" h="2041">
                  <a:moveTo>
                    <a:pt x="640" y="2041"/>
                  </a:moveTo>
                  <a:lnTo>
                    <a:pt x="707" y="2034"/>
                  </a:lnTo>
                  <a:lnTo>
                    <a:pt x="769" y="2020"/>
                  </a:lnTo>
                  <a:lnTo>
                    <a:pt x="832" y="1995"/>
                  </a:lnTo>
                  <a:lnTo>
                    <a:pt x="890" y="1961"/>
                  </a:lnTo>
                  <a:lnTo>
                    <a:pt x="946" y="1918"/>
                  </a:lnTo>
                  <a:lnTo>
                    <a:pt x="1000" y="1866"/>
                  </a:lnTo>
                  <a:lnTo>
                    <a:pt x="1050" y="1808"/>
                  </a:lnTo>
                  <a:lnTo>
                    <a:pt x="1096" y="1743"/>
                  </a:lnTo>
                  <a:lnTo>
                    <a:pt x="1137" y="1670"/>
                  </a:lnTo>
                  <a:lnTo>
                    <a:pt x="1173" y="1591"/>
                  </a:lnTo>
                  <a:lnTo>
                    <a:pt x="1206" y="1508"/>
                  </a:lnTo>
                  <a:lnTo>
                    <a:pt x="1233" y="1419"/>
                  </a:lnTo>
                  <a:lnTo>
                    <a:pt x="1254" y="1325"/>
                  </a:lnTo>
                  <a:lnTo>
                    <a:pt x="1271" y="1227"/>
                  </a:lnTo>
                  <a:lnTo>
                    <a:pt x="1279" y="1126"/>
                  </a:lnTo>
                  <a:lnTo>
                    <a:pt x="1283" y="1022"/>
                  </a:lnTo>
                  <a:lnTo>
                    <a:pt x="1279" y="918"/>
                  </a:lnTo>
                  <a:lnTo>
                    <a:pt x="1271" y="816"/>
                  </a:lnTo>
                  <a:lnTo>
                    <a:pt x="1254" y="718"/>
                  </a:lnTo>
                  <a:lnTo>
                    <a:pt x="1233" y="624"/>
                  </a:lnTo>
                  <a:lnTo>
                    <a:pt x="1206" y="535"/>
                  </a:lnTo>
                  <a:lnTo>
                    <a:pt x="1173" y="452"/>
                  </a:lnTo>
                  <a:lnTo>
                    <a:pt x="1137" y="373"/>
                  </a:lnTo>
                  <a:lnTo>
                    <a:pt x="1096" y="300"/>
                  </a:lnTo>
                  <a:lnTo>
                    <a:pt x="1050" y="233"/>
                  </a:lnTo>
                  <a:lnTo>
                    <a:pt x="1000" y="175"/>
                  </a:lnTo>
                  <a:lnTo>
                    <a:pt x="946" y="123"/>
                  </a:lnTo>
                  <a:lnTo>
                    <a:pt x="890" y="82"/>
                  </a:lnTo>
                  <a:lnTo>
                    <a:pt x="832" y="46"/>
                  </a:lnTo>
                  <a:lnTo>
                    <a:pt x="769" y="21"/>
                  </a:lnTo>
                  <a:lnTo>
                    <a:pt x="707" y="7"/>
                  </a:lnTo>
                  <a:lnTo>
                    <a:pt x="640" y="0"/>
                  </a:lnTo>
                  <a:lnTo>
                    <a:pt x="576" y="7"/>
                  </a:lnTo>
                  <a:lnTo>
                    <a:pt x="511" y="21"/>
                  </a:lnTo>
                  <a:lnTo>
                    <a:pt x="449" y="46"/>
                  </a:lnTo>
                  <a:lnTo>
                    <a:pt x="391" y="82"/>
                  </a:lnTo>
                  <a:lnTo>
                    <a:pt x="335" y="123"/>
                  </a:lnTo>
                  <a:lnTo>
                    <a:pt x="283" y="175"/>
                  </a:lnTo>
                  <a:lnTo>
                    <a:pt x="233" y="233"/>
                  </a:lnTo>
                  <a:lnTo>
                    <a:pt x="187" y="300"/>
                  </a:lnTo>
                  <a:lnTo>
                    <a:pt x="145" y="373"/>
                  </a:lnTo>
                  <a:lnTo>
                    <a:pt x="110" y="452"/>
                  </a:lnTo>
                  <a:lnTo>
                    <a:pt x="77" y="535"/>
                  </a:lnTo>
                  <a:lnTo>
                    <a:pt x="50" y="624"/>
                  </a:lnTo>
                  <a:lnTo>
                    <a:pt x="29" y="718"/>
                  </a:lnTo>
                  <a:lnTo>
                    <a:pt x="12" y="816"/>
                  </a:lnTo>
                  <a:lnTo>
                    <a:pt x="4" y="918"/>
                  </a:lnTo>
                  <a:lnTo>
                    <a:pt x="0" y="1022"/>
                  </a:lnTo>
                  <a:lnTo>
                    <a:pt x="4" y="1126"/>
                  </a:lnTo>
                  <a:lnTo>
                    <a:pt x="12" y="1227"/>
                  </a:lnTo>
                  <a:lnTo>
                    <a:pt x="29" y="1325"/>
                  </a:lnTo>
                  <a:lnTo>
                    <a:pt x="50" y="1419"/>
                  </a:lnTo>
                  <a:lnTo>
                    <a:pt x="77" y="1508"/>
                  </a:lnTo>
                  <a:lnTo>
                    <a:pt x="110" y="1591"/>
                  </a:lnTo>
                  <a:lnTo>
                    <a:pt x="145" y="1670"/>
                  </a:lnTo>
                  <a:lnTo>
                    <a:pt x="187" y="1743"/>
                  </a:lnTo>
                  <a:lnTo>
                    <a:pt x="233" y="1808"/>
                  </a:lnTo>
                  <a:lnTo>
                    <a:pt x="283" y="1866"/>
                  </a:lnTo>
                  <a:lnTo>
                    <a:pt x="335" y="1918"/>
                  </a:lnTo>
                  <a:lnTo>
                    <a:pt x="391" y="1961"/>
                  </a:lnTo>
                  <a:lnTo>
                    <a:pt x="449" y="1995"/>
                  </a:lnTo>
                  <a:lnTo>
                    <a:pt x="511" y="2020"/>
                  </a:lnTo>
                  <a:lnTo>
                    <a:pt x="576" y="2034"/>
                  </a:lnTo>
                  <a:lnTo>
                    <a:pt x="640" y="2041"/>
                  </a:lnTo>
                  <a:close/>
                </a:path>
              </a:pathLst>
            </a:custGeom>
            <a:solidFill>
              <a:srgbClr val="d8e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05200" y="2925720"/>
              <a:ext cx="1976400" cy="3151080"/>
            </a:xfrm>
            <a:custGeom>
              <a:avLst/>
              <a:gdLst/>
              <a:ahLst/>
              <a:rect l="l" t="t" r="r" b="b"/>
              <a:pathLst>
                <a:path w="1245" h="1985">
                  <a:moveTo>
                    <a:pt x="621" y="1985"/>
                  </a:moveTo>
                  <a:lnTo>
                    <a:pt x="686" y="1981"/>
                  </a:lnTo>
                  <a:lnTo>
                    <a:pt x="748" y="1965"/>
                  </a:lnTo>
                  <a:lnTo>
                    <a:pt x="807" y="1942"/>
                  </a:lnTo>
                  <a:lnTo>
                    <a:pt x="865" y="1906"/>
                  </a:lnTo>
                  <a:lnTo>
                    <a:pt x="919" y="1865"/>
                  </a:lnTo>
                  <a:lnTo>
                    <a:pt x="971" y="1815"/>
                  </a:lnTo>
                  <a:lnTo>
                    <a:pt x="1019" y="1759"/>
                  </a:lnTo>
                  <a:lnTo>
                    <a:pt x="1062" y="1694"/>
                  </a:lnTo>
                  <a:lnTo>
                    <a:pt x="1104" y="1624"/>
                  </a:lnTo>
                  <a:lnTo>
                    <a:pt x="1139" y="1549"/>
                  </a:lnTo>
                  <a:lnTo>
                    <a:pt x="1170" y="1466"/>
                  </a:lnTo>
                  <a:lnTo>
                    <a:pt x="1195" y="1378"/>
                  </a:lnTo>
                  <a:lnTo>
                    <a:pt x="1218" y="1289"/>
                  </a:lnTo>
                  <a:lnTo>
                    <a:pt x="1233" y="1193"/>
                  </a:lnTo>
                  <a:lnTo>
                    <a:pt x="1241" y="1095"/>
                  </a:lnTo>
                  <a:lnTo>
                    <a:pt x="1245" y="994"/>
                  </a:lnTo>
                  <a:lnTo>
                    <a:pt x="1241" y="892"/>
                  </a:lnTo>
                  <a:lnTo>
                    <a:pt x="1233" y="794"/>
                  </a:lnTo>
                  <a:lnTo>
                    <a:pt x="1218" y="698"/>
                  </a:lnTo>
                  <a:lnTo>
                    <a:pt x="1195" y="607"/>
                  </a:lnTo>
                  <a:lnTo>
                    <a:pt x="1170" y="519"/>
                  </a:lnTo>
                  <a:lnTo>
                    <a:pt x="1139" y="438"/>
                  </a:lnTo>
                  <a:lnTo>
                    <a:pt x="1104" y="361"/>
                  </a:lnTo>
                  <a:lnTo>
                    <a:pt x="1062" y="291"/>
                  </a:lnTo>
                  <a:lnTo>
                    <a:pt x="1019" y="226"/>
                  </a:lnTo>
                  <a:lnTo>
                    <a:pt x="971" y="170"/>
                  </a:lnTo>
                  <a:lnTo>
                    <a:pt x="919" y="120"/>
                  </a:lnTo>
                  <a:lnTo>
                    <a:pt x="865" y="79"/>
                  </a:lnTo>
                  <a:lnTo>
                    <a:pt x="807" y="43"/>
                  </a:lnTo>
                  <a:lnTo>
                    <a:pt x="748" y="20"/>
                  </a:lnTo>
                  <a:lnTo>
                    <a:pt x="686" y="4"/>
                  </a:lnTo>
                  <a:lnTo>
                    <a:pt x="621" y="0"/>
                  </a:lnTo>
                  <a:lnTo>
                    <a:pt x="557" y="4"/>
                  </a:lnTo>
                  <a:lnTo>
                    <a:pt x="497" y="20"/>
                  </a:lnTo>
                  <a:lnTo>
                    <a:pt x="436" y="43"/>
                  </a:lnTo>
                  <a:lnTo>
                    <a:pt x="380" y="79"/>
                  </a:lnTo>
                  <a:lnTo>
                    <a:pt x="326" y="120"/>
                  </a:lnTo>
                  <a:lnTo>
                    <a:pt x="274" y="170"/>
                  </a:lnTo>
                  <a:lnTo>
                    <a:pt x="226" y="226"/>
                  </a:lnTo>
                  <a:lnTo>
                    <a:pt x="183" y="291"/>
                  </a:lnTo>
                  <a:lnTo>
                    <a:pt x="141" y="361"/>
                  </a:lnTo>
                  <a:lnTo>
                    <a:pt x="106" y="438"/>
                  </a:lnTo>
                  <a:lnTo>
                    <a:pt x="74" y="519"/>
                  </a:lnTo>
                  <a:lnTo>
                    <a:pt x="50" y="607"/>
                  </a:lnTo>
                  <a:lnTo>
                    <a:pt x="27" y="698"/>
                  </a:lnTo>
                  <a:lnTo>
                    <a:pt x="12" y="794"/>
                  </a:lnTo>
                  <a:lnTo>
                    <a:pt x="4" y="892"/>
                  </a:lnTo>
                  <a:lnTo>
                    <a:pt x="0" y="994"/>
                  </a:lnTo>
                  <a:lnTo>
                    <a:pt x="4" y="1095"/>
                  </a:lnTo>
                  <a:lnTo>
                    <a:pt x="12" y="1193"/>
                  </a:lnTo>
                  <a:lnTo>
                    <a:pt x="27" y="1289"/>
                  </a:lnTo>
                  <a:lnTo>
                    <a:pt x="50" y="1378"/>
                  </a:lnTo>
                  <a:lnTo>
                    <a:pt x="74" y="1466"/>
                  </a:lnTo>
                  <a:lnTo>
                    <a:pt x="106" y="1549"/>
                  </a:lnTo>
                  <a:lnTo>
                    <a:pt x="141" y="1624"/>
                  </a:lnTo>
                  <a:lnTo>
                    <a:pt x="183" y="1694"/>
                  </a:lnTo>
                  <a:lnTo>
                    <a:pt x="226" y="1759"/>
                  </a:lnTo>
                  <a:lnTo>
                    <a:pt x="274" y="1815"/>
                  </a:lnTo>
                  <a:lnTo>
                    <a:pt x="326" y="1865"/>
                  </a:lnTo>
                  <a:lnTo>
                    <a:pt x="380" y="1906"/>
                  </a:lnTo>
                  <a:lnTo>
                    <a:pt x="436" y="1942"/>
                  </a:lnTo>
                  <a:lnTo>
                    <a:pt x="497" y="1965"/>
                  </a:lnTo>
                  <a:lnTo>
                    <a:pt x="557" y="1981"/>
                  </a:lnTo>
                  <a:lnTo>
                    <a:pt x="621" y="1985"/>
                  </a:lnTo>
                  <a:close/>
                </a:path>
              </a:pathLst>
            </a:custGeom>
            <a:solidFill>
              <a:srgbClr val="dde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30760" y="2971800"/>
              <a:ext cx="1925640" cy="3058920"/>
            </a:xfrm>
            <a:custGeom>
              <a:avLst/>
              <a:gdLst/>
              <a:ahLst/>
              <a:rect l="l" t="t" r="r" b="b"/>
              <a:pathLst>
                <a:path w="1213" h="1927">
                  <a:moveTo>
                    <a:pt x="605" y="1927"/>
                  </a:moveTo>
                  <a:lnTo>
                    <a:pt x="668" y="1923"/>
                  </a:lnTo>
                  <a:lnTo>
                    <a:pt x="728" y="1909"/>
                  </a:lnTo>
                  <a:lnTo>
                    <a:pt x="786" y="1884"/>
                  </a:lnTo>
                  <a:lnTo>
                    <a:pt x="842" y="1853"/>
                  </a:lnTo>
                  <a:lnTo>
                    <a:pt x="894" y="1811"/>
                  </a:lnTo>
                  <a:lnTo>
                    <a:pt x="944" y="1763"/>
                  </a:lnTo>
                  <a:lnTo>
                    <a:pt x="992" y="1707"/>
                  </a:lnTo>
                  <a:lnTo>
                    <a:pt x="1034" y="1645"/>
                  </a:lnTo>
                  <a:lnTo>
                    <a:pt x="1073" y="1578"/>
                  </a:lnTo>
                  <a:lnTo>
                    <a:pt x="1109" y="1503"/>
                  </a:lnTo>
                  <a:lnTo>
                    <a:pt x="1140" y="1424"/>
                  </a:lnTo>
                  <a:lnTo>
                    <a:pt x="1165" y="1339"/>
                  </a:lnTo>
                  <a:lnTo>
                    <a:pt x="1186" y="1252"/>
                  </a:lnTo>
                  <a:lnTo>
                    <a:pt x="1200" y="1158"/>
                  </a:lnTo>
                  <a:lnTo>
                    <a:pt x="1209" y="1062"/>
                  </a:lnTo>
                  <a:lnTo>
                    <a:pt x="1213" y="965"/>
                  </a:lnTo>
                  <a:lnTo>
                    <a:pt x="1209" y="865"/>
                  </a:lnTo>
                  <a:lnTo>
                    <a:pt x="1200" y="769"/>
                  </a:lnTo>
                  <a:lnTo>
                    <a:pt x="1186" y="678"/>
                  </a:lnTo>
                  <a:lnTo>
                    <a:pt x="1165" y="588"/>
                  </a:lnTo>
                  <a:lnTo>
                    <a:pt x="1140" y="505"/>
                  </a:lnTo>
                  <a:lnTo>
                    <a:pt x="1109" y="424"/>
                  </a:lnTo>
                  <a:lnTo>
                    <a:pt x="1073" y="351"/>
                  </a:lnTo>
                  <a:lnTo>
                    <a:pt x="1034" y="282"/>
                  </a:lnTo>
                  <a:lnTo>
                    <a:pt x="992" y="220"/>
                  </a:lnTo>
                  <a:lnTo>
                    <a:pt x="944" y="164"/>
                  </a:lnTo>
                  <a:lnTo>
                    <a:pt x="894" y="116"/>
                  </a:lnTo>
                  <a:lnTo>
                    <a:pt x="842" y="74"/>
                  </a:lnTo>
                  <a:lnTo>
                    <a:pt x="786" y="43"/>
                  </a:lnTo>
                  <a:lnTo>
                    <a:pt x="728" y="18"/>
                  </a:lnTo>
                  <a:lnTo>
                    <a:pt x="668" y="4"/>
                  </a:lnTo>
                  <a:lnTo>
                    <a:pt x="605" y="0"/>
                  </a:lnTo>
                  <a:lnTo>
                    <a:pt x="543" y="4"/>
                  </a:lnTo>
                  <a:lnTo>
                    <a:pt x="483" y="18"/>
                  </a:lnTo>
                  <a:lnTo>
                    <a:pt x="424" y="43"/>
                  </a:lnTo>
                  <a:lnTo>
                    <a:pt x="370" y="74"/>
                  </a:lnTo>
                  <a:lnTo>
                    <a:pt x="316" y="116"/>
                  </a:lnTo>
                  <a:lnTo>
                    <a:pt x="266" y="164"/>
                  </a:lnTo>
                  <a:lnTo>
                    <a:pt x="221" y="220"/>
                  </a:lnTo>
                  <a:lnTo>
                    <a:pt x="177" y="282"/>
                  </a:lnTo>
                  <a:lnTo>
                    <a:pt x="138" y="351"/>
                  </a:lnTo>
                  <a:lnTo>
                    <a:pt x="104" y="424"/>
                  </a:lnTo>
                  <a:lnTo>
                    <a:pt x="73" y="505"/>
                  </a:lnTo>
                  <a:lnTo>
                    <a:pt x="48" y="588"/>
                  </a:lnTo>
                  <a:lnTo>
                    <a:pt x="27" y="678"/>
                  </a:lnTo>
                  <a:lnTo>
                    <a:pt x="13" y="769"/>
                  </a:lnTo>
                  <a:lnTo>
                    <a:pt x="2" y="865"/>
                  </a:lnTo>
                  <a:lnTo>
                    <a:pt x="0" y="965"/>
                  </a:lnTo>
                  <a:lnTo>
                    <a:pt x="2" y="1062"/>
                  </a:lnTo>
                  <a:lnTo>
                    <a:pt x="13" y="1158"/>
                  </a:lnTo>
                  <a:lnTo>
                    <a:pt x="27" y="1252"/>
                  </a:lnTo>
                  <a:lnTo>
                    <a:pt x="48" y="1339"/>
                  </a:lnTo>
                  <a:lnTo>
                    <a:pt x="73" y="1424"/>
                  </a:lnTo>
                  <a:lnTo>
                    <a:pt x="104" y="1503"/>
                  </a:lnTo>
                  <a:lnTo>
                    <a:pt x="138" y="1578"/>
                  </a:lnTo>
                  <a:lnTo>
                    <a:pt x="177" y="1645"/>
                  </a:lnTo>
                  <a:lnTo>
                    <a:pt x="221" y="1707"/>
                  </a:lnTo>
                  <a:lnTo>
                    <a:pt x="266" y="1763"/>
                  </a:lnTo>
                  <a:lnTo>
                    <a:pt x="316" y="1811"/>
                  </a:lnTo>
                  <a:lnTo>
                    <a:pt x="370" y="1853"/>
                  </a:lnTo>
                  <a:lnTo>
                    <a:pt x="424" y="1884"/>
                  </a:lnTo>
                  <a:lnTo>
                    <a:pt x="483" y="1909"/>
                  </a:lnTo>
                  <a:lnTo>
                    <a:pt x="543" y="1923"/>
                  </a:lnTo>
                  <a:lnTo>
                    <a:pt x="605" y="1927"/>
                  </a:lnTo>
                  <a:close/>
                </a:path>
              </a:pathLst>
            </a:custGeom>
            <a:solidFill>
              <a:srgbClr val="e2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57760" y="3014640"/>
              <a:ext cx="1868400" cy="2973240"/>
            </a:xfrm>
            <a:custGeom>
              <a:avLst/>
              <a:gdLst/>
              <a:ahLst/>
              <a:rect l="l" t="t" r="r" b="b"/>
              <a:pathLst>
                <a:path w="1177" h="1873">
                  <a:moveTo>
                    <a:pt x="588" y="1873"/>
                  </a:moveTo>
                  <a:lnTo>
                    <a:pt x="649" y="1869"/>
                  </a:lnTo>
                  <a:lnTo>
                    <a:pt x="707" y="1855"/>
                  </a:lnTo>
                  <a:lnTo>
                    <a:pt x="763" y="1832"/>
                  </a:lnTo>
                  <a:lnTo>
                    <a:pt x="817" y="1801"/>
                  </a:lnTo>
                  <a:lnTo>
                    <a:pt x="869" y="1761"/>
                  </a:lnTo>
                  <a:lnTo>
                    <a:pt x="919" y="1713"/>
                  </a:lnTo>
                  <a:lnTo>
                    <a:pt x="963" y="1659"/>
                  </a:lnTo>
                  <a:lnTo>
                    <a:pt x="1004" y="1599"/>
                  </a:lnTo>
                  <a:lnTo>
                    <a:pt x="1044" y="1532"/>
                  </a:lnTo>
                  <a:lnTo>
                    <a:pt x="1077" y="1460"/>
                  </a:lnTo>
                  <a:lnTo>
                    <a:pt x="1106" y="1383"/>
                  </a:lnTo>
                  <a:lnTo>
                    <a:pt x="1131" y="1301"/>
                  </a:lnTo>
                  <a:lnTo>
                    <a:pt x="1150" y="1216"/>
                  </a:lnTo>
                  <a:lnTo>
                    <a:pt x="1164" y="1127"/>
                  </a:lnTo>
                  <a:lnTo>
                    <a:pt x="1175" y="1033"/>
                  </a:lnTo>
                  <a:lnTo>
                    <a:pt x="1177" y="938"/>
                  </a:lnTo>
                  <a:lnTo>
                    <a:pt x="1175" y="842"/>
                  </a:lnTo>
                  <a:lnTo>
                    <a:pt x="1164" y="748"/>
                  </a:lnTo>
                  <a:lnTo>
                    <a:pt x="1150" y="659"/>
                  </a:lnTo>
                  <a:lnTo>
                    <a:pt x="1131" y="572"/>
                  </a:lnTo>
                  <a:lnTo>
                    <a:pt x="1106" y="490"/>
                  </a:lnTo>
                  <a:lnTo>
                    <a:pt x="1077" y="413"/>
                  </a:lnTo>
                  <a:lnTo>
                    <a:pt x="1044" y="341"/>
                  </a:lnTo>
                  <a:lnTo>
                    <a:pt x="1004" y="274"/>
                  </a:lnTo>
                  <a:lnTo>
                    <a:pt x="963" y="214"/>
                  </a:lnTo>
                  <a:lnTo>
                    <a:pt x="919" y="160"/>
                  </a:lnTo>
                  <a:lnTo>
                    <a:pt x="869" y="112"/>
                  </a:lnTo>
                  <a:lnTo>
                    <a:pt x="817" y="72"/>
                  </a:lnTo>
                  <a:lnTo>
                    <a:pt x="763" y="41"/>
                  </a:lnTo>
                  <a:lnTo>
                    <a:pt x="707" y="18"/>
                  </a:lnTo>
                  <a:lnTo>
                    <a:pt x="649" y="4"/>
                  </a:lnTo>
                  <a:lnTo>
                    <a:pt x="588" y="0"/>
                  </a:lnTo>
                  <a:lnTo>
                    <a:pt x="528" y="4"/>
                  </a:lnTo>
                  <a:lnTo>
                    <a:pt x="470" y="18"/>
                  </a:lnTo>
                  <a:lnTo>
                    <a:pt x="414" y="41"/>
                  </a:lnTo>
                  <a:lnTo>
                    <a:pt x="360" y="72"/>
                  </a:lnTo>
                  <a:lnTo>
                    <a:pt x="308" y="112"/>
                  </a:lnTo>
                  <a:lnTo>
                    <a:pt x="260" y="160"/>
                  </a:lnTo>
                  <a:lnTo>
                    <a:pt x="214" y="214"/>
                  </a:lnTo>
                  <a:lnTo>
                    <a:pt x="172" y="274"/>
                  </a:lnTo>
                  <a:lnTo>
                    <a:pt x="135" y="341"/>
                  </a:lnTo>
                  <a:lnTo>
                    <a:pt x="100" y="413"/>
                  </a:lnTo>
                  <a:lnTo>
                    <a:pt x="71" y="490"/>
                  </a:lnTo>
                  <a:lnTo>
                    <a:pt x="46" y="572"/>
                  </a:lnTo>
                  <a:lnTo>
                    <a:pt x="27" y="659"/>
                  </a:lnTo>
                  <a:lnTo>
                    <a:pt x="12" y="748"/>
                  </a:lnTo>
                  <a:lnTo>
                    <a:pt x="2" y="842"/>
                  </a:lnTo>
                  <a:lnTo>
                    <a:pt x="0" y="938"/>
                  </a:lnTo>
                  <a:lnTo>
                    <a:pt x="2" y="1033"/>
                  </a:lnTo>
                  <a:lnTo>
                    <a:pt x="12" y="1127"/>
                  </a:lnTo>
                  <a:lnTo>
                    <a:pt x="27" y="1216"/>
                  </a:lnTo>
                  <a:lnTo>
                    <a:pt x="46" y="1301"/>
                  </a:lnTo>
                  <a:lnTo>
                    <a:pt x="71" y="1383"/>
                  </a:lnTo>
                  <a:lnTo>
                    <a:pt x="100" y="1460"/>
                  </a:lnTo>
                  <a:lnTo>
                    <a:pt x="135" y="1532"/>
                  </a:lnTo>
                  <a:lnTo>
                    <a:pt x="172" y="1599"/>
                  </a:lnTo>
                  <a:lnTo>
                    <a:pt x="214" y="1659"/>
                  </a:lnTo>
                  <a:lnTo>
                    <a:pt x="260" y="1713"/>
                  </a:lnTo>
                  <a:lnTo>
                    <a:pt x="308" y="1761"/>
                  </a:lnTo>
                  <a:lnTo>
                    <a:pt x="360" y="1801"/>
                  </a:lnTo>
                  <a:lnTo>
                    <a:pt x="414" y="1832"/>
                  </a:lnTo>
                  <a:lnTo>
                    <a:pt x="470" y="1855"/>
                  </a:lnTo>
                  <a:lnTo>
                    <a:pt x="528" y="1869"/>
                  </a:lnTo>
                  <a:lnTo>
                    <a:pt x="588" y="1873"/>
                  </a:lnTo>
                  <a:close/>
                </a:path>
              </a:pathLst>
            </a:custGeom>
            <a:solidFill>
              <a:srgbClr val="e5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8000" y="3060720"/>
              <a:ext cx="1811160" cy="2881080"/>
            </a:xfrm>
            <a:custGeom>
              <a:avLst/>
              <a:gdLst/>
              <a:ahLst/>
              <a:rect l="l" t="t" r="r" b="b"/>
              <a:pathLst>
                <a:path w="1141" h="1815">
                  <a:moveTo>
                    <a:pt x="569" y="1815"/>
                  </a:moveTo>
                  <a:lnTo>
                    <a:pt x="628" y="1811"/>
                  </a:lnTo>
                  <a:lnTo>
                    <a:pt x="684" y="1797"/>
                  </a:lnTo>
                  <a:lnTo>
                    <a:pt x="740" y="1774"/>
                  </a:lnTo>
                  <a:lnTo>
                    <a:pt x="792" y="1745"/>
                  </a:lnTo>
                  <a:lnTo>
                    <a:pt x="842" y="1705"/>
                  </a:lnTo>
                  <a:lnTo>
                    <a:pt x="890" y="1661"/>
                  </a:lnTo>
                  <a:lnTo>
                    <a:pt x="933" y="1609"/>
                  </a:lnTo>
                  <a:lnTo>
                    <a:pt x="975" y="1549"/>
                  </a:lnTo>
                  <a:lnTo>
                    <a:pt x="1010" y="1485"/>
                  </a:lnTo>
                  <a:lnTo>
                    <a:pt x="1044" y="1416"/>
                  </a:lnTo>
                  <a:lnTo>
                    <a:pt x="1073" y="1341"/>
                  </a:lnTo>
                  <a:lnTo>
                    <a:pt x="1096" y="1262"/>
                  </a:lnTo>
                  <a:lnTo>
                    <a:pt x="1116" y="1179"/>
                  </a:lnTo>
                  <a:lnTo>
                    <a:pt x="1129" y="1092"/>
                  </a:lnTo>
                  <a:lnTo>
                    <a:pt x="1139" y="1002"/>
                  </a:lnTo>
                  <a:lnTo>
                    <a:pt x="1141" y="909"/>
                  </a:lnTo>
                  <a:lnTo>
                    <a:pt x="1139" y="815"/>
                  </a:lnTo>
                  <a:lnTo>
                    <a:pt x="1129" y="726"/>
                  </a:lnTo>
                  <a:lnTo>
                    <a:pt x="1116" y="638"/>
                  </a:lnTo>
                  <a:lnTo>
                    <a:pt x="1096" y="555"/>
                  </a:lnTo>
                  <a:lnTo>
                    <a:pt x="1073" y="474"/>
                  </a:lnTo>
                  <a:lnTo>
                    <a:pt x="1044" y="399"/>
                  </a:lnTo>
                  <a:lnTo>
                    <a:pt x="1010" y="330"/>
                  </a:lnTo>
                  <a:lnTo>
                    <a:pt x="975" y="266"/>
                  </a:lnTo>
                  <a:lnTo>
                    <a:pt x="933" y="208"/>
                  </a:lnTo>
                  <a:lnTo>
                    <a:pt x="890" y="154"/>
                  </a:lnTo>
                  <a:lnTo>
                    <a:pt x="842" y="110"/>
                  </a:lnTo>
                  <a:lnTo>
                    <a:pt x="792" y="70"/>
                  </a:lnTo>
                  <a:lnTo>
                    <a:pt x="740" y="41"/>
                  </a:lnTo>
                  <a:lnTo>
                    <a:pt x="684" y="18"/>
                  </a:lnTo>
                  <a:lnTo>
                    <a:pt x="628" y="4"/>
                  </a:lnTo>
                  <a:lnTo>
                    <a:pt x="569" y="0"/>
                  </a:lnTo>
                  <a:lnTo>
                    <a:pt x="511" y="4"/>
                  </a:lnTo>
                  <a:lnTo>
                    <a:pt x="455" y="18"/>
                  </a:lnTo>
                  <a:lnTo>
                    <a:pt x="401" y="41"/>
                  </a:lnTo>
                  <a:lnTo>
                    <a:pt x="347" y="70"/>
                  </a:lnTo>
                  <a:lnTo>
                    <a:pt x="299" y="110"/>
                  </a:lnTo>
                  <a:lnTo>
                    <a:pt x="251" y="154"/>
                  </a:lnTo>
                  <a:lnTo>
                    <a:pt x="208" y="208"/>
                  </a:lnTo>
                  <a:lnTo>
                    <a:pt x="166" y="266"/>
                  </a:lnTo>
                  <a:lnTo>
                    <a:pt x="131" y="330"/>
                  </a:lnTo>
                  <a:lnTo>
                    <a:pt x="97" y="399"/>
                  </a:lnTo>
                  <a:lnTo>
                    <a:pt x="68" y="474"/>
                  </a:lnTo>
                  <a:lnTo>
                    <a:pt x="45" y="555"/>
                  </a:lnTo>
                  <a:lnTo>
                    <a:pt x="25" y="638"/>
                  </a:lnTo>
                  <a:lnTo>
                    <a:pt x="12" y="726"/>
                  </a:lnTo>
                  <a:lnTo>
                    <a:pt x="2" y="815"/>
                  </a:lnTo>
                  <a:lnTo>
                    <a:pt x="0" y="909"/>
                  </a:lnTo>
                  <a:lnTo>
                    <a:pt x="2" y="1002"/>
                  </a:lnTo>
                  <a:lnTo>
                    <a:pt x="12" y="1092"/>
                  </a:lnTo>
                  <a:lnTo>
                    <a:pt x="25" y="1179"/>
                  </a:lnTo>
                  <a:lnTo>
                    <a:pt x="45" y="1262"/>
                  </a:lnTo>
                  <a:lnTo>
                    <a:pt x="68" y="1341"/>
                  </a:lnTo>
                  <a:lnTo>
                    <a:pt x="97" y="1416"/>
                  </a:lnTo>
                  <a:lnTo>
                    <a:pt x="131" y="1485"/>
                  </a:lnTo>
                  <a:lnTo>
                    <a:pt x="166" y="1549"/>
                  </a:lnTo>
                  <a:lnTo>
                    <a:pt x="208" y="1609"/>
                  </a:lnTo>
                  <a:lnTo>
                    <a:pt x="251" y="1661"/>
                  </a:lnTo>
                  <a:lnTo>
                    <a:pt x="299" y="1705"/>
                  </a:lnTo>
                  <a:lnTo>
                    <a:pt x="347" y="1745"/>
                  </a:lnTo>
                  <a:lnTo>
                    <a:pt x="401" y="1774"/>
                  </a:lnTo>
                  <a:lnTo>
                    <a:pt x="455" y="1797"/>
                  </a:lnTo>
                  <a:lnTo>
                    <a:pt x="511" y="1811"/>
                  </a:lnTo>
                  <a:lnTo>
                    <a:pt x="569" y="1815"/>
                  </a:lnTo>
                  <a:close/>
                </a:path>
              </a:pathLst>
            </a:custGeom>
            <a:solidFill>
              <a:srgbClr val="edf4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13200" y="3103560"/>
              <a:ext cx="1757520" cy="2795400"/>
            </a:xfrm>
            <a:custGeom>
              <a:avLst/>
              <a:gdLst/>
              <a:ahLst/>
              <a:rect l="l" t="t" r="r" b="b"/>
              <a:pathLst>
                <a:path w="1107" h="1761">
                  <a:moveTo>
                    <a:pt x="553" y="1761"/>
                  </a:moveTo>
                  <a:lnTo>
                    <a:pt x="610" y="1757"/>
                  </a:lnTo>
                  <a:lnTo>
                    <a:pt x="666" y="1742"/>
                  </a:lnTo>
                  <a:lnTo>
                    <a:pt x="718" y="1722"/>
                  </a:lnTo>
                  <a:lnTo>
                    <a:pt x="770" y="1693"/>
                  </a:lnTo>
                  <a:lnTo>
                    <a:pt x="818" y="1655"/>
                  </a:lnTo>
                  <a:lnTo>
                    <a:pt x="863" y="1611"/>
                  </a:lnTo>
                  <a:lnTo>
                    <a:pt x="905" y="1559"/>
                  </a:lnTo>
                  <a:lnTo>
                    <a:pt x="944" y="1503"/>
                  </a:lnTo>
                  <a:lnTo>
                    <a:pt x="980" y="1441"/>
                  </a:lnTo>
                  <a:lnTo>
                    <a:pt x="1013" y="1372"/>
                  </a:lnTo>
                  <a:lnTo>
                    <a:pt x="1040" y="1300"/>
                  </a:lnTo>
                  <a:lnTo>
                    <a:pt x="1063" y="1223"/>
                  </a:lnTo>
                  <a:lnTo>
                    <a:pt x="1082" y="1144"/>
                  </a:lnTo>
                  <a:lnTo>
                    <a:pt x="1096" y="1058"/>
                  </a:lnTo>
                  <a:lnTo>
                    <a:pt x="1105" y="971"/>
                  </a:lnTo>
                  <a:lnTo>
                    <a:pt x="1107" y="882"/>
                  </a:lnTo>
                  <a:lnTo>
                    <a:pt x="1105" y="792"/>
                  </a:lnTo>
                  <a:lnTo>
                    <a:pt x="1096" y="705"/>
                  </a:lnTo>
                  <a:lnTo>
                    <a:pt x="1082" y="620"/>
                  </a:lnTo>
                  <a:lnTo>
                    <a:pt x="1063" y="538"/>
                  </a:lnTo>
                  <a:lnTo>
                    <a:pt x="1040" y="461"/>
                  </a:lnTo>
                  <a:lnTo>
                    <a:pt x="1013" y="389"/>
                  </a:lnTo>
                  <a:lnTo>
                    <a:pt x="980" y="320"/>
                  </a:lnTo>
                  <a:lnTo>
                    <a:pt x="944" y="258"/>
                  </a:lnTo>
                  <a:lnTo>
                    <a:pt x="905" y="202"/>
                  </a:lnTo>
                  <a:lnTo>
                    <a:pt x="863" y="150"/>
                  </a:lnTo>
                  <a:lnTo>
                    <a:pt x="818" y="106"/>
                  </a:lnTo>
                  <a:lnTo>
                    <a:pt x="770" y="68"/>
                  </a:lnTo>
                  <a:lnTo>
                    <a:pt x="718" y="39"/>
                  </a:lnTo>
                  <a:lnTo>
                    <a:pt x="666" y="19"/>
                  </a:lnTo>
                  <a:lnTo>
                    <a:pt x="610" y="4"/>
                  </a:lnTo>
                  <a:lnTo>
                    <a:pt x="553" y="0"/>
                  </a:lnTo>
                  <a:lnTo>
                    <a:pt x="497" y="4"/>
                  </a:lnTo>
                  <a:lnTo>
                    <a:pt x="441" y="19"/>
                  </a:lnTo>
                  <a:lnTo>
                    <a:pt x="389" y="39"/>
                  </a:lnTo>
                  <a:lnTo>
                    <a:pt x="337" y="68"/>
                  </a:lnTo>
                  <a:lnTo>
                    <a:pt x="289" y="106"/>
                  </a:lnTo>
                  <a:lnTo>
                    <a:pt x="244" y="150"/>
                  </a:lnTo>
                  <a:lnTo>
                    <a:pt x="202" y="202"/>
                  </a:lnTo>
                  <a:lnTo>
                    <a:pt x="162" y="258"/>
                  </a:lnTo>
                  <a:lnTo>
                    <a:pt x="127" y="320"/>
                  </a:lnTo>
                  <a:lnTo>
                    <a:pt x="94" y="389"/>
                  </a:lnTo>
                  <a:lnTo>
                    <a:pt x="67" y="461"/>
                  </a:lnTo>
                  <a:lnTo>
                    <a:pt x="44" y="538"/>
                  </a:lnTo>
                  <a:lnTo>
                    <a:pt x="25" y="620"/>
                  </a:lnTo>
                  <a:lnTo>
                    <a:pt x="11" y="705"/>
                  </a:lnTo>
                  <a:lnTo>
                    <a:pt x="2" y="792"/>
                  </a:lnTo>
                  <a:lnTo>
                    <a:pt x="0" y="882"/>
                  </a:lnTo>
                  <a:lnTo>
                    <a:pt x="2" y="971"/>
                  </a:lnTo>
                  <a:lnTo>
                    <a:pt x="11" y="1058"/>
                  </a:lnTo>
                  <a:lnTo>
                    <a:pt x="25" y="1144"/>
                  </a:lnTo>
                  <a:lnTo>
                    <a:pt x="44" y="1223"/>
                  </a:lnTo>
                  <a:lnTo>
                    <a:pt x="67" y="1300"/>
                  </a:lnTo>
                  <a:lnTo>
                    <a:pt x="94" y="1372"/>
                  </a:lnTo>
                  <a:lnTo>
                    <a:pt x="127" y="1441"/>
                  </a:lnTo>
                  <a:lnTo>
                    <a:pt x="162" y="1503"/>
                  </a:lnTo>
                  <a:lnTo>
                    <a:pt x="202" y="1559"/>
                  </a:lnTo>
                  <a:lnTo>
                    <a:pt x="244" y="1611"/>
                  </a:lnTo>
                  <a:lnTo>
                    <a:pt x="289" y="1655"/>
                  </a:lnTo>
                  <a:lnTo>
                    <a:pt x="337" y="1693"/>
                  </a:lnTo>
                  <a:lnTo>
                    <a:pt x="389" y="1722"/>
                  </a:lnTo>
                  <a:lnTo>
                    <a:pt x="441" y="1742"/>
                  </a:lnTo>
                  <a:lnTo>
                    <a:pt x="497" y="1757"/>
                  </a:lnTo>
                  <a:lnTo>
                    <a:pt x="553" y="1761"/>
                  </a:lnTo>
                  <a:close/>
                </a:path>
              </a:pathLst>
            </a:custGeom>
            <a:solidFill>
              <a:srgbClr val="eff7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43440" y="3149640"/>
              <a:ext cx="1700280" cy="2706480"/>
            </a:xfrm>
            <a:custGeom>
              <a:avLst/>
              <a:gdLst/>
              <a:ahLst/>
              <a:rect l="l" t="t" r="r" b="b"/>
              <a:pathLst>
                <a:path w="1071" h="1705">
                  <a:moveTo>
                    <a:pt x="534" y="1705"/>
                  </a:moveTo>
                  <a:lnTo>
                    <a:pt x="588" y="1701"/>
                  </a:lnTo>
                  <a:lnTo>
                    <a:pt x="643" y="1689"/>
                  </a:lnTo>
                  <a:lnTo>
                    <a:pt x="695" y="1668"/>
                  </a:lnTo>
                  <a:lnTo>
                    <a:pt x="744" y="1639"/>
                  </a:lnTo>
                  <a:lnTo>
                    <a:pt x="790" y="1601"/>
                  </a:lnTo>
                  <a:lnTo>
                    <a:pt x="834" y="1560"/>
                  </a:lnTo>
                  <a:lnTo>
                    <a:pt x="875" y="1510"/>
                  </a:lnTo>
                  <a:lnTo>
                    <a:pt x="915" y="1456"/>
                  </a:lnTo>
                  <a:lnTo>
                    <a:pt x="948" y="1395"/>
                  </a:lnTo>
                  <a:lnTo>
                    <a:pt x="979" y="1329"/>
                  </a:lnTo>
                  <a:lnTo>
                    <a:pt x="1006" y="1258"/>
                  </a:lnTo>
                  <a:lnTo>
                    <a:pt x="1029" y="1183"/>
                  </a:lnTo>
                  <a:lnTo>
                    <a:pt x="1046" y="1106"/>
                  </a:lnTo>
                  <a:lnTo>
                    <a:pt x="1061" y="1025"/>
                  </a:lnTo>
                  <a:lnTo>
                    <a:pt x="1069" y="940"/>
                  </a:lnTo>
                  <a:lnTo>
                    <a:pt x="1071" y="853"/>
                  </a:lnTo>
                  <a:lnTo>
                    <a:pt x="1069" y="765"/>
                  </a:lnTo>
                  <a:lnTo>
                    <a:pt x="1061" y="680"/>
                  </a:lnTo>
                  <a:lnTo>
                    <a:pt x="1046" y="599"/>
                  </a:lnTo>
                  <a:lnTo>
                    <a:pt x="1029" y="520"/>
                  </a:lnTo>
                  <a:lnTo>
                    <a:pt x="1006" y="445"/>
                  </a:lnTo>
                  <a:lnTo>
                    <a:pt x="979" y="376"/>
                  </a:lnTo>
                  <a:lnTo>
                    <a:pt x="948" y="310"/>
                  </a:lnTo>
                  <a:lnTo>
                    <a:pt x="915" y="249"/>
                  </a:lnTo>
                  <a:lnTo>
                    <a:pt x="875" y="193"/>
                  </a:lnTo>
                  <a:lnTo>
                    <a:pt x="834" y="145"/>
                  </a:lnTo>
                  <a:lnTo>
                    <a:pt x="790" y="102"/>
                  </a:lnTo>
                  <a:lnTo>
                    <a:pt x="744" y="66"/>
                  </a:lnTo>
                  <a:lnTo>
                    <a:pt x="695" y="37"/>
                  </a:lnTo>
                  <a:lnTo>
                    <a:pt x="643" y="17"/>
                  </a:lnTo>
                  <a:lnTo>
                    <a:pt x="588" y="4"/>
                  </a:lnTo>
                  <a:lnTo>
                    <a:pt x="534" y="0"/>
                  </a:lnTo>
                  <a:lnTo>
                    <a:pt x="480" y="4"/>
                  </a:lnTo>
                  <a:lnTo>
                    <a:pt x="426" y="17"/>
                  </a:lnTo>
                  <a:lnTo>
                    <a:pt x="376" y="37"/>
                  </a:lnTo>
                  <a:lnTo>
                    <a:pt x="326" y="66"/>
                  </a:lnTo>
                  <a:lnTo>
                    <a:pt x="279" y="102"/>
                  </a:lnTo>
                  <a:lnTo>
                    <a:pt x="235" y="145"/>
                  </a:lnTo>
                  <a:lnTo>
                    <a:pt x="193" y="193"/>
                  </a:lnTo>
                  <a:lnTo>
                    <a:pt x="156" y="249"/>
                  </a:lnTo>
                  <a:lnTo>
                    <a:pt x="123" y="310"/>
                  </a:lnTo>
                  <a:lnTo>
                    <a:pt x="91" y="376"/>
                  </a:lnTo>
                  <a:lnTo>
                    <a:pt x="64" y="445"/>
                  </a:lnTo>
                  <a:lnTo>
                    <a:pt x="42" y="520"/>
                  </a:lnTo>
                  <a:lnTo>
                    <a:pt x="25" y="599"/>
                  </a:lnTo>
                  <a:lnTo>
                    <a:pt x="10" y="680"/>
                  </a:lnTo>
                  <a:lnTo>
                    <a:pt x="2" y="765"/>
                  </a:lnTo>
                  <a:lnTo>
                    <a:pt x="0" y="853"/>
                  </a:lnTo>
                  <a:lnTo>
                    <a:pt x="2" y="940"/>
                  </a:lnTo>
                  <a:lnTo>
                    <a:pt x="10" y="1025"/>
                  </a:lnTo>
                  <a:lnTo>
                    <a:pt x="25" y="1106"/>
                  </a:lnTo>
                  <a:lnTo>
                    <a:pt x="42" y="1183"/>
                  </a:lnTo>
                  <a:lnTo>
                    <a:pt x="64" y="1258"/>
                  </a:lnTo>
                  <a:lnTo>
                    <a:pt x="91" y="1329"/>
                  </a:lnTo>
                  <a:lnTo>
                    <a:pt x="123" y="1395"/>
                  </a:lnTo>
                  <a:lnTo>
                    <a:pt x="156" y="1456"/>
                  </a:lnTo>
                  <a:lnTo>
                    <a:pt x="193" y="1510"/>
                  </a:lnTo>
                  <a:lnTo>
                    <a:pt x="235" y="1560"/>
                  </a:lnTo>
                  <a:lnTo>
                    <a:pt x="279" y="1601"/>
                  </a:lnTo>
                  <a:lnTo>
                    <a:pt x="326" y="1639"/>
                  </a:lnTo>
                  <a:lnTo>
                    <a:pt x="376" y="1668"/>
                  </a:lnTo>
                  <a:lnTo>
                    <a:pt x="426" y="1689"/>
                  </a:lnTo>
                  <a:lnTo>
                    <a:pt x="480" y="1701"/>
                  </a:lnTo>
                  <a:lnTo>
                    <a:pt x="534" y="1705"/>
                  </a:lnTo>
                  <a:close/>
                </a:path>
              </a:pathLst>
            </a:custGeom>
            <a:solidFill>
              <a:srgbClr val="f4f7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70440" y="3192480"/>
              <a:ext cx="1643040" cy="2617560"/>
            </a:xfrm>
            <a:custGeom>
              <a:avLst/>
              <a:gdLst/>
              <a:ahLst/>
              <a:rect l="l" t="t" r="r" b="b"/>
              <a:pathLst>
                <a:path w="1035" h="1649">
                  <a:moveTo>
                    <a:pt x="517" y="1649"/>
                  </a:moveTo>
                  <a:lnTo>
                    <a:pt x="571" y="1645"/>
                  </a:lnTo>
                  <a:lnTo>
                    <a:pt x="621" y="1632"/>
                  </a:lnTo>
                  <a:lnTo>
                    <a:pt x="671" y="1612"/>
                  </a:lnTo>
                  <a:lnTo>
                    <a:pt x="719" y="1585"/>
                  </a:lnTo>
                  <a:lnTo>
                    <a:pt x="765" y="1549"/>
                  </a:lnTo>
                  <a:lnTo>
                    <a:pt x="806" y="1508"/>
                  </a:lnTo>
                  <a:lnTo>
                    <a:pt x="848" y="1462"/>
                  </a:lnTo>
                  <a:lnTo>
                    <a:pt x="883" y="1408"/>
                  </a:lnTo>
                  <a:lnTo>
                    <a:pt x="917" y="1350"/>
                  </a:lnTo>
                  <a:lnTo>
                    <a:pt x="948" y="1287"/>
                  </a:lnTo>
                  <a:lnTo>
                    <a:pt x="973" y="1219"/>
                  </a:lnTo>
                  <a:lnTo>
                    <a:pt x="996" y="1146"/>
                  </a:lnTo>
                  <a:lnTo>
                    <a:pt x="1012" y="1071"/>
                  </a:lnTo>
                  <a:lnTo>
                    <a:pt x="1025" y="992"/>
                  </a:lnTo>
                  <a:lnTo>
                    <a:pt x="1033" y="911"/>
                  </a:lnTo>
                  <a:lnTo>
                    <a:pt x="1035" y="826"/>
                  </a:lnTo>
                  <a:lnTo>
                    <a:pt x="1033" y="740"/>
                  </a:lnTo>
                  <a:lnTo>
                    <a:pt x="1025" y="659"/>
                  </a:lnTo>
                  <a:lnTo>
                    <a:pt x="1012" y="580"/>
                  </a:lnTo>
                  <a:lnTo>
                    <a:pt x="996" y="505"/>
                  </a:lnTo>
                  <a:lnTo>
                    <a:pt x="973" y="433"/>
                  </a:lnTo>
                  <a:lnTo>
                    <a:pt x="948" y="364"/>
                  </a:lnTo>
                  <a:lnTo>
                    <a:pt x="917" y="301"/>
                  </a:lnTo>
                  <a:lnTo>
                    <a:pt x="883" y="241"/>
                  </a:lnTo>
                  <a:lnTo>
                    <a:pt x="848" y="189"/>
                  </a:lnTo>
                  <a:lnTo>
                    <a:pt x="806" y="141"/>
                  </a:lnTo>
                  <a:lnTo>
                    <a:pt x="765" y="100"/>
                  </a:lnTo>
                  <a:lnTo>
                    <a:pt x="719" y="64"/>
                  </a:lnTo>
                  <a:lnTo>
                    <a:pt x="671" y="37"/>
                  </a:lnTo>
                  <a:lnTo>
                    <a:pt x="621" y="17"/>
                  </a:lnTo>
                  <a:lnTo>
                    <a:pt x="571" y="4"/>
                  </a:lnTo>
                  <a:lnTo>
                    <a:pt x="517" y="0"/>
                  </a:lnTo>
                  <a:lnTo>
                    <a:pt x="465" y="4"/>
                  </a:lnTo>
                  <a:lnTo>
                    <a:pt x="413" y="17"/>
                  </a:lnTo>
                  <a:lnTo>
                    <a:pt x="364" y="37"/>
                  </a:lnTo>
                  <a:lnTo>
                    <a:pt x="316" y="64"/>
                  </a:lnTo>
                  <a:lnTo>
                    <a:pt x="272" y="100"/>
                  </a:lnTo>
                  <a:lnTo>
                    <a:pt x="228" y="141"/>
                  </a:lnTo>
                  <a:lnTo>
                    <a:pt x="189" y="189"/>
                  </a:lnTo>
                  <a:lnTo>
                    <a:pt x="151" y="241"/>
                  </a:lnTo>
                  <a:lnTo>
                    <a:pt x="118" y="301"/>
                  </a:lnTo>
                  <a:lnTo>
                    <a:pt x="89" y="364"/>
                  </a:lnTo>
                  <a:lnTo>
                    <a:pt x="62" y="433"/>
                  </a:lnTo>
                  <a:lnTo>
                    <a:pt x="41" y="505"/>
                  </a:lnTo>
                  <a:lnTo>
                    <a:pt x="22" y="580"/>
                  </a:lnTo>
                  <a:lnTo>
                    <a:pt x="10" y="659"/>
                  </a:lnTo>
                  <a:lnTo>
                    <a:pt x="2" y="740"/>
                  </a:lnTo>
                  <a:lnTo>
                    <a:pt x="0" y="826"/>
                  </a:lnTo>
                  <a:lnTo>
                    <a:pt x="2" y="911"/>
                  </a:lnTo>
                  <a:lnTo>
                    <a:pt x="10" y="992"/>
                  </a:lnTo>
                  <a:lnTo>
                    <a:pt x="22" y="1071"/>
                  </a:lnTo>
                  <a:lnTo>
                    <a:pt x="41" y="1146"/>
                  </a:lnTo>
                  <a:lnTo>
                    <a:pt x="62" y="1219"/>
                  </a:lnTo>
                  <a:lnTo>
                    <a:pt x="89" y="1287"/>
                  </a:lnTo>
                  <a:lnTo>
                    <a:pt x="118" y="1350"/>
                  </a:lnTo>
                  <a:lnTo>
                    <a:pt x="151" y="1408"/>
                  </a:lnTo>
                  <a:lnTo>
                    <a:pt x="189" y="1462"/>
                  </a:lnTo>
                  <a:lnTo>
                    <a:pt x="228" y="1508"/>
                  </a:lnTo>
                  <a:lnTo>
                    <a:pt x="272" y="1549"/>
                  </a:lnTo>
                  <a:lnTo>
                    <a:pt x="316" y="1585"/>
                  </a:lnTo>
                  <a:lnTo>
                    <a:pt x="364" y="1612"/>
                  </a:lnTo>
                  <a:lnTo>
                    <a:pt x="413" y="1632"/>
                  </a:lnTo>
                  <a:lnTo>
                    <a:pt x="465" y="1645"/>
                  </a:lnTo>
                  <a:lnTo>
                    <a:pt x="517" y="1649"/>
                  </a:lnTo>
                  <a:close/>
                </a:path>
              </a:pathLst>
            </a:custGeom>
            <a:solidFill>
              <a:srgbClr val="f9f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98880" y="3238560"/>
              <a:ext cx="1589400" cy="2528640"/>
            </a:xfrm>
            <a:custGeom>
              <a:avLst/>
              <a:gdLst/>
              <a:ahLst/>
              <a:rect l="l" t="t" r="r" b="b"/>
              <a:pathLst>
                <a:path w="1001" h="1593">
                  <a:moveTo>
                    <a:pt x="499" y="1593"/>
                  </a:moveTo>
                  <a:lnTo>
                    <a:pt x="551" y="1589"/>
                  </a:lnTo>
                  <a:lnTo>
                    <a:pt x="601" y="1576"/>
                  </a:lnTo>
                  <a:lnTo>
                    <a:pt x="649" y="1558"/>
                  </a:lnTo>
                  <a:lnTo>
                    <a:pt x="695" y="1531"/>
                  </a:lnTo>
                  <a:lnTo>
                    <a:pt x="739" y="1497"/>
                  </a:lnTo>
                  <a:lnTo>
                    <a:pt x="780" y="1456"/>
                  </a:lnTo>
                  <a:lnTo>
                    <a:pt x="818" y="1410"/>
                  </a:lnTo>
                  <a:lnTo>
                    <a:pt x="853" y="1360"/>
                  </a:lnTo>
                  <a:lnTo>
                    <a:pt x="886" y="1302"/>
                  </a:lnTo>
                  <a:lnTo>
                    <a:pt x="915" y="1242"/>
                  </a:lnTo>
                  <a:lnTo>
                    <a:pt x="940" y="1175"/>
                  </a:lnTo>
                  <a:lnTo>
                    <a:pt x="961" y="1106"/>
                  </a:lnTo>
                  <a:lnTo>
                    <a:pt x="978" y="1034"/>
                  </a:lnTo>
                  <a:lnTo>
                    <a:pt x="990" y="957"/>
                  </a:lnTo>
                  <a:lnTo>
                    <a:pt x="999" y="878"/>
                  </a:lnTo>
                  <a:lnTo>
                    <a:pt x="1001" y="797"/>
                  </a:lnTo>
                  <a:lnTo>
                    <a:pt x="999" y="715"/>
                  </a:lnTo>
                  <a:lnTo>
                    <a:pt x="990" y="636"/>
                  </a:lnTo>
                  <a:lnTo>
                    <a:pt x="978" y="559"/>
                  </a:lnTo>
                  <a:lnTo>
                    <a:pt x="961" y="487"/>
                  </a:lnTo>
                  <a:lnTo>
                    <a:pt x="940" y="416"/>
                  </a:lnTo>
                  <a:lnTo>
                    <a:pt x="915" y="352"/>
                  </a:lnTo>
                  <a:lnTo>
                    <a:pt x="886" y="289"/>
                  </a:lnTo>
                  <a:lnTo>
                    <a:pt x="853" y="233"/>
                  </a:lnTo>
                  <a:lnTo>
                    <a:pt x="818" y="181"/>
                  </a:lnTo>
                  <a:lnTo>
                    <a:pt x="780" y="135"/>
                  </a:lnTo>
                  <a:lnTo>
                    <a:pt x="739" y="96"/>
                  </a:lnTo>
                  <a:lnTo>
                    <a:pt x="695" y="62"/>
                  </a:lnTo>
                  <a:lnTo>
                    <a:pt x="649" y="35"/>
                  </a:lnTo>
                  <a:lnTo>
                    <a:pt x="601" y="17"/>
                  </a:lnTo>
                  <a:lnTo>
                    <a:pt x="551" y="4"/>
                  </a:lnTo>
                  <a:lnTo>
                    <a:pt x="499" y="0"/>
                  </a:lnTo>
                  <a:lnTo>
                    <a:pt x="447" y="4"/>
                  </a:lnTo>
                  <a:lnTo>
                    <a:pt x="400" y="17"/>
                  </a:lnTo>
                  <a:lnTo>
                    <a:pt x="350" y="35"/>
                  </a:lnTo>
                  <a:lnTo>
                    <a:pt x="304" y="62"/>
                  </a:lnTo>
                  <a:lnTo>
                    <a:pt x="260" y="96"/>
                  </a:lnTo>
                  <a:lnTo>
                    <a:pt x="221" y="135"/>
                  </a:lnTo>
                  <a:lnTo>
                    <a:pt x="181" y="181"/>
                  </a:lnTo>
                  <a:lnTo>
                    <a:pt x="146" y="233"/>
                  </a:lnTo>
                  <a:lnTo>
                    <a:pt x="115" y="289"/>
                  </a:lnTo>
                  <a:lnTo>
                    <a:pt x="86" y="352"/>
                  </a:lnTo>
                  <a:lnTo>
                    <a:pt x="61" y="416"/>
                  </a:lnTo>
                  <a:lnTo>
                    <a:pt x="40" y="487"/>
                  </a:lnTo>
                  <a:lnTo>
                    <a:pt x="23" y="559"/>
                  </a:lnTo>
                  <a:lnTo>
                    <a:pt x="11" y="636"/>
                  </a:lnTo>
                  <a:lnTo>
                    <a:pt x="2" y="715"/>
                  </a:lnTo>
                  <a:lnTo>
                    <a:pt x="0" y="797"/>
                  </a:lnTo>
                  <a:lnTo>
                    <a:pt x="2" y="878"/>
                  </a:lnTo>
                  <a:lnTo>
                    <a:pt x="11" y="957"/>
                  </a:lnTo>
                  <a:lnTo>
                    <a:pt x="23" y="1034"/>
                  </a:lnTo>
                  <a:lnTo>
                    <a:pt x="40" y="1106"/>
                  </a:lnTo>
                  <a:lnTo>
                    <a:pt x="61" y="1175"/>
                  </a:lnTo>
                  <a:lnTo>
                    <a:pt x="86" y="1242"/>
                  </a:lnTo>
                  <a:lnTo>
                    <a:pt x="115" y="1302"/>
                  </a:lnTo>
                  <a:lnTo>
                    <a:pt x="146" y="1360"/>
                  </a:lnTo>
                  <a:lnTo>
                    <a:pt x="181" y="1410"/>
                  </a:lnTo>
                  <a:lnTo>
                    <a:pt x="221" y="1456"/>
                  </a:lnTo>
                  <a:lnTo>
                    <a:pt x="260" y="1497"/>
                  </a:lnTo>
                  <a:lnTo>
                    <a:pt x="304" y="1531"/>
                  </a:lnTo>
                  <a:lnTo>
                    <a:pt x="350" y="1558"/>
                  </a:lnTo>
                  <a:lnTo>
                    <a:pt x="400" y="1576"/>
                  </a:lnTo>
                  <a:lnTo>
                    <a:pt x="447" y="1589"/>
                  </a:lnTo>
                  <a:lnTo>
                    <a:pt x="499" y="15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83240" y="3424320"/>
              <a:ext cx="254160" cy="2657160"/>
            </a:xfrm>
            <a:prstGeom prst="rect">
              <a:avLst/>
            </a:pr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665520" y="5776920"/>
              <a:ext cx="2327400" cy="601560"/>
            </a:xfrm>
            <a:custGeom>
              <a:avLst/>
              <a:gdLst/>
              <a:ahLst/>
              <a:rect l="l" t="t" r="r" b="b"/>
              <a:pathLst>
                <a:path w="1466" h="379">
                  <a:moveTo>
                    <a:pt x="1466" y="379"/>
                  </a:moveTo>
                  <a:lnTo>
                    <a:pt x="1458" y="339"/>
                  </a:lnTo>
                  <a:lnTo>
                    <a:pt x="1444" y="302"/>
                  </a:lnTo>
                  <a:lnTo>
                    <a:pt x="1423" y="266"/>
                  </a:lnTo>
                  <a:lnTo>
                    <a:pt x="1396" y="231"/>
                  </a:lnTo>
                  <a:lnTo>
                    <a:pt x="1362" y="198"/>
                  </a:lnTo>
                  <a:lnTo>
                    <a:pt x="1325" y="167"/>
                  </a:lnTo>
                  <a:lnTo>
                    <a:pt x="1283" y="137"/>
                  </a:lnTo>
                  <a:lnTo>
                    <a:pt x="1236" y="110"/>
                  </a:lnTo>
                  <a:lnTo>
                    <a:pt x="1184" y="86"/>
                  </a:lnTo>
                  <a:lnTo>
                    <a:pt x="1129" y="65"/>
                  </a:lnTo>
                  <a:lnTo>
                    <a:pt x="1069" y="46"/>
                  </a:lnTo>
                  <a:lnTo>
                    <a:pt x="1009" y="29"/>
                  </a:lnTo>
                  <a:lnTo>
                    <a:pt x="942" y="17"/>
                  </a:lnTo>
                  <a:lnTo>
                    <a:pt x="876" y="9"/>
                  </a:lnTo>
                  <a:lnTo>
                    <a:pt x="805" y="2"/>
                  </a:lnTo>
                  <a:lnTo>
                    <a:pt x="734" y="0"/>
                  </a:lnTo>
                  <a:lnTo>
                    <a:pt x="662" y="2"/>
                  </a:lnTo>
                  <a:lnTo>
                    <a:pt x="593" y="9"/>
                  </a:lnTo>
                  <a:lnTo>
                    <a:pt x="524" y="17"/>
                  </a:lnTo>
                  <a:lnTo>
                    <a:pt x="460" y="29"/>
                  </a:lnTo>
                  <a:lnTo>
                    <a:pt x="397" y="46"/>
                  </a:lnTo>
                  <a:lnTo>
                    <a:pt x="339" y="65"/>
                  </a:lnTo>
                  <a:lnTo>
                    <a:pt x="283" y="86"/>
                  </a:lnTo>
                  <a:lnTo>
                    <a:pt x="231" y="110"/>
                  </a:lnTo>
                  <a:lnTo>
                    <a:pt x="185" y="137"/>
                  </a:lnTo>
                  <a:lnTo>
                    <a:pt x="142" y="167"/>
                  </a:lnTo>
                  <a:lnTo>
                    <a:pt x="104" y="198"/>
                  </a:lnTo>
                  <a:lnTo>
                    <a:pt x="71" y="231"/>
                  </a:lnTo>
                  <a:lnTo>
                    <a:pt x="44" y="266"/>
                  </a:lnTo>
                  <a:lnTo>
                    <a:pt x="23" y="302"/>
                  </a:lnTo>
                  <a:lnTo>
                    <a:pt x="9" y="339"/>
                  </a:lnTo>
                  <a:lnTo>
                    <a:pt x="0" y="379"/>
                  </a:lnTo>
                  <a:lnTo>
                    <a:pt x="1466" y="379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59280" y="4076640"/>
              <a:ext cx="487440" cy="1177920"/>
            </a:xfrm>
            <a:custGeom>
              <a:avLst/>
              <a:gdLst/>
              <a:ahLst/>
              <a:rect l="l" t="t" r="r" b="b"/>
              <a:pathLst>
                <a:path w="307" h="742">
                  <a:moveTo>
                    <a:pt x="307" y="732"/>
                  </a:moveTo>
                  <a:lnTo>
                    <a:pt x="27" y="0"/>
                  </a:lnTo>
                  <a:lnTo>
                    <a:pt x="0" y="10"/>
                  </a:lnTo>
                  <a:lnTo>
                    <a:pt x="280" y="742"/>
                  </a:lnTo>
                  <a:lnTo>
                    <a:pt x="307" y="732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916360" y="4005360"/>
              <a:ext cx="165240" cy="1269720"/>
            </a:xfrm>
            <a:custGeom>
              <a:avLst/>
              <a:gdLst/>
              <a:ahLst/>
              <a:rect l="l" t="t" r="r" b="b"/>
              <a:pathLst>
                <a:path w="104" h="800">
                  <a:moveTo>
                    <a:pt x="75" y="0"/>
                  </a:moveTo>
                  <a:lnTo>
                    <a:pt x="0" y="798"/>
                  </a:lnTo>
                  <a:lnTo>
                    <a:pt x="30" y="800"/>
                  </a:lnTo>
                  <a:lnTo>
                    <a:pt x="104" y="2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40000" y="4076640"/>
              <a:ext cx="725400" cy="1184400"/>
            </a:xfrm>
            <a:custGeom>
              <a:avLst/>
              <a:gdLst/>
              <a:ahLst/>
              <a:rect l="l" t="t" r="r" b="b"/>
              <a:pathLst>
                <a:path w="457" h="746">
                  <a:moveTo>
                    <a:pt x="432" y="0"/>
                  </a:moveTo>
                  <a:lnTo>
                    <a:pt x="0" y="732"/>
                  </a:lnTo>
                  <a:lnTo>
                    <a:pt x="25" y="746"/>
                  </a:lnTo>
                  <a:lnTo>
                    <a:pt x="457" y="14"/>
                  </a:lnTo>
                  <a:lnTo>
                    <a:pt x="432" y="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21046200">
              <a:off x="2579400" y="3103560"/>
              <a:ext cx="4265640" cy="752400"/>
            </a:xfrm>
            <a:custGeom>
              <a:avLst/>
              <a:gdLst/>
              <a:ahLst/>
              <a:rect l="l" t="t" r="r" b="b"/>
              <a:pathLst>
                <a:path w="2687" h="474">
                  <a:moveTo>
                    <a:pt x="2672" y="0"/>
                  </a:moveTo>
                  <a:lnTo>
                    <a:pt x="2687" y="100"/>
                  </a:lnTo>
                  <a:lnTo>
                    <a:pt x="13" y="474"/>
                  </a:lnTo>
                  <a:lnTo>
                    <a:pt x="0" y="374"/>
                  </a:lnTo>
                  <a:lnTo>
                    <a:pt x="2672" y="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94320" y="2852640"/>
              <a:ext cx="455760" cy="452520"/>
            </a:xfrm>
            <a:custGeom>
              <a:avLst/>
              <a:gdLst/>
              <a:ahLst/>
              <a:rect l="l" t="t" r="r" b="b"/>
              <a:pathLst>
                <a:path w="287" h="285">
                  <a:moveTo>
                    <a:pt x="143" y="285"/>
                  </a:moveTo>
                  <a:lnTo>
                    <a:pt x="172" y="283"/>
                  </a:lnTo>
                  <a:lnTo>
                    <a:pt x="199" y="274"/>
                  </a:lnTo>
                  <a:lnTo>
                    <a:pt x="224" y="260"/>
                  </a:lnTo>
                  <a:lnTo>
                    <a:pt x="245" y="243"/>
                  </a:lnTo>
                  <a:lnTo>
                    <a:pt x="262" y="222"/>
                  </a:lnTo>
                  <a:lnTo>
                    <a:pt x="276" y="197"/>
                  </a:lnTo>
                  <a:lnTo>
                    <a:pt x="285" y="170"/>
                  </a:lnTo>
                  <a:lnTo>
                    <a:pt x="287" y="141"/>
                  </a:lnTo>
                  <a:lnTo>
                    <a:pt x="285" y="112"/>
                  </a:lnTo>
                  <a:lnTo>
                    <a:pt x="276" y="87"/>
                  </a:lnTo>
                  <a:lnTo>
                    <a:pt x="262" y="62"/>
                  </a:lnTo>
                  <a:lnTo>
                    <a:pt x="245" y="41"/>
                  </a:lnTo>
                  <a:lnTo>
                    <a:pt x="224" y="25"/>
                  </a:lnTo>
                  <a:lnTo>
                    <a:pt x="199" y="10"/>
                  </a:lnTo>
                  <a:lnTo>
                    <a:pt x="172" y="2"/>
                  </a:lnTo>
                  <a:lnTo>
                    <a:pt x="143" y="0"/>
                  </a:lnTo>
                  <a:lnTo>
                    <a:pt x="114" y="2"/>
                  </a:lnTo>
                  <a:lnTo>
                    <a:pt x="87" y="10"/>
                  </a:lnTo>
                  <a:lnTo>
                    <a:pt x="62" y="25"/>
                  </a:lnTo>
                  <a:lnTo>
                    <a:pt x="41" y="41"/>
                  </a:lnTo>
                  <a:lnTo>
                    <a:pt x="25" y="62"/>
                  </a:lnTo>
                  <a:lnTo>
                    <a:pt x="10" y="87"/>
                  </a:lnTo>
                  <a:lnTo>
                    <a:pt x="2" y="112"/>
                  </a:lnTo>
                  <a:lnTo>
                    <a:pt x="0" y="141"/>
                  </a:lnTo>
                  <a:lnTo>
                    <a:pt x="2" y="170"/>
                  </a:lnTo>
                  <a:lnTo>
                    <a:pt x="10" y="197"/>
                  </a:lnTo>
                  <a:lnTo>
                    <a:pt x="25" y="222"/>
                  </a:lnTo>
                  <a:lnTo>
                    <a:pt x="41" y="243"/>
                  </a:lnTo>
                  <a:lnTo>
                    <a:pt x="62" y="260"/>
                  </a:lnTo>
                  <a:lnTo>
                    <a:pt x="87" y="274"/>
                  </a:lnTo>
                  <a:lnTo>
                    <a:pt x="114" y="283"/>
                  </a:lnTo>
                  <a:lnTo>
                    <a:pt x="143" y="285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0360" y="3068640"/>
              <a:ext cx="501840" cy="1195200"/>
            </a:xfrm>
            <a:custGeom>
              <a:avLst/>
              <a:gdLst/>
              <a:ahLst/>
              <a:rect l="l" t="t" r="r" b="b"/>
              <a:pathLst>
                <a:path w="316" h="753">
                  <a:moveTo>
                    <a:pt x="27" y="753"/>
                  </a:moveTo>
                  <a:lnTo>
                    <a:pt x="316" y="0"/>
                  </a:lnTo>
                  <a:lnTo>
                    <a:pt x="281" y="10"/>
                  </a:lnTo>
                  <a:lnTo>
                    <a:pt x="0" y="742"/>
                  </a:lnTo>
                  <a:lnTo>
                    <a:pt x="27" y="753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372360" y="3068640"/>
              <a:ext cx="168120" cy="1271520"/>
            </a:xfrm>
            <a:custGeom>
              <a:avLst/>
              <a:gdLst/>
              <a:ahLst/>
              <a:rect l="l" t="t" r="r" b="b"/>
              <a:pathLst>
                <a:path w="106" h="801">
                  <a:moveTo>
                    <a:pt x="0" y="2"/>
                  </a:moveTo>
                  <a:lnTo>
                    <a:pt x="77" y="801"/>
                  </a:lnTo>
                  <a:lnTo>
                    <a:pt x="106" y="799"/>
                  </a:lnTo>
                  <a:lnTo>
                    <a:pt x="29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72360" y="3068640"/>
              <a:ext cx="772920" cy="1265040"/>
            </a:xfrm>
            <a:custGeom>
              <a:avLst/>
              <a:gdLst/>
              <a:ahLst/>
              <a:rect l="l" t="t" r="r" b="b"/>
              <a:pathLst>
                <a:path w="487" h="797">
                  <a:moveTo>
                    <a:pt x="0" y="15"/>
                  </a:moveTo>
                  <a:lnTo>
                    <a:pt x="462" y="797"/>
                  </a:lnTo>
                  <a:lnTo>
                    <a:pt x="487" y="782"/>
                  </a:lnTo>
                  <a:lnTo>
                    <a:pt x="25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1280" y="5229000"/>
              <a:ext cx="1679400" cy="865440"/>
            </a:xfrm>
            <a:custGeom>
              <a:avLst/>
              <a:gdLst/>
              <a:ahLst/>
              <a:rect l="l" t="t" r="r" b="b"/>
              <a:pathLst>
                <a:path w="1058" h="545">
                  <a:moveTo>
                    <a:pt x="0" y="0"/>
                  </a:moveTo>
                  <a:lnTo>
                    <a:pt x="0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" y="68"/>
                  </a:lnTo>
                  <a:lnTo>
                    <a:pt x="10" y="120"/>
                  </a:lnTo>
                  <a:lnTo>
                    <a:pt x="23" y="172"/>
                  </a:lnTo>
                  <a:lnTo>
                    <a:pt x="41" y="220"/>
                  </a:lnTo>
                  <a:lnTo>
                    <a:pt x="64" y="268"/>
                  </a:lnTo>
                  <a:lnTo>
                    <a:pt x="91" y="312"/>
                  </a:lnTo>
                  <a:lnTo>
                    <a:pt x="120" y="351"/>
                  </a:lnTo>
                  <a:lnTo>
                    <a:pt x="156" y="389"/>
                  </a:lnTo>
                  <a:lnTo>
                    <a:pt x="193" y="424"/>
                  </a:lnTo>
                  <a:lnTo>
                    <a:pt x="233" y="453"/>
                  </a:lnTo>
                  <a:lnTo>
                    <a:pt x="276" y="480"/>
                  </a:lnTo>
                  <a:lnTo>
                    <a:pt x="324" y="503"/>
                  </a:lnTo>
                  <a:lnTo>
                    <a:pt x="372" y="522"/>
                  </a:lnTo>
                  <a:lnTo>
                    <a:pt x="424" y="534"/>
                  </a:lnTo>
                  <a:lnTo>
                    <a:pt x="476" y="543"/>
                  </a:lnTo>
                  <a:lnTo>
                    <a:pt x="530" y="545"/>
                  </a:lnTo>
                  <a:lnTo>
                    <a:pt x="584" y="543"/>
                  </a:lnTo>
                  <a:lnTo>
                    <a:pt x="636" y="534"/>
                  </a:lnTo>
                  <a:lnTo>
                    <a:pt x="686" y="522"/>
                  </a:lnTo>
                  <a:lnTo>
                    <a:pt x="736" y="503"/>
                  </a:lnTo>
                  <a:lnTo>
                    <a:pt x="782" y="480"/>
                  </a:lnTo>
                  <a:lnTo>
                    <a:pt x="825" y="453"/>
                  </a:lnTo>
                  <a:lnTo>
                    <a:pt x="865" y="424"/>
                  </a:lnTo>
                  <a:lnTo>
                    <a:pt x="904" y="389"/>
                  </a:lnTo>
                  <a:lnTo>
                    <a:pt x="938" y="351"/>
                  </a:lnTo>
                  <a:lnTo>
                    <a:pt x="969" y="312"/>
                  </a:lnTo>
                  <a:lnTo>
                    <a:pt x="994" y="268"/>
                  </a:lnTo>
                  <a:lnTo>
                    <a:pt x="1017" y="220"/>
                  </a:lnTo>
                  <a:lnTo>
                    <a:pt x="1035" y="172"/>
                  </a:lnTo>
                  <a:lnTo>
                    <a:pt x="1048" y="120"/>
                  </a:lnTo>
                  <a:lnTo>
                    <a:pt x="1056" y="68"/>
                  </a:lnTo>
                  <a:lnTo>
                    <a:pt x="1058" y="14"/>
                  </a:lnTo>
                  <a:lnTo>
                    <a:pt x="1058" y="10"/>
                  </a:lnTo>
                  <a:lnTo>
                    <a:pt x="1058" y="6"/>
                  </a:lnTo>
                  <a:lnTo>
                    <a:pt x="1058" y="4"/>
                  </a:lnTo>
                  <a:lnTo>
                    <a:pt x="10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24720" y="4292640"/>
              <a:ext cx="1687320" cy="863640"/>
            </a:xfrm>
            <a:custGeom>
              <a:avLst/>
              <a:gdLst/>
              <a:ahLst/>
              <a:rect l="l" t="t" r="r" b="b"/>
              <a:pathLst>
                <a:path w="1063" h="544">
                  <a:moveTo>
                    <a:pt x="2" y="0"/>
                  </a:moveTo>
                  <a:lnTo>
                    <a:pt x="2" y="4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" y="68"/>
                  </a:lnTo>
                  <a:lnTo>
                    <a:pt x="11" y="120"/>
                  </a:lnTo>
                  <a:lnTo>
                    <a:pt x="25" y="172"/>
                  </a:lnTo>
                  <a:lnTo>
                    <a:pt x="42" y="220"/>
                  </a:lnTo>
                  <a:lnTo>
                    <a:pt x="65" y="268"/>
                  </a:lnTo>
                  <a:lnTo>
                    <a:pt x="92" y="311"/>
                  </a:lnTo>
                  <a:lnTo>
                    <a:pt x="123" y="351"/>
                  </a:lnTo>
                  <a:lnTo>
                    <a:pt x="156" y="388"/>
                  </a:lnTo>
                  <a:lnTo>
                    <a:pt x="194" y="424"/>
                  </a:lnTo>
                  <a:lnTo>
                    <a:pt x="235" y="453"/>
                  </a:lnTo>
                  <a:lnTo>
                    <a:pt x="279" y="480"/>
                  </a:lnTo>
                  <a:lnTo>
                    <a:pt x="327" y="503"/>
                  </a:lnTo>
                  <a:lnTo>
                    <a:pt x="375" y="522"/>
                  </a:lnTo>
                  <a:lnTo>
                    <a:pt x="427" y="534"/>
                  </a:lnTo>
                  <a:lnTo>
                    <a:pt x="479" y="542"/>
                  </a:lnTo>
                  <a:lnTo>
                    <a:pt x="533" y="544"/>
                  </a:lnTo>
                  <a:lnTo>
                    <a:pt x="587" y="542"/>
                  </a:lnTo>
                  <a:lnTo>
                    <a:pt x="639" y="534"/>
                  </a:lnTo>
                  <a:lnTo>
                    <a:pt x="691" y="522"/>
                  </a:lnTo>
                  <a:lnTo>
                    <a:pt x="739" y="503"/>
                  </a:lnTo>
                  <a:lnTo>
                    <a:pt x="786" y="480"/>
                  </a:lnTo>
                  <a:lnTo>
                    <a:pt x="830" y="453"/>
                  </a:lnTo>
                  <a:lnTo>
                    <a:pt x="870" y="424"/>
                  </a:lnTo>
                  <a:lnTo>
                    <a:pt x="907" y="388"/>
                  </a:lnTo>
                  <a:lnTo>
                    <a:pt x="942" y="351"/>
                  </a:lnTo>
                  <a:lnTo>
                    <a:pt x="972" y="311"/>
                  </a:lnTo>
                  <a:lnTo>
                    <a:pt x="999" y="268"/>
                  </a:lnTo>
                  <a:lnTo>
                    <a:pt x="1021" y="220"/>
                  </a:lnTo>
                  <a:lnTo>
                    <a:pt x="1040" y="172"/>
                  </a:lnTo>
                  <a:lnTo>
                    <a:pt x="1053" y="120"/>
                  </a:lnTo>
                  <a:lnTo>
                    <a:pt x="1061" y="68"/>
                  </a:lnTo>
                  <a:lnTo>
                    <a:pt x="1063" y="14"/>
                  </a:lnTo>
                  <a:lnTo>
                    <a:pt x="1063" y="10"/>
                  </a:lnTo>
                  <a:lnTo>
                    <a:pt x="1063" y="8"/>
                  </a:lnTo>
                  <a:lnTo>
                    <a:pt x="1063" y="4"/>
                  </a:lnTo>
                  <a:lnTo>
                    <a:pt x="106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32320" y="5968800"/>
              <a:ext cx="1131840" cy="79560"/>
            </a:xfrm>
            <a:custGeom>
              <a:avLst/>
              <a:gdLst/>
              <a:ahLst/>
              <a:rect l="l" t="t" r="r" b="b"/>
              <a:pathLst>
                <a:path w="713" h="50">
                  <a:moveTo>
                    <a:pt x="713" y="50"/>
                  </a:moveTo>
                  <a:lnTo>
                    <a:pt x="703" y="44"/>
                  </a:lnTo>
                  <a:lnTo>
                    <a:pt x="690" y="37"/>
                  </a:lnTo>
                  <a:lnTo>
                    <a:pt x="680" y="31"/>
                  </a:lnTo>
                  <a:lnTo>
                    <a:pt x="667" y="25"/>
                  </a:lnTo>
                  <a:lnTo>
                    <a:pt x="657" y="19"/>
                  </a:lnTo>
                  <a:lnTo>
                    <a:pt x="644" y="12"/>
                  </a:lnTo>
                  <a:lnTo>
                    <a:pt x="632" y="6"/>
                  </a:lnTo>
                  <a:lnTo>
                    <a:pt x="619" y="0"/>
                  </a:lnTo>
                  <a:lnTo>
                    <a:pt x="0" y="27"/>
                  </a:lnTo>
                  <a:lnTo>
                    <a:pt x="713" y="50"/>
                  </a:lnTo>
                  <a:close/>
                </a:path>
              </a:pathLst>
            </a:custGeom>
            <a:solidFill>
              <a:srgbClr val="282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40320" y="6146640"/>
              <a:ext cx="1222560" cy="88920"/>
            </a:xfrm>
            <a:custGeom>
              <a:avLst/>
              <a:gdLst/>
              <a:ahLst/>
              <a:rect l="l" t="t" r="r" b="b"/>
              <a:pathLst>
                <a:path w="770" h="56">
                  <a:moveTo>
                    <a:pt x="770" y="56"/>
                  </a:moveTo>
                  <a:lnTo>
                    <a:pt x="759" y="42"/>
                  </a:lnTo>
                  <a:lnTo>
                    <a:pt x="749" y="27"/>
                  </a:lnTo>
                  <a:lnTo>
                    <a:pt x="737" y="13"/>
                  </a:lnTo>
                  <a:lnTo>
                    <a:pt x="722" y="0"/>
                  </a:lnTo>
                  <a:lnTo>
                    <a:pt x="0" y="29"/>
                  </a:lnTo>
                  <a:lnTo>
                    <a:pt x="770" y="56"/>
                  </a:lnTo>
                  <a:close/>
                </a:path>
              </a:pathLst>
            </a:custGeom>
            <a:solidFill>
              <a:srgbClr val="282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340000" y="50133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IÑ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24360" y="393372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24360" y="40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SCUEL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SCUELA INCLUSIV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690560" y="1638000"/>
            <a:ext cx="6018120" cy="4919760"/>
            <a:chOff x="1690560" y="1638000"/>
            <a:chExt cx="6018120" cy="4919760"/>
          </a:xfrm>
        </p:grpSpPr>
        <p:sp>
          <p:nvSpPr>
            <p:cNvPr id="160" name=""/>
            <p:cNvSpPr/>
            <p:nvPr/>
          </p:nvSpPr>
          <p:spPr>
            <a:xfrm>
              <a:off x="1690560" y="1638000"/>
              <a:ext cx="6018120" cy="4919760"/>
            </a:xfrm>
            <a:custGeom>
              <a:avLst/>
              <a:gdLst/>
              <a:ahLst/>
              <a:rect l="l" t="t" r="r" b="b"/>
              <a:pathLst>
                <a:path w="3791" h="3099">
                  <a:moveTo>
                    <a:pt x="3791" y="437"/>
                  </a:moveTo>
                  <a:lnTo>
                    <a:pt x="3745" y="3099"/>
                  </a:lnTo>
                  <a:lnTo>
                    <a:pt x="0" y="2785"/>
                  </a:lnTo>
                  <a:lnTo>
                    <a:pt x="462" y="0"/>
                  </a:lnTo>
                  <a:lnTo>
                    <a:pt x="3791" y="437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20880" y="2163600"/>
              <a:ext cx="2482920" cy="3951360"/>
            </a:xfrm>
            <a:custGeom>
              <a:avLst/>
              <a:gdLst/>
              <a:ahLst/>
              <a:rect l="l" t="t" r="r" b="b"/>
              <a:pathLst>
                <a:path w="1564" h="2489">
                  <a:moveTo>
                    <a:pt x="782" y="2489"/>
                  </a:moveTo>
                  <a:lnTo>
                    <a:pt x="864" y="2483"/>
                  </a:lnTo>
                  <a:lnTo>
                    <a:pt x="940" y="2464"/>
                  </a:lnTo>
                  <a:lnTo>
                    <a:pt x="1015" y="2433"/>
                  </a:lnTo>
                  <a:lnTo>
                    <a:pt x="1088" y="2391"/>
                  </a:lnTo>
                  <a:lnTo>
                    <a:pt x="1155" y="2339"/>
                  </a:lnTo>
                  <a:lnTo>
                    <a:pt x="1219" y="2277"/>
                  </a:lnTo>
                  <a:lnTo>
                    <a:pt x="1279" y="2204"/>
                  </a:lnTo>
                  <a:lnTo>
                    <a:pt x="1336" y="2125"/>
                  </a:lnTo>
                  <a:lnTo>
                    <a:pt x="1386" y="2036"/>
                  </a:lnTo>
                  <a:lnTo>
                    <a:pt x="1431" y="1940"/>
                  </a:lnTo>
                  <a:lnTo>
                    <a:pt x="1471" y="1838"/>
                  </a:lnTo>
                  <a:lnTo>
                    <a:pt x="1504" y="1730"/>
                  </a:lnTo>
                  <a:lnTo>
                    <a:pt x="1529" y="1616"/>
                  </a:lnTo>
                  <a:lnTo>
                    <a:pt x="1548" y="1495"/>
                  </a:lnTo>
                  <a:lnTo>
                    <a:pt x="1560" y="1372"/>
                  </a:lnTo>
                  <a:lnTo>
                    <a:pt x="1564" y="1246"/>
                  </a:lnTo>
                  <a:lnTo>
                    <a:pt x="1560" y="1119"/>
                  </a:lnTo>
                  <a:lnTo>
                    <a:pt x="1548" y="994"/>
                  </a:lnTo>
                  <a:lnTo>
                    <a:pt x="1529" y="875"/>
                  </a:lnTo>
                  <a:lnTo>
                    <a:pt x="1504" y="761"/>
                  </a:lnTo>
                  <a:lnTo>
                    <a:pt x="1471" y="651"/>
                  </a:lnTo>
                  <a:lnTo>
                    <a:pt x="1431" y="549"/>
                  </a:lnTo>
                  <a:lnTo>
                    <a:pt x="1386" y="453"/>
                  </a:lnTo>
                  <a:lnTo>
                    <a:pt x="1336" y="364"/>
                  </a:lnTo>
                  <a:lnTo>
                    <a:pt x="1279" y="285"/>
                  </a:lnTo>
                  <a:lnTo>
                    <a:pt x="1219" y="212"/>
                  </a:lnTo>
                  <a:lnTo>
                    <a:pt x="1155" y="150"/>
                  </a:lnTo>
                  <a:lnTo>
                    <a:pt x="1088" y="98"/>
                  </a:lnTo>
                  <a:lnTo>
                    <a:pt x="1015" y="56"/>
                  </a:lnTo>
                  <a:lnTo>
                    <a:pt x="940" y="25"/>
                  </a:lnTo>
                  <a:lnTo>
                    <a:pt x="864" y="6"/>
                  </a:lnTo>
                  <a:lnTo>
                    <a:pt x="782" y="0"/>
                  </a:lnTo>
                  <a:lnTo>
                    <a:pt x="703" y="6"/>
                  </a:lnTo>
                  <a:lnTo>
                    <a:pt x="624" y="25"/>
                  </a:lnTo>
                  <a:lnTo>
                    <a:pt x="550" y="56"/>
                  </a:lnTo>
                  <a:lnTo>
                    <a:pt x="479" y="98"/>
                  </a:lnTo>
                  <a:lnTo>
                    <a:pt x="410" y="150"/>
                  </a:lnTo>
                  <a:lnTo>
                    <a:pt x="346" y="212"/>
                  </a:lnTo>
                  <a:lnTo>
                    <a:pt x="285" y="285"/>
                  </a:lnTo>
                  <a:lnTo>
                    <a:pt x="229" y="364"/>
                  </a:lnTo>
                  <a:lnTo>
                    <a:pt x="179" y="453"/>
                  </a:lnTo>
                  <a:lnTo>
                    <a:pt x="134" y="549"/>
                  </a:lnTo>
                  <a:lnTo>
                    <a:pt x="96" y="651"/>
                  </a:lnTo>
                  <a:lnTo>
                    <a:pt x="63" y="761"/>
                  </a:lnTo>
                  <a:lnTo>
                    <a:pt x="36" y="875"/>
                  </a:lnTo>
                  <a:lnTo>
                    <a:pt x="17" y="994"/>
                  </a:lnTo>
                  <a:lnTo>
                    <a:pt x="5" y="1119"/>
                  </a:lnTo>
                  <a:lnTo>
                    <a:pt x="0" y="1246"/>
                  </a:lnTo>
                  <a:lnTo>
                    <a:pt x="5" y="1372"/>
                  </a:lnTo>
                  <a:lnTo>
                    <a:pt x="17" y="1495"/>
                  </a:lnTo>
                  <a:lnTo>
                    <a:pt x="36" y="1616"/>
                  </a:lnTo>
                  <a:lnTo>
                    <a:pt x="63" y="1730"/>
                  </a:lnTo>
                  <a:lnTo>
                    <a:pt x="96" y="1838"/>
                  </a:lnTo>
                  <a:lnTo>
                    <a:pt x="134" y="1940"/>
                  </a:lnTo>
                  <a:lnTo>
                    <a:pt x="179" y="2036"/>
                  </a:lnTo>
                  <a:lnTo>
                    <a:pt x="229" y="2125"/>
                  </a:lnTo>
                  <a:lnTo>
                    <a:pt x="285" y="2204"/>
                  </a:lnTo>
                  <a:lnTo>
                    <a:pt x="346" y="2277"/>
                  </a:lnTo>
                  <a:lnTo>
                    <a:pt x="410" y="2339"/>
                  </a:lnTo>
                  <a:lnTo>
                    <a:pt x="479" y="2391"/>
                  </a:lnTo>
                  <a:lnTo>
                    <a:pt x="550" y="2433"/>
                  </a:lnTo>
                  <a:lnTo>
                    <a:pt x="624" y="2464"/>
                  </a:lnTo>
                  <a:lnTo>
                    <a:pt x="703" y="2483"/>
                  </a:lnTo>
                  <a:lnTo>
                    <a:pt x="782" y="2489"/>
                  </a:lnTo>
                  <a:close/>
                </a:path>
              </a:pathLst>
            </a:custGeom>
            <a:solidFill>
              <a:srgbClr val="b2d1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35280" y="2201760"/>
              <a:ext cx="2427120" cy="3862080"/>
            </a:xfrm>
            <a:custGeom>
              <a:avLst/>
              <a:gdLst/>
              <a:ahLst/>
              <a:rect l="l" t="t" r="r" b="b"/>
              <a:pathLst>
                <a:path w="1529" h="2433">
                  <a:moveTo>
                    <a:pt x="763" y="2433"/>
                  </a:moveTo>
                  <a:lnTo>
                    <a:pt x="842" y="2427"/>
                  </a:lnTo>
                  <a:lnTo>
                    <a:pt x="917" y="2408"/>
                  </a:lnTo>
                  <a:lnTo>
                    <a:pt x="990" y="2379"/>
                  </a:lnTo>
                  <a:lnTo>
                    <a:pt x="1061" y="2337"/>
                  </a:lnTo>
                  <a:lnTo>
                    <a:pt x="1127" y="2285"/>
                  </a:lnTo>
                  <a:lnTo>
                    <a:pt x="1192" y="2225"/>
                  </a:lnTo>
                  <a:lnTo>
                    <a:pt x="1250" y="2154"/>
                  </a:lnTo>
                  <a:lnTo>
                    <a:pt x="1304" y="2077"/>
                  </a:lnTo>
                  <a:lnTo>
                    <a:pt x="1354" y="1990"/>
                  </a:lnTo>
                  <a:lnTo>
                    <a:pt x="1398" y="1897"/>
                  </a:lnTo>
                  <a:lnTo>
                    <a:pt x="1437" y="1797"/>
                  </a:lnTo>
                  <a:lnTo>
                    <a:pt x="1468" y="1691"/>
                  </a:lnTo>
                  <a:lnTo>
                    <a:pt x="1493" y="1578"/>
                  </a:lnTo>
                  <a:lnTo>
                    <a:pt x="1514" y="1462"/>
                  </a:lnTo>
                  <a:lnTo>
                    <a:pt x="1525" y="1341"/>
                  </a:lnTo>
                  <a:lnTo>
                    <a:pt x="1529" y="1217"/>
                  </a:lnTo>
                  <a:lnTo>
                    <a:pt x="1525" y="1092"/>
                  </a:lnTo>
                  <a:lnTo>
                    <a:pt x="1514" y="971"/>
                  </a:lnTo>
                  <a:lnTo>
                    <a:pt x="1493" y="855"/>
                  </a:lnTo>
                  <a:lnTo>
                    <a:pt x="1468" y="742"/>
                  </a:lnTo>
                  <a:lnTo>
                    <a:pt x="1437" y="636"/>
                  </a:lnTo>
                  <a:lnTo>
                    <a:pt x="1398" y="537"/>
                  </a:lnTo>
                  <a:lnTo>
                    <a:pt x="1354" y="443"/>
                  </a:lnTo>
                  <a:lnTo>
                    <a:pt x="1304" y="356"/>
                  </a:lnTo>
                  <a:lnTo>
                    <a:pt x="1250" y="277"/>
                  </a:lnTo>
                  <a:lnTo>
                    <a:pt x="1192" y="208"/>
                  </a:lnTo>
                  <a:lnTo>
                    <a:pt x="1127" y="146"/>
                  </a:lnTo>
                  <a:lnTo>
                    <a:pt x="1061" y="96"/>
                  </a:lnTo>
                  <a:lnTo>
                    <a:pt x="990" y="54"/>
                  </a:lnTo>
                  <a:lnTo>
                    <a:pt x="917" y="25"/>
                  </a:lnTo>
                  <a:lnTo>
                    <a:pt x="842" y="6"/>
                  </a:lnTo>
                  <a:lnTo>
                    <a:pt x="763" y="0"/>
                  </a:lnTo>
                  <a:lnTo>
                    <a:pt x="684" y="6"/>
                  </a:lnTo>
                  <a:lnTo>
                    <a:pt x="610" y="25"/>
                  </a:lnTo>
                  <a:lnTo>
                    <a:pt x="537" y="54"/>
                  </a:lnTo>
                  <a:lnTo>
                    <a:pt x="466" y="96"/>
                  </a:lnTo>
                  <a:lnTo>
                    <a:pt x="399" y="146"/>
                  </a:lnTo>
                  <a:lnTo>
                    <a:pt x="337" y="208"/>
                  </a:lnTo>
                  <a:lnTo>
                    <a:pt x="277" y="277"/>
                  </a:lnTo>
                  <a:lnTo>
                    <a:pt x="223" y="356"/>
                  </a:lnTo>
                  <a:lnTo>
                    <a:pt x="175" y="443"/>
                  </a:lnTo>
                  <a:lnTo>
                    <a:pt x="131" y="537"/>
                  </a:lnTo>
                  <a:lnTo>
                    <a:pt x="92" y="636"/>
                  </a:lnTo>
                  <a:lnTo>
                    <a:pt x="61" y="742"/>
                  </a:lnTo>
                  <a:lnTo>
                    <a:pt x="33" y="855"/>
                  </a:lnTo>
                  <a:lnTo>
                    <a:pt x="15" y="971"/>
                  </a:lnTo>
                  <a:lnTo>
                    <a:pt x="4" y="1092"/>
                  </a:lnTo>
                  <a:lnTo>
                    <a:pt x="0" y="1217"/>
                  </a:lnTo>
                  <a:lnTo>
                    <a:pt x="4" y="1341"/>
                  </a:lnTo>
                  <a:lnTo>
                    <a:pt x="15" y="1462"/>
                  </a:lnTo>
                  <a:lnTo>
                    <a:pt x="33" y="1578"/>
                  </a:lnTo>
                  <a:lnTo>
                    <a:pt x="61" y="1691"/>
                  </a:lnTo>
                  <a:lnTo>
                    <a:pt x="92" y="1797"/>
                  </a:lnTo>
                  <a:lnTo>
                    <a:pt x="131" y="1897"/>
                  </a:lnTo>
                  <a:lnTo>
                    <a:pt x="175" y="1990"/>
                  </a:lnTo>
                  <a:lnTo>
                    <a:pt x="223" y="2077"/>
                  </a:lnTo>
                  <a:lnTo>
                    <a:pt x="277" y="2154"/>
                  </a:lnTo>
                  <a:lnTo>
                    <a:pt x="337" y="2225"/>
                  </a:lnTo>
                  <a:lnTo>
                    <a:pt x="399" y="2285"/>
                  </a:lnTo>
                  <a:lnTo>
                    <a:pt x="466" y="2337"/>
                  </a:lnTo>
                  <a:lnTo>
                    <a:pt x="537" y="2379"/>
                  </a:lnTo>
                  <a:lnTo>
                    <a:pt x="610" y="2408"/>
                  </a:lnTo>
                  <a:lnTo>
                    <a:pt x="684" y="2427"/>
                  </a:lnTo>
                  <a:lnTo>
                    <a:pt x="763" y="2433"/>
                  </a:lnTo>
                  <a:close/>
                </a:path>
              </a:pathLst>
            </a:custGeom>
            <a:solidFill>
              <a:srgbClr val="b5d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78120" y="2252520"/>
              <a:ext cx="2370240" cy="3773520"/>
            </a:xfrm>
            <a:custGeom>
              <a:avLst/>
              <a:gdLst/>
              <a:ahLst/>
              <a:rect l="l" t="t" r="r" b="b"/>
              <a:pathLst>
                <a:path w="1493" h="2377">
                  <a:moveTo>
                    <a:pt x="746" y="2377"/>
                  </a:moveTo>
                  <a:lnTo>
                    <a:pt x="823" y="2371"/>
                  </a:lnTo>
                  <a:lnTo>
                    <a:pt x="898" y="2352"/>
                  </a:lnTo>
                  <a:lnTo>
                    <a:pt x="969" y="2323"/>
                  </a:lnTo>
                  <a:lnTo>
                    <a:pt x="1038" y="2283"/>
                  </a:lnTo>
                  <a:lnTo>
                    <a:pt x="1102" y="2233"/>
                  </a:lnTo>
                  <a:lnTo>
                    <a:pt x="1164" y="2173"/>
                  </a:lnTo>
                  <a:lnTo>
                    <a:pt x="1223" y="2105"/>
                  </a:lnTo>
                  <a:lnTo>
                    <a:pt x="1275" y="2030"/>
                  </a:lnTo>
                  <a:lnTo>
                    <a:pt x="1322" y="1944"/>
                  </a:lnTo>
                  <a:lnTo>
                    <a:pt x="1366" y="1853"/>
                  </a:lnTo>
                  <a:lnTo>
                    <a:pt x="1404" y="1755"/>
                  </a:lnTo>
                  <a:lnTo>
                    <a:pt x="1435" y="1651"/>
                  </a:lnTo>
                  <a:lnTo>
                    <a:pt x="1460" y="1543"/>
                  </a:lnTo>
                  <a:lnTo>
                    <a:pt x="1478" y="1429"/>
                  </a:lnTo>
                  <a:lnTo>
                    <a:pt x="1489" y="1310"/>
                  </a:lnTo>
                  <a:lnTo>
                    <a:pt x="1493" y="1190"/>
                  </a:lnTo>
                  <a:lnTo>
                    <a:pt x="1489" y="1069"/>
                  </a:lnTo>
                  <a:lnTo>
                    <a:pt x="1478" y="950"/>
                  </a:lnTo>
                  <a:lnTo>
                    <a:pt x="1460" y="836"/>
                  </a:lnTo>
                  <a:lnTo>
                    <a:pt x="1435" y="726"/>
                  </a:lnTo>
                  <a:lnTo>
                    <a:pt x="1404" y="622"/>
                  </a:lnTo>
                  <a:lnTo>
                    <a:pt x="1366" y="524"/>
                  </a:lnTo>
                  <a:lnTo>
                    <a:pt x="1322" y="433"/>
                  </a:lnTo>
                  <a:lnTo>
                    <a:pt x="1275" y="347"/>
                  </a:lnTo>
                  <a:lnTo>
                    <a:pt x="1223" y="272"/>
                  </a:lnTo>
                  <a:lnTo>
                    <a:pt x="1164" y="204"/>
                  </a:lnTo>
                  <a:lnTo>
                    <a:pt x="1102" y="144"/>
                  </a:lnTo>
                  <a:lnTo>
                    <a:pt x="1038" y="94"/>
                  </a:lnTo>
                  <a:lnTo>
                    <a:pt x="969" y="54"/>
                  </a:lnTo>
                  <a:lnTo>
                    <a:pt x="898" y="25"/>
                  </a:lnTo>
                  <a:lnTo>
                    <a:pt x="823" y="6"/>
                  </a:lnTo>
                  <a:lnTo>
                    <a:pt x="746" y="0"/>
                  </a:lnTo>
                  <a:lnTo>
                    <a:pt x="669" y="6"/>
                  </a:lnTo>
                  <a:lnTo>
                    <a:pt x="597" y="25"/>
                  </a:lnTo>
                  <a:lnTo>
                    <a:pt x="524" y="54"/>
                  </a:lnTo>
                  <a:lnTo>
                    <a:pt x="455" y="94"/>
                  </a:lnTo>
                  <a:lnTo>
                    <a:pt x="391" y="144"/>
                  </a:lnTo>
                  <a:lnTo>
                    <a:pt x="328" y="204"/>
                  </a:lnTo>
                  <a:lnTo>
                    <a:pt x="272" y="272"/>
                  </a:lnTo>
                  <a:lnTo>
                    <a:pt x="218" y="347"/>
                  </a:lnTo>
                  <a:lnTo>
                    <a:pt x="170" y="433"/>
                  </a:lnTo>
                  <a:lnTo>
                    <a:pt x="127" y="524"/>
                  </a:lnTo>
                  <a:lnTo>
                    <a:pt x="89" y="622"/>
                  </a:lnTo>
                  <a:lnTo>
                    <a:pt x="58" y="726"/>
                  </a:lnTo>
                  <a:lnTo>
                    <a:pt x="33" y="836"/>
                  </a:lnTo>
                  <a:lnTo>
                    <a:pt x="14" y="950"/>
                  </a:lnTo>
                  <a:lnTo>
                    <a:pt x="4" y="1069"/>
                  </a:lnTo>
                  <a:lnTo>
                    <a:pt x="0" y="1190"/>
                  </a:lnTo>
                  <a:lnTo>
                    <a:pt x="4" y="1310"/>
                  </a:lnTo>
                  <a:lnTo>
                    <a:pt x="14" y="1429"/>
                  </a:lnTo>
                  <a:lnTo>
                    <a:pt x="33" y="1543"/>
                  </a:lnTo>
                  <a:lnTo>
                    <a:pt x="58" y="1651"/>
                  </a:lnTo>
                  <a:lnTo>
                    <a:pt x="89" y="1755"/>
                  </a:lnTo>
                  <a:lnTo>
                    <a:pt x="127" y="1853"/>
                  </a:lnTo>
                  <a:lnTo>
                    <a:pt x="170" y="1944"/>
                  </a:lnTo>
                  <a:lnTo>
                    <a:pt x="218" y="2030"/>
                  </a:lnTo>
                  <a:lnTo>
                    <a:pt x="272" y="2105"/>
                  </a:lnTo>
                  <a:lnTo>
                    <a:pt x="328" y="2173"/>
                  </a:lnTo>
                  <a:lnTo>
                    <a:pt x="391" y="2233"/>
                  </a:lnTo>
                  <a:lnTo>
                    <a:pt x="455" y="2283"/>
                  </a:lnTo>
                  <a:lnTo>
                    <a:pt x="524" y="2323"/>
                  </a:lnTo>
                  <a:lnTo>
                    <a:pt x="597" y="2352"/>
                  </a:lnTo>
                  <a:lnTo>
                    <a:pt x="669" y="2371"/>
                  </a:lnTo>
                  <a:lnTo>
                    <a:pt x="746" y="2377"/>
                  </a:lnTo>
                  <a:close/>
                </a:path>
              </a:pathLst>
            </a:custGeom>
            <a:solidFill>
              <a:srgbClr val="bcd8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08360" y="2298600"/>
              <a:ext cx="2313000" cy="3684240"/>
            </a:xfrm>
            <a:custGeom>
              <a:avLst/>
              <a:gdLst/>
              <a:ahLst/>
              <a:rect l="l" t="t" r="r" b="b"/>
              <a:pathLst>
                <a:path w="1457" h="2321">
                  <a:moveTo>
                    <a:pt x="727" y="2321"/>
                  </a:moveTo>
                  <a:lnTo>
                    <a:pt x="802" y="2315"/>
                  </a:lnTo>
                  <a:lnTo>
                    <a:pt x="875" y="2298"/>
                  </a:lnTo>
                  <a:lnTo>
                    <a:pt x="944" y="2269"/>
                  </a:lnTo>
                  <a:lnTo>
                    <a:pt x="1012" y="2229"/>
                  </a:lnTo>
                  <a:lnTo>
                    <a:pt x="1075" y="2182"/>
                  </a:lnTo>
                  <a:lnTo>
                    <a:pt x="1135" y="2123"/>
                  </a:lnTo>
                  <a:lnTo>
                    <a:pt x="1191" y="2057"/>
                  </a:lnTo>
                  <a:lnTo>
                    <a:pt x="1243" y="1980"/>
                  </a:lnTo>
                  <a:lnTo>
                    <a:pt x="1291" y="1899"/>
                  </a:lnTo>
                  <a:lnTo>
                    <a:pt x="1333" y="1809"/>
                  </a:lnTo>
                  <a:lnTo>
                    <a:pt x="1370" y="1714"/>
                  </a:lnTo>
                  <a:lnTo>
                    <a:pt x="1399" y="1612"/>
                  </a:lnTo>
                  <a:lnTo>
                    <a:pt x="1424" y="1506"/>
                  </a:lnTo>
                  <a:lnTo>
                    <a:pt x="1443" y="1393"/>
                  </a:lnTo>
                  <a:lnTo>
                    <a:pt x="1453" y="1279"/>
                  </a:lnTo>
                  <a:lnTo>
                    <a:pt x="1457" y="1161"/>
                  </a:lnTo>
                  <a:lnTo>
                    <a:pt x="1453" y="1042"/>
                  </a:lnTo>
                  <a:lnTo>
                    <a:pt x="1443" y="926"/>
                  </a:lnTo>
                  <a:lnTo>
                    <a:pt x="1424" y="815"/>
                  </a:lnTo>
                  <a:lnTo>
                    <a:pt x="1399" y="707"/>
                  </a:lnTo>
                  <a:lnTo>
                    <a:pt x="1370" y="607"/>
                  </a:lnTo>
                  <a:lnTo>
                    <a:pt x="1333" y="512"/>
                  </a:lnTo>
                  <a:lnTo>
                    <a:pt x="1291" y="422"/>
                  </a:lnTo>
                  <a:lnTo>
                    <a:pt x="1243" y="339"/>
                  </a:lnTo>
                  <a:lnTo>
                    <a:pt x="1191" y="264"/>
                  </a:lnTo>
                  <a:lnTo>
                    <a:pt x="1135" y="198"/>
                  </a:lnTo>
                  <a:lnTo>
                    <a:pt x="1075" y="139"/>
                  </a:lnTo>
                  <a:lnTo>
                    <a:pt x="1012" y="92"/>
                  </a:lnTo>
                  <a:lnTo>
                    <a:pt x="944" y="52"/>
                  </a:lnTo>
                  <a:lnTo>
                    <a:pt x="875" y="23"/>
                  </a:lnTo>
                  <a:lnTo>
                    <a:pt x="802" y="6"/>
                  </a:lnTo>
                  <a:lnTo>
                    <a:pt x="727" y="0"/>
                  </a:lnTo>
                  <a:lnTo>
                    <a:pt x="653" y="6"/>
                  </a:lnTo>
                  <a:lnTo>
                    <a:pt x="582" y="23"/>
                  </a:lnTo>
                  <a:lnTo>
                    <a:pt x="511" y="52"/>
                  </a:lnTo>
                  <a:lnTo>
                    <a:pt x="445" y="92"/>
                  </a:lnTo>
                  <a:lnTo>
                    <a:pt x="380" y="139"/>
                  </a:lnTo>
                  <a:lnTo>
                    <a:pt x="320" y="198"/>
                  </a:lnTo>
                  <a:lnTo>
                    <a:pt x="264" y="264"/>
                  </a:lnTo>
                  <a:lnTo>
                    <a:pt x="214" y="339"/>
                  </a:lnTo>
                  <a:lnTo>
                    <a:pt x="166" y="422"/>
                  </a:lnTo>
                  <a:lnTo>
                    <a:pt x="124" y="512"/>
                  </a:lnTo>
                  <a:lnTo>
                    <a:pt x="87" y="607"/>
                  </a:lnTo>
                  <a:lnTo>
                    <a:pt x="58" y="707"/>
                  </a:lnTo>
                  <a:lnTo>
                    <a:pt x="33" y="815"/>
                  </a:lnTo>
                  <a:lnTo>
                    <a:pt x="14" y="926"/>
                  </a:lnTo>
                  <a:lnTo>
                    <a:pt x="4" y="1042"/>
                  </a:lnTo>
                  <a:lnTo>
                    <a:pt x="0" y="1161"/>
                  </a:lnTo>
                  <a:lnTo>
                    <a:pt x="4" y="1279"/>
                  </a:lnTo>
                  <a:lnTo>
                    <a:pt x="14" y="1393"/>
                  </a:lnTo>
                  <a:lnTo>
                    <a:pt x="33" y="1506"/>
                  </a:lnTo>
                  <a:lnTo>
                    <a:pt x="58" y="1612"/>
                  </a:lnTo>
                  <a:lnTo>
                    <a:pt x="87" y="1714"/>
                  </a:lnTo>
                  <a:lnTo>
                    <a:pt x="124" y="1809"/>
                  </a:lnTo>
                  <a:lnTo>
                    <a:pt x="166" y="1899"/>
                  </a:lnTo>
                  <a:lnTo>
                    <a:pt x="214" y="1980"/>
                  </a:lnTo>
                  <a:lnTo>
                    <a:pt x="264" y="2057"/>
                  </a:lnTo>
                  <a:lnTo>
                    <a:pt x="320" y="2123"/>
                  </a:lnTo>
                  <a:lnTo>
                    <a:pt x="380" y="2182"/>
                  </a:lnTo>
                  <a:lnTo>
                    <a:pt x="445" y="2229"/>
                  </a:lnTo>
                  <a:lnTo>
                    <a:pt x="511" y="2269"/>
                  </a:lnTo>
                  <a:lnTo>
                    <a:pt x="582" y="2298"/>
                  </a:lnTo>
                  <a:lnTo>
                    <a:pt x="653" y="2315"/>
                  </a:lnTo>
                  <a:lnTo>
                    <a:pt x="727" y="2321"/>
                  </a:lnTo>
                  <a:close/>
                </a:path>
              </a:pathLst>
            </a:custGeom>
            <a:solidFill>
              <a:srgbClr val="c1d8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33560" y="2341440"/>
              <a:ext cx="2262240" cy="3595680"/>
            </a:xfrm>
            <a:custGeom>
              <a:avLst/>
              <a:gdLst/>
              <a:ahLst/>
              <a:rect l="l" t="t" r="r" b="b"/>
              <a:pathLst>
                <a:path w="1425" h="2265">
                  <a:moveTo>
                    <a:pt x="711" y="2265"/>
                  </a:moveTo>
                  <a:lnTo>
                    <a:pt x="784" y="2259"/>
                  </a:lnTo>
                  <a:lnTo>
                    <a:pt x="855" y="2242"/>
                  </a:lnTo>
                  <a:lnTo>
                    <a:pt x="924" y="2215"/>
                  </a:lnTo>
                  <a:lnTo>
                    <a:pt x="988" y="2175"/>
                  </a:lnTo>
                  <a:lnTo>
                    <a:pt x="1050" y="2128"/>
                  </a:lnTo>
                  <a:lnTo>
                    <a:pt x="1111" y="2071"/>
                  </a:lnTo>
                  <a:lnTo>
                    <a:pt x="1165" y="2007"/>
                  </a:lnTo>
                  <a:lnTo>
                    <a:pt x="1215" y="1932"/>
                  </a:lnTo>
                  <a:lnTo>
                    <a:pt x="1263" y="1853"/>
                  </a:lnTo>
                  <a:lnTo>
                    <a:pt x="1302" y="1766"/>
                  </a:lnTo>
                  <a:lnTo>
                    <a:pt x="1339" y="1672"/>
                  </a:lnTo>
                  <a:lnTo>
                    <a:pt x="1369" y="1574"/>
                  </a:lnTo>
                  <a:lnTo>
                    <a:pt x="1394" y="1470"/>
                  </a:lnTo>
                  <a:lnTo>
                    <a:pt x="1410" y="1362"/>
                  </a:lnTo>
                  <a:lnTo>
                    <a:pt x="1421" y="1250"/>
                  </a:lnTo>
                  <a:lnTo>
                    <a:pt x="1425" y="1134"/>
                  </a:lnTo>
                  <a:lnTo>
                    <a:pt x="1421" y="1017"/>
                  </a:lnTo>
                  <a:lnTo>
                    <a:pt x="1410" y="905"/>
                  </a:lnTo>
                  <a:lnTo>
                    <a:pt x="1394" y="797"/>
                  </a:lnTo>
                  <a:lnTo>
                    <a:pt x="1369" y="693"/>
                  </a:lnTo>
                  <a:lnTo>
                    <a:pt x="1339" y="593"/>
                  </a:lnTo>
                  <a:lnTo>
                    <a:pt x="1302" y="499"/>
                  </a:lnTo>
                  <a:lnTo>
                    <a:pt x="1263" y="412"/>
                  </a:lnTo>
                  <a:lnTo>
                    <a:pt x="1215" y="333"/>
                  </a:lnTo>
                  <a:lnTo>
                    <a:pt x="1165" y="258"/>
                  </a:lnTo>
                  <a:lnTo>
                    <a:pt x="1111" y="194"/>
                  </a:lnTo>
                  <a:lnTo>
                    <a:pt x="1050" y="137"/>
                  </a:lnTo>
                  <a:lnTo>
                    <a:pt x="988" y="90"/>
                  </a:lnTo>
                  <a:lnTo>
                    <a:pt x="924" y="52"/>
                  </a:lnTo>
                  <a:lnTo>
                    <a:pt x="855" y="23"/>
                  </a:lnTo>
                  <a:lnTo>
                    <a:pt x="784" y="6"/>
                  </a:lnTo>
                  <a:lnTo>
                    <a:pt x="711" y="0"/>
                  </a:lnTo>
                  <a:lnTo>
                    <a:pt x="639" y="6"/>
                  </a:lnTo>
                  <a:lnTo>
                    <a:pt x="568" y="23"/>
                  </a:lnTo>
                  <a:lnTo>
                    <a:pt x="499" y="52"/>
                  </a:lnTo>
                  <a:lnTo>
                    <a:pt x="435" y="90"/>
                  </a:lnTo>
                  <a:lnTo>
                    <a:pt x="372" y="137"/>
                  </a:lnTo>
                  <a:lnTo>
                    <a:pt x="314" y="194"/>
                  </a:lnTo>
                  <a:lnTo>
                    <a:pt x="258" y="258"/>
                  </a:lnTo>
                  <a:lnTo>
                    <a:pt x="208" y="333"/>
                  </a:lnTo>
                  <a:lnTo>
                    <a:pt x="162" y="412"/>
                  </a:lnTo>
                  <a:lnTo>
                    <a:pt x="121" y="499"/>
                  </a:lnTo>
                  <a:lnTo>
                    <a:pt x="85" y="593"/>
                  </a:lnTo>
                  <a:lnTo>
                    <a:pt x="56" y="693"/>
                  </a:lnTo>
                  <a:lnTo>
                    <a:pt x="31" y="797"/>
                  </a:lnTo>
                  <a:lnTo>
                    <a:pt x="15" y="905"/>
                  </a:lnTo>
                  <a:lnTo>
                    <a:pt x="4" y="1017"/>
                  </a:lnTo>
                  <a:lnTo>
                    <a:pt x="0" y="1134"/>
                  </a:lnTo>
                  <a:lnTo>
                    <a:pt x="4" y="1250"/>
                  </a:lnTo>
                  <a:lnTo>
                    <a:pt x="15" y="1362"/>
                  </a:lnTo>
                  <a:lnTo>
                    <a:pt x="31" y="1470"/>
                  </a:lnTo>
                  <a:lnTo>
                    <a:pt x="56" y="1574"/>
                  </a:lnTo>
                  <a:lnTo>
                    <a:pt x="85" y="1672"/>
                  </a:lnTo>
                  <a:lnTo>
                    <a:pt x="121" y="1766"/>
                  </a:lnTo>
                  <a:lnTo>
                    <a:pt x="162" y="1853"/>
                  </a:lnTo>
                  <a:lnTo>
                    <a:pt x="208" y="1932"/>
                  </a:lnTo>
                  <a:lnTo>
                    <a:pt x="258" y="2007"/>
                  </a:lnTo>
                  <a:lnTo>
                    <a:pt x="314" y="2071"/>
                  </a:lnTo>
                  <a:lnTo>
                    <a:pt x="372" y="2128"/>
                  </a:lnTo>
                  <a:lnTo>
                    <a:pt x="435" y="2175"/>
                  </a:lnTo>
                  <a:lnTo>
                    <a:pt x="499" y="2215"/>
                  </a:lnTo>
                  <a:lnTo>
                    <a:pt x="568" y="2242"/>
                  </a:lnTo>
                  <a:lnTo>
                    <a:pt x="639" y="2259"/>
                  </a:lnTo>
                  <a:lnTo>
                    <a:pt x="711" y="2265"/>
                  </a:lnTo>
                  <a:close/>
                </a:path>
              </a:pathLst>
            </a:custGeom>
            <a:solidFill>
              <a:srgbClr val="c4db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63800" y="2384280"/>
              <a:ext cx="2201760" cy="3510000"/>
            </a:xfrm>
            <a:custGeom>
              <a:avLst/>
              <a:gdLst/>
              <a:ahLst/>
              <a:rect l="l" t="t" r="r" b="b"/>
              <a:pathLst>
                <a:path w="1387" h="2211">
                  <a:moveTo>
                    <a:pt x="692" y="2211"/>
                  </a:moveTo>
                  <a:lnTo>
                    <a:pt x="763" y="2205"/>
                  </a:lnTo>
                  <a:lnTo>
                    <a:pt x="832" y="2188"/>
                  </a:lnTo>
                  <a:lnTo>
                    <a:pt x="900" y="2161"/>
                  </a:lnTo>
                  <a:lnTo>
                    <a:pt x="963" y="2123"/>
                  </a:lnTo>
                  <a:lnTo>
                    <a:pt x="1023" y="2078"/>
                  </a:lnTo>
                  <a:lnTo>
                    <a:pt x="1081" y="2022"/>
                  </a:lnTo>
                  <a:lnTo>
                    <a:pt x="1135" y="1959"/>
                  </a:lnTo>
                  <a:lnTo>
                    <a:pt x="1183" y="1886"/>
                  </a:lnTo>
                  <a:lnTo>
                    <a:pt x="1229" y="1809"/>
                  </a:lnTo>
                  <a:lnTo>
                    <a:pt x="1268" y="1724"/>
                  </a:lnTo>
                  <a:lnTo>
                    <a:pt x="1304" y="1633"/>
                  </a:lnTo>
                  <a:lnTo>
                    <a:pt x="1333" y="1537"/>
                  </a:lnTo>
                  <a:lnTo>
                    <a:pt x="1356" y="1435"/>
                  </a:lnTo>
                  <a:lnTo>
                    <a:pt x="1372" y="1329"/>
                  </a:lnTo>
                  <a:lnTo>
                    <a:pt x="1383" y="1219"/>
                  </a:lnTo>
                  <a:lnTo>
                    <a:pt x="1387" y="1107"/>
                  </a:lnTo>
                  <a:lnTo>
                    <a:pt x="1383" y="994"/>
                  </a:lnTo>
                  <a:lnTo>
                    <a:pt x="1372" y="884"/>
                  </a:lnTo>
                  <a:lnTo>
                    <a:pt x="1356" y="778"/>
                  </a:lnTo>
                  <a:lnTo>
                    <a:pt x="1333" y="676"/>
                  </a:lnTo>
                  <a:lnTo>
                    <a:pt x="1304" y="578"/>
                  </a:lnTo>
                  <a:lnTo>
                    <a:pt x="1268" y="487"/>
                  </a:lnTo>
                  <a:lnTo>
                    <a:pt x="1229" y="404"/>
                  </a:lnTo>
                  <a:lnTo>
                    <a:pt x="1183" y="325"/>
                  </a:lnTo>
                  <a:lnTo>
                    <a:pt x="1135" y="252"/>
                  </a:lnTo>
                  <a:lnTo>
                    <a:pt x="1081" y="189"/>
                  </a:lnTo>
                  <a:lnTo>
                    <a:pt x="1023" y="133"/>
                  </a:lnTo>
                  <a:lnTo>
                    <a:pt x="963" y="88"/>
                  </a:lnTo>
                  <a:lnTo>
                    <a:pt x="900" y="50"/>
                  </a:lnTo>
                  <a:lnTo>
                    <a:pt x="832" y="23"/>
                  </a:lnTo>
                  <a:lnTo>
                    <a:pt x="763" y="6"/>
                  </a:lnTo>
                  <a:lnTo>
                    <a:pt x="692" y="0"/>
                  </a:lnTo>
                  <a:lnTo>
                    <a:pt x="622" y="6"/>
                  </a:lnTo>
                  <a:lnTo>
                    <a:pt x="553" y="23"/>
                  </a:lnTo>
                  <a:lnTo>
                    <a:pt x="487" y="50"/>
                  </a:lnTo>
                  <a:lnTo>
                    <a:pt x="422" y="88"/>
                  </a:lnTo>
                  <a:lnTo>
                    <a:pt x="362" y="133"/>
                  </a:lnTo>
                  <a:lnTo>
                    <a:pt x="306" y="189"/>
                  </a:lnTo>
                  <a:lnTo>
                    <a:pt x="252" y="252"/>
                  </a:lnTo>
                  <a:lnTo>
                    <a:pt x="204" y="325"/>
                  </a:lnTo>
                  <a:lnTo>
                    <a:pt x="158" y="404"/>
                  </a:lnTo>
                  <a:lnTo>
                    <a:pt x="118" y="487"/>
                  </a:lnTo>
                  <a:lnTo>
                    <a:pt x="83" y="578"/>
                  </a:lnTo>
                  <a:lnTo>
                    <a:pt x="54" y="676"/>
                  </a:lnTo>
                  <a:lnTo>
                    <a:pt x="31" y="778"/>
                  </a:lnTo>
                  <a:lnTo>
                    <a:pt x="14" y="884"/>
                  </a:lnTo>
                  <a:lnTo>
                    <a:pt x="4" y="994"/>
                  </a:lnTo>
                  <a:lnTo>
                    <a:pt x="0" y="1107"/>
                  </a:lnTo>
                  <a:lnTo>
                    <a:pt x="4" y="1219"/>
                  </a:lnTo>
                  <a:lnTo>
                    <a:pt x="14" y="1329"/>
                  </a:lnTo>
                  <a:lnTo>
                    <a:pt x="31" y="1435"/>
                  </a:lnTo>
                  <a:lnTo>
                    <a:pt x="54" y="1537"/>
                  </a:lnTo>
                  <a:lnTo>
                    <a:pt x="83" y="1633"/>
                  </a:lnTo>
                  <a:lnTo>
                    <a:pt x="118" y="1724"/>
                  </a:lnTo>
                  <a:lnTo>
                    <a:pt x="158" y="1809"/>
                  </a:lnTo>
                  <a:lnTo>
                    <a:pt x="204" y="1886"/>
                  </a:lnTo>
                  <a:lnTo>
                    <a:pt x="252" y="1959"/>
                  </a:lnTo>
                  <a:lnTo>
                    <a:pt x="306" y="2022"/>
                  </a:lnTo>
                  <a:lnTo>
                    <a:pt x="362" y="2078"/>
                  </a:lnTo>
                  <a:lnTo>
                    <a:pt x="422" y="2123"/>
                  </a:lnTo>
                  <a:lnTo>
                    <a:pt x="487" y="2161"/>
                  </a:lnTo>
                  <a:lnTo>
                    <a:pt x="553" y="2188"/>
                  </a:lnTo>
                  <a:lnTo>
                    <a:pt x="622" y="2205"/>
                  </a:lnTo>
                  <a:lnTo>
                    <a:pt x="692" y="2211"/>
                  </a:lnTo>
                  <a:close/>
                </a:path>
              </a:pathLst>
            </a:custGeom>
            <a:solidFill>
              <a:srgbClr val="c9d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90800" y="2430360"/>
              <a:ext cx="2147760" cy="3417840"/>
            </a:xfrm>
            <a:custGeom>
              <a:avLst/>
              <a:gdLst/>
              <a:ahLst/>
              <a:rect l="l" t="t" r="r" b="b"/>
              <a:pathLst>
                <a:path w="1353" h="2153">
                  <a:moveTo>
                    <a:pt x="675" y="2153"/>
                  </a:moveTo>
                  <a:lnTo>
                    <a:pt x="744" y="2146"/>
                  </a:lnTo>
                  <a:lnTo>
                    <a:pt x="813" y="2130"/>
                  </a:lnTo>
                  <a:lnTo>
                    <a:pt x="877" y="2105"/>
                  </a:lnTo>
                  <a:lnTo>
                    <a:pt x="940" y="2067"/>
                  </a:lnTo>
                  <a:lnTo>
                    <a:pt x="998" y="2022"/>
                  </a:lnTo>
                  <a:lnTo>
                    <a:pt x="1054" y="1970"/>
                  </a:lnTo>
                  <a:lnTo>
                    <a:pt x="1106" y="1907"/>
                  </a:lnTo>
                  <a:lnTo>
                    <a:pt x="1156" y="1837"/>
                  </a:lnTo>
                  <a:lnTo>
                    <a:pt x="1199" y="1762"/>
                  </a:lnTo>
                  <a:lnTo>
                    <a:pt x="1237" y="1679"/>
                  </a:lnTo>
                  <a:lnTo>
                    <a:pt x="1272" y="1589"/>
                  </a:lnTo>
                  <a:lnTo>
                    <a:pt x="1299" y="1496"/>
                  </a:lnTo>
                  <a:lnTo>
                    <a:pt x="1322" y="1398"/>
                  </a:lnTo>
                  <a:lnTo>
                    <a:pt x="1339" y="1294"/>
                  </a:lnTo>
                  <a:lnTo>
                    <a:pt x="1349" y="1188"/>
                  </a:lnTo>
                  <a:lnTo>
                    <a:pt x="1353" y="1078"/>
                  </a:lnTo>
                  <a:lnTo>
                    <a:pt x="1349" y="967"/>
                  </a:lnTo>
                  <a:lnTo>
                    <a:pt x="1339" y="861"/>
                  </a:lnTo>
                  <a:lnTo>
                    <a:pt x="1322" y="757"/>
                  </a:lnTo>
                  <a:lnTo>
                    <a:pt x="1299" y="657"/>
                  </a:lnTo>
                  <a:lnTo>
                    <a:pt x="1272" y="564"/>
                  </a:lnTo>
                  <a:lnTo>
                    <a:pt x="1237" y="474"/>
                  </a:lnTo>
                  <a:lnTo>
                    <a:pt x="1199" y="393"/>
                  </a:lnTo>
                  <a:lnTo>
                    <a:pt x="1156" y="316"/>
                  </a:lnTo>
                  <a:lnTo>
                    <a:pt x="1106" y="246"/>
                  </a:lnTo>
                  <a:lnTo>
                    <a:pt x="1054" y="183"/>
                  </a:lnTo>
                  <a:lnTo>
                    <a:pt x="998" y="131"/>
                  </a:lnTo>
                  <a:lnTo>
                    <a:pt x="940" y="86"/>
                  </a:lnTo>
                  <a:lnTo>
                    <a:pt x="877" y="48"/>
                  </a:lnTo>
                  <a:lnTo>
                    <a:pt x="813" y="23"/>
                  </a:lnTo>
                  <a:lnTo>
                    <a:pt x="744" y="7"/>
                  </a:lnTo>
                  <a:lnTo>
                    <a:pt x="675" y="0"/>
                  </a:lnTo>
                  <a:lnTo>
                    <a:pt x="607" y="7"/>
                  </a:lnTo>
                  <a:lnTo>
                    <a:pt x="540" y="23"/>
                  </a:lnTo>
                  <a:lnTo>
                    <a:pt x="476" y="48"/>
                  </a:lnTo>
                  <a:lnTo>
                    <a:pt x="413" y="86"/>
                  </a:lnTo>
                  <a:lnTo>
                    <a:pt x="353" y="131"/>
                  </a:lnTo>
                  <a:lnTo>
                    <a:pt x="299" y="183"/>
                  </a:lnTo>
                  <a:lnTo>
                    <a:pt x="245" y="246"/>
                  </a:lnTo>
                  <a:lnTo>
                    <a:pt x="197" y="316"/>
                  </a:lnTo>
                  <a:lnTo>
                    <a:pt x="153" y="393"/>
                  </a:lnTo>
                  <a:lnTo>
                    <a:pt x="116" y="474"/>
                  </a:lnTo>
                  <a:lnTo>
                    <a:pt x="81" y="564"/>
                  </a:lnTo>
                  <a:lnTo>
                    <a:pt x="54" y="657"/>
                  </a:lnTo>
                  <a:lnTo>
                    <a:pt x="31" y="757"/>
                  </a:lnTo>
                  <a:lnTo>
                    <a:pt x="14" y="861"/>
                  </a:lnTo>
                  <a:lnTo>
                    <a:pt x="4" y="967"/>
                  </a:lnTo>
                  <a:lnTo>
                    <a:pt x="0" y="1078"/>
                  </a:lnTo>
                  <a:lnTo>
                    <a:pt x="4" y="1188"/>
                  </a:lnTo>
                  <a:lnTo>
                    <a:pt x="14" y="1294"/>
                  </a:lnTo>
                  <a:lnTo>
                    <a:pt x="31" y="1398"/>
                  </a:lnTo>
                  <a:lnTo>
                    <a:pt x="54" y="1496"/>
                  </a:lnTo>
                  <a:lnTo>
                    <a:pt x="81" y="1589"/>
                  </a:lnTo>
                  <a:lnTo>
                    <a:pt x="116" y="1679"/>
                  </a:lnTo>
                  <a:lnTo>
                    <a:pt x="153" y="1762"/>
                  </a:lnTo>
                  <a:lnTo>
                    <a:pt x="197" y="1837"/>
                  </a:lnTo>
                  <a:lnTo>
                    <a:pt x="245" y="1907"/>
                  </a:lnTo>
                  <a:lnTo>
                    <a:pt x="299" y="1970"/>
                  </a:lnTo>
                  <a:lnTo>
                    <a:pt x="353" y="2022"/>
                  </a:lnTo>
                  <a:lnTo>
                    <a:pt x="413" y="2067"/>
                  </a:lnTo>
                  <a:lnTo>
                    <a:pt x="476" y="2105"/>
                  </a:lnTo>
                  <a:lnTo>
                    <a:pt x="540" y="2130"/>
                  </a:lnTo>
                  <a:lnTo>
                    <a:pt x="607" y="2146"/>
                  </a:lnTo>
                  <a:lnTo>
                    <a:pt x="675" y="2153"/>
                  </a:lnTo>
                  <a:close/>
                </a:path>
              </a:pathLst>
            </a:custGeom>
            <a:solidFill>
              <a:srgbClr val="cee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19240" y="2473200"/>
              <a:ext cx="2090880" cy="3332160"/>
            </a:xfrm>
            <a:custGeom>
              <a:avLst/>
              <a:gdLst/>
              <a:ahLst/>
              <a:rect l="l" t="t" r="r" b="b"/>
              <a:pathLst>
                <a:path w="1317" h="2099">
                  <a:moveTo>
                    <a:pt x="657" y="2099"/>
                  </a:moveTo>
                  <a:lnTo>
                    <a:pt x="724" y="2092"/>
                  </a:lnTo>
                  <a:lnTo>
                    <a:pt x="791" y="2078"/>
                  </a:lnTo>
                  <a:lnTo>
                    <a:pt x="853" y="2051"/>
                  </a:lnTo>
                  <a:lnTo>
                    <a:pt x="913" y="2015"/>
                  </a:lnTo>
                  <a:lnTo>
                    <a:pt x="971" y="1972"/>
                  </a:lnTo>
                  <a:lnTo>
                    <a:pt x="1026" y="1920"/>
                  </a:lnTo>
                  <a:lnTo>
                    <a:pt x="1077" y="1859"/>
                  </a:lnTo>
                  <a:lnTo>
                    <a:pt x="1123" y="1791"/>
                  </a:lnTo>
                  <a:lnTo>
                    <a:pt x="1167" y="1716"/>
                  </a:lnTo>
                  <a:lnTo>
                    <a:pt x="1204" y="1637"/>
                  </a:lnTo>
                  <a:lnTo>
                    <a:pt x="1238" y="1550"/>
                  </a:lnTo>
                  <a:lnTo>
                    <a:pt x="1265" y="1458"/>
                  </a:lnTo>
                  <a:lnTo>
                    <a:pt x="1288" y="1362"/>
                  </a:lnTo>
                  <a:lnTo>
                    <a:pt x="1304" y="1261"/>
                  </a:lnTo>
                  <a:lnTo>
                    <a:pt x="1312" y="1157"/>
                  </a:lnTo>
                  <a:lnTo>
                    <a:pt x="1317" y="1051"/>
                  </a:lnTo>
                  <a:lnTo>
                    <a:pt x="1312" y="942"/>
                  </a:lnTo>
                  <a:lnTo>
                    <a:pt x="1304" y="838"/>
                  </a:lnTo>
                  <a:lnTo>
                    <a:pt x="1288" y="739"/>
                  </a:lnTo>
                  <a:lnTo>
                    <a:pt x="1265" y="641"/>
                  </a:lnTo>
                  <a:lnTo>
                    <a:pt x="1238" y="549"/>
                  </a:lnTo>
                  <a:lnTo>
                    <a:pt x="1204" y="464"/>
                  </a:lnTo>
                  <a:lnTo>
                    <a:pt x="1167" y="383"/>
                  </a:lnTo>
                  <a:lnTo>
                    <a:pt x="1123" y="308"/>
                  </a:lnTo>
                  <a:lnTo>
                    <a:pt x="1077" y="240"/>
                  </a:lnTo>
                  <a:lnTo>
                    <a:pt x="1026" y="179"/>
                  </a:lnTo>
                  <a:lnTo>
                    <a:pt x="971" y="127"/>
                  </a:lnTo>
                  <a:lnTo>
                    <a:pt x="913" y="84"/>
                  </a:lnTo>
                  <a:lnTo>
                    <a:pt x="853" y="48"/>
                  </a:lnTo>
                  <a:lnTo>
                    <a:pt x="791" y="21"/>
                  </a:lnTo>
                  <a:lnTo>
                    <a:pt x="724" y="7"/>
                  </a:lnTo>
                  <a:lnTo>
                    <a:pt x="657" y="0"/>
                  </a:lnTo>
                  <a:lnTo>
                    <a:pt x="591" y="7"/>
                  </a:lnTo>
                  <a:lnTo>
                    <a:pt x="524" y="21"/>
                  </a:lnTo>
                  <a:lnTo>
                    <a:pt x="462" y="48"/>
                  </a:lnTo>
                  <a:lnTo>
                    <a:pt x="402" y="84"/>
                  </a:lnTo>
                  <a:lnTo>
                    <a:pt x="343" y="127"/>
                  </a:lnTo>
                  <a:lnTo>
                    <a:pt x="289" y="179"/>
                  </a:lnTo>
                  <a:lnTo>
                    <a:pt x="239" y="240"/>
                  </a:lnTo>
                  <a:lnTo>
                    <a:pt x="192" y="308"/>
                  </a:lnTo>
                  <a:lnTo>
                    <a:pt x="150" y="383"/>
                  </a:lnTo>
                  <a:lnTo>
                    <a:pt x="113" y="464"/>
                  </a:lnTo>
                  <a:lnTo>
                    <a:pt x="79" y="549"/>
                  </a:lnTo>
                  <a:lnTo>
                    <a:pt x="52" y="641"/>
                  </a:lnTo>
                  <a:lnTo>
                    <a:pt x="29" y="739"/>
                  </a:lnTo>
                  <a:lnTo>
                    <a:pt x="13" y="838"/>
                  </a:lnTo>
                  <a:lnTo>
                    <a:pt x="4" y="942"/>
                  </a:lnTo>
                  <a:lnTo>
                    <a:pt x="0" y="1051"/>
                  </a:lnTo>
                  <a:lnTo>
                    <a:pt x="4" y="1157"/>
                  </a:lnTo>
                  <a:lnTo>
                    <a:pt x="13" y="1261"/>
                  </a:lnTo>
                  <a:lnTo>
                    <a:pt x="29" y="1362"/>
                  </a:lnTo>
                  <a:lnTo>
                    <a:pt x="52" y="1458"/>
                  </a:lnTo>
                  <a:lnTo>
                    <a:pt x="79" y="1550"/>
                  </a:lnTo>
                  <a:lnTo>
                    <a:pt x="113" y="1637"/>
                  </a:lnTo>
                  <a:lnTo>
                    <a:pt x="150" y="1716"/>
                  </a:lnTo>
                  <a:lnTo>
                    <a:pt x="192" y="1791"/>
                  </a:lnTo>
                  <a:lnTo>
                    <a:pt x="239" y="1859"/>
                  </a:lnTo>
                  <a:lnTo>
                    <a:pt x="289" y="1920"/>
                  </a:lnTo>
                  <a:lnTo>
                    <a:pt x="343" y="1972"/>
                  </a:lnTo>
                  <a:lnTo>
                    <a:pt x="402" y="2015"/>
                  </a:lnTo>
                  <a:lnTo>
                    <a:pt x="462" y="2051"/>
                  </a:lnTo>
                  <a:lnTo>
                    <a:pt x="524" y="2078"/>
                  </a:lnTo>
                  <a:lnTo>
                    <a:pt x="591" y="2092"/>
                  </a:lnTo>
                  <a:lnTo>
                    <a:pt x="657" y="2099"/>
                  </a:lnTo>
                  <a:close/>
                </a:path>
              </a:pathLst>
            </a:custGeom>
            <a:solidFill>
              <a:srgbClr val="d3e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46240" y="2518920"/>
              <a:ext cx="2036880" cy="3240360"/>
            </a:xfrm>
            <a:custGeom>
              <a:avLst/>
              <a:gdLst/>
              <a:ahLst/>
              <a:rect l="l" t="t" r="r" b="b"/>
              <a:pathLst>
                <a:path w="1283" h="2041">
                  <a:moveTo>
                    <a:pt x="640" y="2041"/>
                  </a:moveTo>
                  <a:lnTo>
                    <a:pt x="707" y="2034"/>
                  </a:lnTo>
                  <a:lnTo>
                    <a:pt x="769" y="2020"/>
                  </a:lnTo>
                  <a:lnTo>
                    <a:pt x="832" y="1995"/>
                  </a:lnTo>
                  <a:lnTo>
                    <a:pt x="890" y="1961"/>
                  </a:lnTo>
                  <a:lnTo>
                    <a:pt x="946" y="1918"/>
                  </a:lnTo>
                  <a:lnTo>
                    <a:pt x="1000" y="1866"/>
                  </a:lnTo>
                  <a:lnTo>
                    <a:pt x="1050" y="1808"/>
                  </a:lnTo>
                  <a:lnTo>
                    <a:pt x="1096" y="1743"/>
                  </a:lnTo>
                  <a:lnTo>
                    <a:pt x="1137" y="1670"/>
                  </a:lnTo>
                  <a:lnTo>
                    <a:pt x="1173" y="1591"/>
                  </a:lnTo>
                  <a:lnTo>
                    <a:pt x="1206" y="1508"/>
                  </a:lnTo>
                  <a:lnTo>
                    <a:pt x="1233" y="1419"/>
                  </a:lnTo>
                  <a:lnTo>
                    <a:pt x="1254" y="1325"/>
                  </a:lnTo>
                  <a:lnTo>
                    <a:pt x="1271" y="1227"/>
                  </a:lnTo>
                  <a:lnTo>
                    <a:pt x="1279" y="1126"/>
                  </a:lnTo>
                  <a:lnTo>
                    <a:pt x="1283" y="1022"/>
                  </a:lnTo>
                  <a:lnTo>
                    <a:pt x="1279" y="918"/>
                  </a:lnTo>
                  <a:lnTo>
                    <a:pt x="1271" y="816"/>
                  </a:lnTo>
                  <a:lnTo>
                    <a:pt x="1254" y="718"/>
                  </a:lnTo>
                  <a:lnTo>
                    <a:pt x="1233" y="624"/>
                  </a:lnTo>
                  <a:lnTo>
                    <a:pt x="1206" y="535"/>
                  </a:lnTo>
                  <a:lnTo>
                    <a:pt x="1173" y="452"/>
                  </a:lnTo>
                  <a:lnTo>
                    <a:pt x="1137" y="373"/>
                  </a:lnTo>
                  <a:lnTo>
                    <a:pt x="1096" y="300"/>
                  </a:lnTo>
                  <a:lnTo>
                    <a:pt x="1050" y="233"/>
                  </a:lnTo>
                  <a:lnTo>
                    <a:pt x="1000" y="175"/>
                  </a:lnTo>
                  <a:lnTo>
                    <a:pt x="946" y="123"/>
                  </a:lnTo>
                  <a:lnTo>
                    <a:pt x="890" y="82"/>
                  </a:lnTo>
                  <a:lnTo>
                    <a:pt x="832" y="46"/>
                  </a:lnTo>
                  <a:lnTo>
                    <a:pt x="769" y="21"/>
                  </a:lnTo>
                  <a:lnTo>
                    <a:pt x="707" y="7"/>
                  </a:lnTo>
                  <a:lnTo>
                    <a:pt x="640" y="0"/>
                  </a:lnTo>
                  <a:lnTo>
                    <a:pt x="576" y="7"/>
                  </a:lnTo>
                  <a:lnTo>
                    <a:pt x="511" y="21"/>
                  </a:lnTo>
                  <a:lnTo>
                    <a:pt x="449" y="46"/>
                  </a:lnTo>
                  <a:lnTo>
                    <a:pt x="391" y="82"/>
                  </a:lnTo>
                  <a:lnTo>
                    <a:pt x="335" y="123"/>
                  </a:lnTo>
                  <a:lnTo>
                    <a:pt x="283" y="175"/>
                  </a:lnTo>
                  <a:lnTo>
                    <a:pt x="233" y="233"/>
                  </a:lnTo>
                  <a:lnTo>
                    <a:pt x="187" y="300"/>
                  </a:lnTo>
                  <a:lnTo>
                    <a:pt x="145" y="373"/>
                  </a:lnTo>
                  <a:lnTo>
                    <a:pt x="110" y="452"/>
                  </a:lnTo>
                  <a:lnTo>
                    <a:pt x="77" y="535"/>
                  </a:lnTo>
                  <a:lnTo>
                    <a:pt x="50" y="624"/>
                  </a:lnTo>
                  <a:lnTo>
                    <a:pt x="29" y="718"/>
                  </a:lnTo>
                  <a:lnTo>
                    <a:pt x="12" y="816"/>
                  </a:lnTo>
                  <a:lnTo>
                    <a:pt x="4" y="918"/>
                  </a:lnTo>
                  <a:lnTo>
                    <a:pt x="0" y="1022"/>
                  </a:lnTo>
                  <a:lnTo>
                    <a:pt x="4" y="1126"/>
                  </a:lnTo>
                  <a:lnTo>
                    <a:pt x="12" y="1227"/>
                  </a:lnTo>
                  <a:lnTo>
                    <a:pt x="29" y="1325"/>
                  </a:lnTo>
                  <a:lnTo>
                    <a:pt x="50" y="1419"/>
                  </a:lnTo>
                  <a:lnTo>
                    <a:pt x="77" y="1508"/>
                  </a:lnTo>
                  <a:lnTo>
                    <a:pt x="110" y="1591"/>
                  </a:lnTo>
                  <a:lnTo>
                    <a:pt x="145" y="1670"/>
                  </a:lnTo>
                  <a:lnTo>
                    <a:pt x="187" y="1743"/>
                  </a:lnTo>
                  <a:lnTo>
                    <a:pt x="233" y="1808"/>
                  </a:lnTo>
                  <a:lnTo>
                    <a:pt x="283" y="1866"/>
                  </a:lnTo>
                  <a:lnTo>
                    <a:pt x="335" y="1918"/>
                  </a:lnTo>
                  <a:lnTo>
                    <a:pt x="391" y="1961"/>
                  </a:lnTo>
                  <a:lnTo>
                    <a:pt x="449" y="1995"/>
                  </a:lnTo>
                  <a:lnTo>
                    <a:pt x="511" y="2020"/>
                  </a:lnTo>
                  <a:lnTo>
                    <a:pt x="576" y="2034"/>
                  </a:lnTo>
                  <a:lnTo>
                    <a:pt x="640" y="2041"/>
                  </a:lnTo>
                  <a:close/>
                </a:path>
              </a:pathLst>
            </a:custGeom>
            <a:solidFill>
              <a:srgbClr val="d8e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76480" y="2563560"/>
              <a:ext cx="1976400" cy="3151080"/>
            </a:xfrm>
            <a:custGeom>
              <a:avLst/>
              <a:gdLst/>
              <a:ahLst/>
              <a:rect l="l" t="t" r="r" b="b"/>
              <a:pathLst>
                <a:path w="1245" h="1985">
                  <a:moveTo>
                    <a:pt x="621" y="1985"/>
                  </a:moveTo>
                  <a:lnTo>
                    <a:pt x="686" y="1981"/>
                  </a:lnTo>
                  <a:lnTo>
                    <a:pt x="748" y="1965"/>
                  </a:lnTo>
                  <a:lnTo>
                    <a:pt x="807" y="1942"/>
                  </a:lnTo>
                  <a:lnTo>
                    <a:pt x="865" y="1906"/>
                  </a:lnTo>
                  <a:lnTo>
                    <a:pt x="919" y="1865"/>
                  </a:lnTo>
                  <a:lnTo>
                    <a:pt x="971" y="1815"/>
                  </a:lnTo>
                  <a:lnTo>
                    <a:pt x="1019" y="1759"/>
                  </a:lnTo>
                  <a:lnTo>
                    <a:pt x="1062" y="1694"/>
                  </a:lnTo>
                  <a:lnTo>
                    <a:pt x="1104" y="1624"/>
                  </a:lnTo>
                  <a:lnTo>
                    <a:pt x="1139" y="1549"/>
                  </a:lnTo>
                  <a:lnTo>
                    <a:pt x="1170" y="1466"/>
                  </a:lnTo>
                  <a:lnTo>
                    <a:pt x="1195" y="1378"/>
                  </a:lnTo>
                  <a:lnTo>
                    <a:pt x="1218" y="1289"/>
                  </a:lnTo>
                  <a:lnTo>
                    <a:pt x="1233" y="1193"/>
                  </a:lnTo>
                  <a:lnTo>
                    <a:pt x="1241" y="1095"/>
                  </a:lnTo>
                  <a:lnTo>
                    <a:pt x="1245" y="994"/>
                  </a:lnTo>
                  <a:lnTo>
                    <a:pt x="1241" y="892"/>
                  </a:lnTo>
                  <a:lnTo>
                    <a:pt x="1233" y="794"/>
                  </a:lnTo>
                  <a:lnTo>
                    <a:pt x="1218" y="698"/>
                  </a:lnTo>
                  <a:lnTo>
                    <a:pt x="1195" y="607"/>
                  </a:lnTo>
                  <a:lnTo>
                    <a:pt x="1170" y="519"/>
                  </a:lnTo>
                  <a:lnTo>
                    <a:pt x="1139" y="438"/>
                  </a:lnTo>
                  <a:lnTo>
                    <a:pt x="1104" y="361"/>
                  </a:lnTo>
                  <a:lnTo>
                    <a:pt x="1062" y="291"/>
                  </a:lnTo>
                  <a:lnTo>
                    <a:pt x="1019" y="226"/>
                  </a:lnTo>
                  <a:lnTo>
                    <a:pt x="971" y="170"/>
                  </a:lnTo>
                  <a:lnTo>
                    <a:pt x="919" y="120"/>
                  </a:lnTo>
                  <a:lnTo>
                    <a:pt x="865" y="79"/>
                  </a:lnTo>
                  <a:lnTo>
                    <a:pt x="807" y="43"/>
                  </a:lnTo>
                  <a:lnTo>
                    <a:pt x="748" y="20"/>
                  </a:lnTo>
                  <a:lnTo>
                    <a:pt x="686" y="4"/>
                  </a:lnTo>
                  <a:lnTo>
                    <a:pt x="621" y="0"/>
                  </a:lnTo>
                  <a:lnTo>
                    <a:pt x="557" y="4"/>
                  </a:lnTo>
                  <a:lnTo>
                    <a:pt x="497" y="20"/>
                  </a:lnTo>
                  <a:lnTo>
                    <a:pt x="436" y="43"/>
                  </a:lnTo>
                  <a:lnTo>
                    <a:pt x="380" y="79"/>
                  </a:lnTo>
                  <a:lnTo>
                    <a:pt x="326" y="120"/>
                  </a:lnTo>
                  <a:lnTo>
                    <a:pt x="274" y="170"/>
                  </a:lnTo>
                  <a:lnTo>
                    <a:pt x="226" y="226"/>
                  </a:lnTo>
                  <a:lnTo>
                    <a:pt x="183" y="291"/>
                  </a:lnTo>
                  <a:lnTo>
                    <a:pt x="141" y="361"/>
                  </a:lnTo>
                  <a:lnTo>
                    <a:pt x="106" y="438"/>
                  </a:lnTo>
                  <a:lnTo>
                    <a:pt x="74" y="519"/>
                  </a:lnTo>
                  <a:lnTo>
                    <a:pt x="50" y="607"/>
                  </a:lnTo>
                  <a:lnTo>
                    <a:pt x="27" y="698"/>
                  </a:lnTo>
                  <a:lnTo>
                    <a:pt x="12" y="794"/>
                  </a:lnTo>
                  <a:lnTo>
                    <a:pt x="4" y="892"/>
                  </a:lnTo>
                  <a:lnTo>
                    <a:pt x="0" y="994"/>
                  </a:lnTo>
                  <a:lnTo>
                    <a:pt x="4" y="1095"/>
                  </a:lnTo>
                  <a:lnTo>
                    <a:pt x="12" y="1193"/>
                  </a:lnTo>
                  <a:lnTo>
                    <a:pt x="27" y="1289"/>
                  </a:lnTo>
                  <a:lnTo>
                    <a:pt x="50" y="1378"/>
                  </a:lnTo>
                  <a:lnTo>
                    <a:pt x="74" y="1466"/>
                  </a:lnTo>
                  <a:lnTo>
                    <a:pt x="106" y="1549"/>
                  </a:lnTo>
                  <a:lnTo>
                    <a:pt x="141" y="1624"/>
                  </a:lnTo>
                  <a:lnTo>
                    <a:pt x="183" y="1694"/>
                  </a:lnTo>
                  <a:lnTo>
                    <a:pt x="226" y="1759"/>
                  </a:lnTo>
                  <a:lnTo>
                    <a:pt x="274" y="1815"/>
                  </a:lnTo>
                  <a:lnTo>
                    <a:pt x="326" y="1865"/>
                  </a:lnTo>
                  <a:lnTo>
                    <a:pt x="380" y="1906"/>
                  </a:lnTo>
                  <a:lnTo>
                    <a:pt x="436" y="1942"/>
                  </a:lnTo>
                  <a:lnTo>
                    <a:pt x="497" y="1965"/>
                  </a:lnTo>
                  <a:lnTo>
                    <a:pt x="557" y="1981"/>
                  </a:lnTo>
                  <a:lnTo>
                    <a:pt x="621" y="1985"/>
                  </a:lnTo>
                  <a:close/>
                </a:path>
              </a:pathLst>
            </a:custGeom>
            <a:solidFill>
              <a:srgbClr val="dde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02040" y="2609640"/>
              <a:ext cx="1925640" cy="3058920"/>
            </a:xfrm>
            <a:custGeom>
              <a:avLst/>
              <a:gdLst/>
              <a:ahLst/>
              <a:rect l="l" t="t" r="r" b="b"/>
              <a:pathLst>
                <a:path w="1213" h="1927">
                  <a:moveTo>
                    <a:pt x="605" y="1927"/>
                  </a:moveTo>
                  <a:lnTo>
                    <a:pt x="668" y="1923"/>
                  </a:lnTo>
                  <a:lnTo>
                    <a:pt x="728" y="1909"/>
                  </a:lnTo>
                  <a:lnTo>
                    <a:pt x="786" y="1884"/>
                  </a:lnTo>
                  <a:lnTo>
                    <a:pt x="842" y="1853"/>
                  </a:lnTo>
                  <a:lnTo>
                    <a:pt x="894" y="1811"/>
                  </a:lnTo>
                  <a:lnTo>
                    <a:pt x="944" y="1763"/>
                  </a:lnTo>
                  <a:lnTo>
                    <a:pt x="992" y="1707"/>
                  </a:lnTo>
                  <a:lnTo>
                    <a:pt x="1034" y="1645"/>
                  </a:lnTo>
                  <a:lnTo>
                    <a:pt x="1073" y="1578"/>
                  </a:lnTo>
                  <a:lnTo>
                    <a:pt x="1109" y="1503"/>
                  </a:lnTo>
                  <a:lnTo>
                    <a:pt x="1140" y="1424"/>
                  </a:lnTo>
                  <a:lnTo>
                    <a:pt x="1165" y="1339"/>
                  </a:lnTo>
                  <a:lnTo>
                    <a:pt x="1186" y="1252"/>
                  </a:lnTo>
                  <a:lnTo>
                    <a:pt x="1200" y="1158"/>
                  </a:lnTo>
                  <a:lnTo>
                    <a:pt x="1209" y="1062"/>
                  </a:lnTo>
                  <a:lnTo>
                    <a:pt x="1213" y="965"/>
                  </a:lnTo>
                  <a:lnTo>
                    <a:pt x="1209" y="865"/>
                  </a:lnTo>
                  <a:lnTo>
                    <a:pt x="1200" y="769"/>
                  </a:lnTo>
                  <a:lnTo>
                    <a:pt x="1186" y="678"/>
                  </a:lnTo>
                  <a:lnTo>
                    <a:pt x="1165" y="588"/>
                  </a:lnTo>
                  <a:lnTo>
                    <a:pt x="1140" y="505"/>
                  </a:lnTo>
                  <a:lnTo>
                    <a:pt x="1109" y="424"/>
                  </a:lnTo>
                  <a:lnTo>
                    <a:pt x="1073" y="351"/>
                  </a:lnTo>
                  <a:lnTo>
                    <a:pt x="1034" y="282"/>
                  </a:lnTo>
                  <a:lnTo>
                    <a:pt x="992" y="220"/>
                  </a:lnTo>
                  <a:lnTo>
                    <a:pt x="944" y="164"/>
                  </a:lnTo>
                  <a:lnTo>
                    <a:pt x="894" y="116"/>
                  </a:lnTo>
                  <a:lnTo>
                    <a:pt x="842" y="74"/>
                  </a:lnTo>
                  <a:lnTo>
                    <a:pt x="786" y="43"/>
                  </a:lnTo>
                  <a:lnTo>
                    <a:pt x="728" y="18"/>
                  </a:lnTo>
                  <a:lnTo>
                    <a:pt x="668" y="4"/>
                  </a:lnTo>
                  <a:lnTo>
                    <a:pt x="605" y="0"/>
                  </a:lnTo>
                  <a:lnTo>
                    <a:pt x="543" y="4"/>
                  </a:lnTo>
                  <a:lnTo>
                    <a:pt x="483" y="18"/>
                  </a:lnTo>
                  <a:lnTo>
                    <a:pt x="424" y="43"/>
                  </a:lnTo>
                  <a:lnTo>
                    <a:pt x="370" y="74"/>
                  </a:lnTo>
                  <a:lnTo>
                    <a:pt x="316" y="116"/>
                  </a:lnTo>
                  <a:lnTo>
                    <a:pt x="266" y="164"/>
                  </a:lnTo>
                  <a:lnTo>
                    <a:pt x="221" y="220"/>
                  </a:lnTo>
                  <a:lnTo>
                    <a:pt x="177" y="282"/>
                  </a:lnTo>
                  <a:lnTo>
                    <a:pt x="138" y="351"/>
                  </a:lnTo>
                  <a:lnTo>
                    <a:pt x="104" y="424"/>
                  </a:lnTo>
                  <a:lnTo>
                    <a:pt x="73" y="505"/>
                  </a:lnTo>
                  <a:lnTo>
                    <a:pt x="48" y="588"/>
                  </a:lnTo>
                  <a:lnTo>
                    <a:pt x="27" y="678"/>
                  </a:lnTo>
                  <a:lnTo>
                    <a:pt x="13" y="769"/>
                  </a:lnTo>
                  <a:lnTo>
                    <a:pt x="2" y="865"/>
                  </a:lnTo>
                  <a:lnTo>
                    <a:pt x="0" y="965"/>
                  </a:lnTo>
                  <a:lnTo>
                    <a:pt x="2" y="1062"/>
                  </a:lnTo>
                  <a:lnTo>
                    <a:pt x="13" y="1158"/>
                  </a:lnTo>
                  <a:lnTo>
                    <a:pt x="27" y="1252"/>
                  </a:lnTo>
                  <a:lnTo>
                    <a:pt x="48" y="1339"/>
                  </a:lnTo>
                  <a:lnTo>
                    <a:pt x="73" y="1424"/>
                  </a:lnTo>
                  <a:lnTo>
                    <a:pt x="104" y="1503"/>
                  </a:lnTo>
                  <a:lnTo>
                    <a:pt x="138" y="1578"/>
                  </a:lnTo>
                  <a:lnTo>
                    <a:pt x="177" y="1645"/>
                  </a:lnTo>
                  <a:lnTo>
                    <a:pt x="221" y="1707"/>
                  </a:lnTo>
                  <a:lnTo>
                    <a:pt x="266" y="1763"/>
                  </a:lnTo>
                  <a:lnTo>
                    <a:pt x="316" y="1811"/>
                  </a:lnTo>
                  <a:lnTo>
                    <a:pt x="370" y="1853"/>
                  </a:lnTo>
                  <a:lnTo>
                    <a:pt x="424" y="1884"/>
                  </a:lnTo>
                  <a:lnTo>
                    <a:pt x="483" y="1909"/>
                  </a:lnTo>
                  <a:lnTo>
                    <a:pt x="543" y="1923"/>
                  </a:lnTo>
                  <a:lnTo>
                    <a:pt x="605" y="1927"/>
                  </a:lnTo>
                  <a:close/>
                </a:path>
              </a:pathLst>
            </a:custGeom>
            <a:solidFill>
              <a:srgbClr val="e2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29040" y="2652480"/>
              <a:ext cx="1868400" cy="2973240"/>
            </a:xfrm>
            <a:custGeom>
              <a:avLst/>
              <a:gdLst/>
              <a:ahLst/>
              <a:rect l="l" t="t" r="r" b="b"/>
              <a:pathLst>
                <a:path w="1177" h="1873">
                  <a:moveTo>
                    <a:pt x="588" y="1873"/>
                  </a:moveTo>
                  <a:lnTo>
                    <a:pt x="649" y="1869"/>
                  </a:lnTo>
                  <a:lnTo>
                    <a:pt x="707" y="1855"/>
                  </a:lnTo>
                  <a:lnTo>
                    <a:pt x="763" y="1832"/>
                  </a:lnTo>
                  <a:lnTo>
                    <a:pt x="817" y="1801"/>
                  </a:lnTo>
                  <a:lnTo>
                    <a:pt x="869" y="1761"/>
                  </a:lnTo>
                  <a:lnTo>
                    <a:pt x="919" y="1713"/>
                  </a:lnTo>
                  <a:lnTo>
                    <a:pt x="963" y="1659"/>
                  </a:lnTo>
                  <a:lnTo>
                    <a:pt x="1004" y="1599"/>
                  </a:lnTo>
                  <a:lnTo>
                    <a:pt x="1044" y="1532"/>
                  </a:lnTo>
                  <a:lnTo>
                    <a:pt x="1077" y="1460"/>
                  </a:lnTo>
                  <a:lnTo>
                    <a:pt x="1106" y="1383"/>
                  </a:lnTo>
                  <a:lnTo>
                    <a:pt x="1131" y="1301"/>
                  </a:lnTo>
                  <a:lnTo>
                    <a:pt x="1150" y="1216"/>
                  </a:lnTo>
                  <a:lnTo>
                    <a:pt x="1164" y="1127"/>
                  </a:lnTo>
                  <a:lnTo>
                    <a:pt x="1175" y="1033"/>
                  </a:lnTo>
                  <a:lnTo>
                    <a:pt x="1177" y="938"/>
                  </a:lnTo>
                  <a:lnTo>
                    <a:pt x="1175" y="842"/>
                  </a:lnTo>
                  <a:lnTo>
                    <a:pt x="1164" y="748"/>
                  </a:lnTo>
                  <a:lnTo>
                    <a:pt x="1150" y="659"/>
                  </a:lnTo>
                  <a:lnTo>
                    <a:pt x="1131" y="572"/>
                  </a:lnTo>
                  <a:lnTo>
                    <a:pt x="1106" y="490"/>
                  </a:lnTo>
                  <a:lnTo>
                    <a:pt x="1077" y="413"/>
                  </a:lnTo>
                  <a:lnTo>
                    <a:pt x="1044" y="341"/>
                  </a:lnTo>
                  <a:lnTo>
                    <a:pt x="1004" y="274"/>
                  </a:lnTo>
                  <a:lnTo>
                    <a:pt x="963" y="214"/>
                  </a:lnTo>
                  <a:lnTo>
                    <a:pt x="919" y="160"/>
                  </a:lnTo>
                  <a:lnTo>
                    <a:pt x="869" y="112"/>
                  </a:lnTo>
                  <a:lnTo>
                    <a:pt x="817" y="72"/>
                  </a:lnTo>
                  <a:lnTo>
                    <a:pt x="763" y="41"/>
                  </a:lnTo>
                  <a:lnTo>
                    <a:pt x="707" y="18"/>
                  </a:lnTo>
                  <a:lnTo>
                    <a:pt x="649" y="4"/>
                  </a:lnTo>
                  <a:lnTo>
                    <a:pt x="588" y="0"/>
                  </a:lnTo>
                  <a:lnTo>
                    <a:pt x="528" y="4"/>
                  </a:lnTo>
                  <a:lnTo>
                    <a:pt x="470" y="18"/>
                  </a:lnTo>
                  <a:lnTo>
                    <a:pt x="414" y="41"/>
                  </a:lnTo>
                  <a:lnTo>
                    <a:pt x="360" y="72"/>
                  </a:lnTo>
                  <a:lnTo>
                    <a:pt x="308" y="112"/>
                  </a:lnTo>
                  <a:lnTo>
                    <a:pt x="260" y="160"/>
                  </a:lnTo>
                  <a:lnTo>
                    <a:pt x="214" y="214"/>
                  </a:lnTo>
                  <a:lnTo>
                    <a:pt x="172" y="274"/>
                  </a:lnTo>
                  <a:lnTo>
                    <a:pt x="135" y="341"/>
                  </a:lnTo>
                  <a:lnTo>
                    <a:pt x="100" y="413"/>
                  </a:lnTo>
                  <a:lnTo>
                    <a:pt x="71" y="490"/>
                  </a:lnTo>
                  <a:lnTo>
                    <a:pt x="46" y="572"/>
                  </a:lnTo>
                  <a:lnTo>
                    <a:pt x="27" y="659"/>
                  </a:lnTo>
                  <a:lnTo>
                    <a:pt x="12" y="748"/>
                  </a:lnTo>
                  <a:lnTo>
                    <a:pt x="2" y="842"/>
                  </a:lnTo>
                  <a:lnTo>
                    <a:pt x="0" y="938"/>
                  </a:lnTo>
                  <a:lnTo>
                    <a:pt x="2" y="1033"/>
                  </a:lnTo>
                  <a:lnTo>
                    <a:pt x="12" y="1127"/>
                  </a:lnTo>
                  <a:lnTo>
                    <a:pt x="27" y="1216"/>
                  </a:lnTo>
                  <a:lnTo>
                    <a:pt x="46" y="1301"/>
                  </a:lnTo>
                  <a:lnTo>
                    <a:pt x="71" y="1383"/>
                  </a:lnTo>
                  <a:lnTo>
                    <a:pt x="100" y="1460"/>
                  </a:lnTo>
                  <a:lnTo>
                    <a:pt x="135" y="1532"/>
                  </a:lnTo>
                  <a:lnTo>
                    <a:pt x="172" y="1599"/>
                  </a:lnTo>
                  <a:lnTo>
                    <a:pt x="214" y="1659"/>
                  </a:lnTo>
                  <a:lnTo>
                    <a:pt x="260" y="1713"/>
                  </a:lnTo>
                  <a:lnTo>
                    <a:pt x="308" y="1761"/>
                  </a:lnTo>
                  <a:lnTo>
                    <a:pt x="360" y="1801"/>
                  </a:lnTo>
                  <a:lnTo>
                    <a:pt x="414" y="1832"/>
                  </a:lnTo>
                  <a:lnTo>
                    <a:pt x="470" y="1855"/>
                  </a:lnTo>
                  <a:lnTo>
                    <a:pt x="528" y="1869"/>
                  </a:lnTo>
                  <a:lnTo>
                    <a:pt x="588" y="1873"/>
                  </a:lnTo>
                  <a:close/>
                </a:path>
              </a:pathLst>
            </a:custGeom>
            <a:solidFill>
              <a:srgbClr val="e5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58920" y="2698560"/>
              <a:ext cx="1811520" cy="2881080"/>
            </a:xfrm>
            <a:custGeom>
              <a:avLst/>
              <a:gdLst/>
              <a:ahLst/>
              <a:rect l="l" t="t" r="r" b="b"/>
              <a:pathLst>
                <a:path w="1141" h="1815">
                  <a:moveTo>
                    <a:pt x="569" y="1815"/>
                  </a:moveTo>
                  <a:lnTo>
                    <a:pt x="628" y="1811"/>
                  </a:lnTo>
                  <a:lnTo>
                    <a:pt x="684" y="1797"/>
                  </a:lnTo>
                  <a:lnTo>
                    <a:pt x="740" y="1774"/>
                  </a:lnTo>
                  <a:lnTo>
                    <a:pt x="792" y="1745"/>
                  </a:lnTo>
                  <a:lnTo>
                    <a:pt x="842" y="1705"/>
                  </a:lnTo>
                  <a:lnTo>
                    <a:pt x="890" y="1661"/>
                  </a:lnTo>
                  <a:lnTo>
                    <a:pt x="933" y="1609"/>
                  </a:lnTo>
                  <a:lnTo>
                    <a:pt x="975" y="1549"/>
                  </a:lnTo>
                  <a:lnTo>
                    <a:pt x="1010" y="1485"/>
                  </a:lnTo>
                  <a:lnTo>
                    <a:pt x="1044" y="1416"/>
                  </a:lnTo>
                  <a:lnTo>
                    <a:pt x="1073" y="1341"/>
                  </a:lnTo>
                  <a:lnTo>
                    <a:pt x="1096" y="1262"/>
                  </a:lnTo>
                  <a:lnTo>
                    <a:pt x="1116" y="1179"/>
                  </a:lnTo>
                  <a:lnTo>
                    <a:pt x="1129" y="1092"/>
                  </a:lnTo>
                  <a:lnTo>
                    <a:pt x="1139" y="1002"/>
                  </a:lnTo>
                  <a:lnTo>
                    <a:pt x="1141" y="909"/>
                  </a:lnTo>
                  <a:lnTo>
                    <a:pt x="1139" y="815"/>
                  </a:lnTo>
                  <a:lnTo>
                    <a:pt x="1129" y="726"/>
                  </a:lnTo>
                  <a:lnTo>
                    <a:pt x="1116" y="638"/>
                  </a:lnTo>
                  <a:lnTo>
                    <a:pt x="1096" y="555"/>
                  </a:lnTo>
                  <a:lnTo>
                    <a:pt x="1073" y="474"/>
                  </a:lnTo>
                  <a:lnTo>
                    <a:pt x="1044" y="399"/>
                  </a:lnTo>
                  <a:lnTo>
                    <a:pt x="1010" y="330"/>
                  </a:lnTo>
                  <a:lnTo>
                    <a:pt x="975" y="266"/>
                  </a:lnTo>
                  <a:lnTo>
                    <a:pt x="933" y="208"/>
                  </a:lnTo>
                  <a:lnTo>
                    <a:pt x="890" y="154"/>
                  </a:lnTo>
                  <a:lnTo>
                    <a:pt x="842" y="110"/>
                  </a:lnTo>
                  <a:lnTo>
                    <a:pt x="792" y="70"/>
                  </a:lnTo>
                  <a:lnTo>
                    <a:pt x="740" y="41"/>
                  </a:lnTo>
                  <a:lnTo>
                    <a:pt x="684" y="18"/>
                  </a:lnTo>
                  <a:lnTo>
                    <a:pt x="628" y="4"/>
                  </a:lnTo>
                  <a:lnTo>
                    <a:pt x="569" y="0"/>
                  </a:lnTo>
                  <a:lnTo>
                    <a:pt x="511" y="4"/>
                  </a:lnTo>
                  <a:lnTo>
                    <a:pt x="455" y="18"/>
                  </a:lnTo>
                  <a:lnTo>
                    <a:pt x="401" y="41"/>
                  </a:lnTo>
                  <a:lnTo>
                    <a:pt x="347" y="70"/>
                  </a:lnTo>
                  <a:lnTo>
                    <a:pt x="299" y="110"/>
                  </a:lnTo>
                  <a:lnTo>
                    <a:pt x="251" y="154"/>
                  </a:lnTo>
                  <a:lnTo>
                    <a:pt x="208" y="208"/>
                  </a:lnTo>
                  <a:lnTo>
                    <a:pt x="166" y="266"/>
                  </a:lnTo>
                  <a:lnTo>
                    <a:pt x="131" y="330"/>
                  </a:lnTo>
                  <a:lnTo>
                    <a:pt x="97" y="399"/>
                  </a:lnTo>
                  <a:lnTo>
                    <a:pt x="68" y="474"/>
                  </a:lnTo>
                  <a:lnTo>
                    <a:pt x="45" y="555"/>
                  </a:lnTo>
                  <a:lnTo>
                    <a:pt x="25" y="638"/>
                  </a:lnTo>
                  <a:lnTo>
                    <a:pt x="12" y="726"/>
                  </a:lnTo>
                  <a:lnTo>
                    <a:pt x="2" y="815"/>
                  </a:lnTo>
                  <a:lnTo>
                    <a:pt x="0" y="909"/>
                  </a:lnTo>
                  <a:lnTo>
                    <a:pt x="2" y="1002"/>
                  </a:lnTo>
                  <a:lnTo>
                    <a:pt x="12" y="1092"/>
                  </a:lnTo>
                  <a:lnTo>
                    <a:pt x="25" y="1179"/>
                  </a:lnTo>
                  <a:lnTo>
                    <a:pt x="45" y="1262"/>
                  </a:lnTo>
                  <a:lnTo>
                    <a:pt x="68" y="1341"/>
                  </a:lnTo>
                  <a:lnTo>
                    <a:pt x="97" y="1416"/>
                  </a:lnTo>
                  <a:lnTo>
                    <a:pt x="131" y="1485"/>
                  </a:lnTo>
                  <a:lnTo>
                    <a:pt x="166" y="1549"/>
                  </a:lnTo>
                  <a:lnTo>
                    <a:pt x="208" y="1609"/>
                  </a:lnTo>
                  <a:lnTo>
                    <a:pt x="251" y="1661"/>
                  </a:lnTo>
                  <a:lnTo>
                    <a:pt x="299" y="1705"/>
                  </a:lnTo>
                  <a:lnTo>
                    <a:pt x="347" y="1745"/>
                  </a:lnTo>
                  <a:lnTo>
                    <a:pt x="401" y="1774"/>
                  </a:lnTo>
                  <a:lnTo>
                    <a:pt x="455" y="1797"/>
                  </a:lnTo>
                  <a:lnTo>
                    <a:pt x="511" y="1811"/>
                  </a:lnTo>
                  <a:lnTo>
                    <a:pt x="569" y="1815"/>
                  </a:lnTo>
                  <a:close/>
                </a:path>
              </a:pathLst>
            </a:custGeom>
            <a:solidFill>
              <a:srgbClr val="edf4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984480" y="2741400"/>
              <a:ext cx="1757520" cy="2795400"/>
            </a:xfrm>
            <a:custGeom>
              <a:avLst/>
              <a:gdLst/>
              <a:ahLst/>
              <a:rect l="l" t="t" r="r" b="b"/>
              <a:pathLst>
                <a:path w="1107" h="1761">
                  <a:moveTo>
                    <a:pt x="553" y="1761"/>
                  </a:moveTo>
                  <a:lnTo>
                    <a:pt x="610" y="1757"/>
                  </a:lnTo>
                  <a:lnTo>
                    <a:pt x="666" y="1742"/>
                  </a:lnTo>
                  <a:lnTo>
                    <a:pt x="718" y="1722"/>
                  </a:lnTo>
                  <a:lnTo>
                    <a:pt x="770" y="1693"/>
                  </a:lnTo>
                  <a:lnTo>
                    <a:pt x="818" y="1655"/>
                  </a:lnTo>
                  <a:lnTo>
                    <a:pt x="863" y="1611"/>
                  </a:lnTo>
                  <a:lnTo>
                    <a:pt x="905" y="1559"/>
                  </a:lnTo>
                  <a:lnTo>
                    <a:pt x="944" y="1503"/>
                  </a:lnTo>
                  <a:lnTo>
                    <a:pt x="980" y="1441"/>
                  </a:lnTo>
                  <a:lnTo>
                    <a:pt x="1013" y="1372"/>
                  </a:lnTo>
                  <a:lnTo>
                    <a:pt x="1040" y="1300"/>
                  </a:lnTo>
                  <a:lnTo>
                    <a:pt x="1063" y="1223"/>
                  </a:lnTo>
                  <a:lnTo>
                    <a:pt x="1082" y="1144"/>
                  </a:lnTo>
                  <a:lnTo>
                    <a:pt x="1096" y="1058"/>
                  </a:lnTo>
                  <a:lnTo>
                    <a:pt x="1105" y="971"/>
                  </a:lnTo>
                  <a:lnTo>
                    <a:pt x="1107" y="882"/>
                  </a:lnTo>
                  <a:lnTo>
                    <a:pt x="1105" y="792"/>
                  </a:lnTo>
                  <a:lnTo>
                    <a:pt x="1096" y="705"/>
                  </a:lnTo>
                  <a:lnTo>
                    <a:pt x="1082" y="620"/>
                  </a:lnTo>
                  <a:lnTo>
                    <a:pt x="1063" y="538"/>
                  </a:lnTo>
                  <a:lnTo>
                    <a:pt x="1040" y="461"/>
                  </a:lnTo>
                  <a:lnTo>
                    <a:pt x="1013" y="389"/>
                  </a:lnTo>
                  <a:lnTo>
                    <a:pt x="980" y="320"/>
                  </a:lnTo>
                  <a:lnTo>
                    <a:pt x="944" y="258"/>
                  </a:lnTo>
                  <a:lnTo>
                    <a:pt x="905" y="202"/>
                  </a:lnTo>
                  <a:lnTo>
                    <a:pt x="863" y="150"/>
                  </a:lnTo>
                  <a:lnTo>
                    <a:pt x="818" y="106"/>
                  </a:lnTo>
                  <a:lnTo>
                    <a:pt x="770" y="68"/>
                  </a:lnTo>
                  <a:lnTo>
                    <a:pt x="718" y="39"/>
                  </a:lnTo>
                  <a:lnTo>
                    <a:pt x="666" y="19"/>
                  </a:lnTo>
                  <a:lnTo>
                    <a:pt x="610" y="4"/>
                  </a:lnTo>
                  <a:lnTo>
                    <a:pt x="553" y="0"/>
                  </a:lnTo>
                  <a:lnTo>
                    <a:pt x="497" y="4"/>
                  </a:lnTo>
                  <a:lnTo>
                    <a:pt x="441" y="19"/>
                  </a:lnTo>
                  <a:lnTo>
                    <a:pt x="389" y="39"/>
                  </a:lnTo>
                  <a:lnTo>
                    <a:pt x="337" y="68"/>
                  </a:lnTo>
                  <a:lnTo>
                    <a:pt x="289" y="106"/>
                  </a:lnTo>
                  <a:lnTo>
                    <a:pt x="244" y="150"/>
                  </a:lnTo>
                  <a:lnTo>
                    <a:pt x="202" y="202"/>
                  </a:lnTo>
                  <a:lnTo>
                    <a:pt x="162" y="258"/>
                  </a:lnTo>
                  <a:lnTo>
                    <a:pt x="127" y="320"/>
                  </a:lnTo>
                  <a:lnTo>
                    <a:pt x="94" y="389"/>
                  </a:lnTo>
                  <a:lnTo>
                    <a:pt x="67" y="461"/>
                  </a:lnTo>
                  <a:lnTo>
                    <a:pt x="44" y="538"/>
                  </a:lnTo>
                  <a:lnTo>
                    <a:pt x="25" y="620"/>
                  </a:lnTo>
                  <a:lnTo>
                    <a:pt x="11" y="705"/>
                  </a:lnTo>
                  <a:lnTo>
                    <a:pt x="2" y="792"/>
                  </a:lnTo>
                  <a:lnTo>
                    <a:pt x="0" y="882"/>
                  </a:lnTo>
                  <a:lnTo>
                    <a:pt x="2" y="971"/>
                  </a:lnTo>
                  <a:lnTo>
                    <a:pt x="11" y="1058"/>
                  </a:lnTo>
                  <a:lnTo>
                    <a:pt x="25" y="1144"/>
                  </a:lnTo>
                  <a:lnTo>
                    <a:pt x="44" y="1223"/>
                  </a:lnTo>
                  <a:lnTo>
                    <a:pt x="67" y="1300"/>
                  </a:lnTo>
                  <a:lnTo>
                    <a:pt x="94" y="1372"/>
                  </a:lnTo>
                  <a:lnTo>
                    <a:pt x="127" y="1441"/>
                  </a:lnTo>
                  <a:lnTo>
                    <a:pt x="162" y="1503"/>
                  </a:lnTo>
                  <a:lnTo>
                    <a:pt x="202" y="1559"/>
                  </a:lnTo>
                  <a:lnTo>
                    <a:pt x="244" y="1611"/>
                  </a:lnTo>
                  <a:lnTo>
                    <a:pt x="289" y="1655"/>
                  </a:lnTo>
                  <a:lnTo>
                    <a:pt x="337" y="1693"/>
                  </a:lnTo>
                  <a:lnTo>
                    <a:pt x="389" y="1722"/>
                  </a:lnTo>
                  <a:lnTo>
                    <a:pt x="441" y="1742"/>
                  </a:lnTo>
                  <a:lnTo>
                    <a:pt x="497" y="1757"/>
                  </a:lnTo>
                  <a:lnTo>
                    <a:pt x="553" y="1761"/>
                  </a:lnTo>
                  <a:close/>
                </a:path>
              </a:pathLst>
            </a:custGeom>
            <a:solidFill>
              <a:srgbClr val="eff7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14720" y="2787480"/>
              <a:ext cx="1700280" cy="2706480"/>
            </a:xfrm>
            <a:custGeom>
              <a:avLst/>
              <a:gdLst/>
              <a:ahLst/>
              <a:rect l="l" t="t" r="r" b="b"/>
              <a:pathLst>
                <a:path w="1071" h="1705">
                  <a:moveTo>
                    <a:pt x="534" y="1705"/>
                  </a:moveTo>
                  <a:lnTo>
                    <a:pt x="588" y="1701"/>
                  </a:lnTo>
                  <a:lnTo>
                    <a:pt x="643" y="1689"/>
                  </a:lnTo>
                  <a:lnTo>
                    <a:pt x="695" y="1668"/>
                  </a:lnTo>
                  <a:lnTo>
                    <a:pt x="744" y="1639"/>
                  </a:lnTo>
                  <a:lnTo>
                    <a:pt x="790" y="1601"/>
                  </a:lnTo>
                  <a:lnTo>
                    <a:pt x="834" y="1560"/>
                  </a:lnTo>
                  <a:lnTo>
                    <a:pt x="875" y="1510"/>
                  </a:lnTo>
                  <a:lnTo>
                    <a:pt x="915" y="1456"/>
                  </a:lnTo>
                  <a:lnTo>
                    <a:pt x="948" y="1395"/>
                  </a:lnTo>
                  <a:lnTo>
                    <a:pt x="979" y="1329"/>
                  </a:lnTo>
                  <a:lnTo>
                    <a:pt x="1006" y="1258"/>
                  </a:lnTo>
                  <a:lnTo>
                    <a:pt x="1029" y="1183"/>
                  </a:lnTo>
                  <a:lnTo>
                    <a:pt x="1046" y="1106"/>
                  </a:lnTo>
                  <a:lnTo>
                    <a:pt x="1061" y="1025"/>
                  </a:lnTo>
                  <a:lnTo>
                    <a:pt x="1069" y="940"/>
                  </a:lnTo>
                  <a:lnTo>
                    <a:pt x="1071" y="853"/>
                  </a:lnTo>
                  <a:lnTo>
                    <a:pt x="1069" y="765"/>
                  </a:lnTo>
                  <a:lnTo>
                    <a:pt x="1061" y="680"/>
                  </a:lnTo>
                  <a:lnTo>
                    <a:pt x="1046" y="599"/>
                  </a:lnTo>
                  <a:lnTo>
                    <a:pt x="1029" y="520"/>
                  </a:lnTo>
                  <a:lnTo>
                    <a:pt x="1006" y="445"/>
                  </a:lnTo>
                  <a:lnTo>
                    <a:pt x="979" y="376"/>
                  </a:lnTo>
                  <a:lnTo>
                    <a:pt x="948" y="310"/>
                  </a:lnTo>
                  <a:lnTo>
                    <a:pt x="915" y="249"/>
                  </a:lnTo>
                  <a:lnTo>
                    <a:pt x="875" y="193"/>
                  </a:lnTo>
                  <a:lnTo>
                    <a:pt x="834" y="145"/>
                  </a:lnTo>
                  <a:lnTo>
                    <a:pt x="790" y="102"/>
                  </a:lnTo>
                  <a:lnTo>
                    <a:pt x="744" y="66"/>
                  </a:lnTo>
                  <a:lnTo>
                    <a:pt x="695" y="37"/>
                  </a:lnTo>
                  <a:lnTo>
                    <a:pt x="643" y="17"/>
                  </a:lnTo>
                  <a:lnTo>
                    <a:pt x="588" y="4"/>
                  </a:lnTo>
                  <a:lnTo>
                    <a:pt x="534" y="0"/>
                  </a:lnTo>
                  <a:lnTo>
                    <a:pt x="480" y="4"/>
                  </a:lnTo>
                  <a:lnTo>
                    <a:pt x="426" y="17"/>
                  </a:lnTo>
                  <a:lnTo>
                    <a:pt x="376" y="37"/>
                  </a:lnTo>
                  <a:lnTo>
                    <a:pt x="326" y="66"/>
                  </a:lnTo>
                  <a:lnTo>
                    <a:pt x="279" y="102"/>
                  </a:lnTo>
                  <a:lnTo>
                    <a:pt x="235" y="145"/>
                  </a:lnTo>
                  <a:lnTo>
                    <a:pt x="193" y="193"/>
                  </a:lnTo>
                  <a:lnTo>
                    <a:pt x="156" y="249"/>
                  </a:lnTo>
                  <a:lnTo>
                    <a:pt x="123" y="310"/>
                  </a:lnTo>
                  <a:lnTo>
                    <a:pt x="91" y="376"/>
                  </a:lnTo>
                  <a:lnTo>
                    <a:pt x="64" y="445"/>
                  </a:lnTo>
                  <a:lnTo>
                    <a:pt x="42" y="520"/>
                  </a:lnTo>
                  <a:lnTo>
                    <a:pt x="25" y="599"/>
                  </a:lnTo>
                  <a:lnTo>
                    <a:pt x="10" y="680"/>
                  </a:lnTo>
                  <a:lnTo>
                    <a:pt x="2" y="765"/>
                  </a:lnTo>
                  <a:lnTo>
                    <a:pt x="0" y="853"/>
                  </a:lnTo>
                  <a:lnTo>
                    <a:pt x="2" y="940"/>
                  </a:lnTo>
                  <a:lnTo>
                    <a:pt x="10" y="1025"/>
                  </a:lnTo>
                  <a:lnTo>
                    <a:pt x="25" y="1106"/>
                  </a:lnTo>
                  <a:lnTo>
                    <a:pt x="42" y="1183"/>
                  </a:lnTo>
                  <a:lnTo>
                    <a:pt x="64" y="1258"/>
                  </a:lnTo>
                  <a:lnTo>
                    <a:pt x="91" y="1329"/>
                  </a:lnTo>
                  <a:lnTo>
                    <a:pt x="123" y="1395"/>
                  </a:lnTo>
                  <a:lnTo>
                    <a:pt x="156" y="1456"/>
                  </a:lnTo>
                  <a:lnTo>
                    <a:pt x="193" y="1510"/>
                  </a:lnTo>
                  <a:lnTo>
                    <a:pt x="235" y="1560"/>
                  </a:lnTo>
                  <a:lnTo>
                    <a:pt x="279" y="1601"/>
                  </a:lnTo>
                  <a:lnTo>
                    <a:pt x="326" y="1639"/>
                  </a:lnTo>
                  <a:lnTo>
                    <a:pt x="376" y="1668"/>
                  </a:lnTo>
                  <a:lnTo>
                    <a:pt x="426" y="1689"/>
                  </a:lnTo>
                  <a:lnTo>
                    <a:pt x="480" y="1701"/>
                  </a:lnTo>
                  <a:lnTo>
                    <a:pt x="534" y="1705"/>
                  </a:lnTo>
                  <a:close/>
                </a:path>
              </a:pathLst>
            </a:custGeom>
            <a:solidFill>
              <a:srgbClr val="f4f7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41720" y="2830320"/>
              <a:ext cx="1643040" cy="2617560"/>
            </a:xfrm>
            <a:custGeom>
              <a:avLst/>
              <a:gdLst/>
              <a:ahLst/>
              <a:rect l="l" t="t" r="r" b="b"/>
              <a:pathLst>
                <a:path w="1035" h="1649">
                  <a:moveTo>
                    <a:pt x="517" y="1649"/>
                  </a:moveTo>
                  <a:lnTo>
                    <a:pt x="571" y="1645"/>
                  </a:lnTo>
                  <a:lnTo>
                    <a:pt x="621" y="1632"/>
                  </a:lnTo>
                  <a:lnTo>
                    <a:pt x="671" y="1612"/>
                  </a:lnTo>
                  <a:lnTo>
                    <a:pt x="719" y="1585"/>
                  </a:lnTo>
                  <a:lnTo>
                    <a:pt x="765" y="1549"/>
                  </a:lnTo>
                  <a:lnTo>
                    <a:pt x="806" y="1508"/>
                  </a:lnTo>
                  <a:lnTo>
                    <a:pt x="848" y="1462"/>
                  </a:lnTo>
                  <a:lnTo>
                    <a:pt x="883" y="1408"/>
                  </a:lnTo>
                  <a:lnTo>
                    <a:pt x="917" y="1350"/>
                  </a:lnTo>
                  <a:lnTo>
                    <a:pt x="948" y="1287"/>
                  </a:lnTo>
                  <a:lnTo>
                    <a:pt x="973" y="1219"/>
                  </a:lnTo>
                  <a:lnTo>
                    <a:pt x="996" y="1146"/>
                  </a:lnTo>
                  <a:lnTo>
                    <a:pt x="1012" y="1071"/>
                  </a:lnTo>
                  <a:lnTo>
                    <a:pt x="1025" y="992"/>
                  </a:lnTo>
                  <a:lnTo>
                    <a:pt x="1033" y="911"/>
                  </a:lnTo>
                  <a:lnTo>
                    <a:pt x="1035" y="826"/>
                  </a:lnTo>
                  <a:lnTo>
                    <a:pt x="1033" y="740"/>
                  </a:lnTo>
                  <a:lnTo>
                    <a:pt x="1025" y="659"/>
                  </a:lnTo>
                  <a:lnTo>
                    <a:pt x="1012" y="580"/>
                  </a:lnTo>
                  <a:lnTo>
                    <a:pt x="996" y="505"/>
                  </a:lnTo>
                  <a:lnTo>
                    <a:pt x="973" y="433"/>
                  </a:lnTo>
                  <a:lnTo>
                    <a:pt x="948" y="364"/>
                  </a:lnTo>
                  <a:lnTo>
                    <a:pt x="917" y="301"/>
                  </a:lnTo>
                  <a:lnTo>
                    <a:pt x="883" y="241"/>
                  </a:lnTo>
                  <a:lnTo>
                    <a:pt x="848" y="189"/>
                  </a:lnTo>
                  <a:lnTo>
                    <a:pt x="806" y="141"/>
                  </a:lnTo>
                  <a:lnTo>
                    <a:pt x="765" y="100"/>
                  </a:lnTo>
                  <a:lnTo>
                    <a:pt x="719" y="64"/>
                  </a:lnTo>
                  <a:lnTo>
                    <a:pt x="671" y="37"/>
                  </a:lnTo>
                  <a:lnTo>
                    <a:pt x="621" y="17"/>
                  </a:lnTo>
                  <a:lnTo>
                    <a:pt x="571" y="4"/>
                  </a:lnTo>
                  <a:lnTo>
                    <a:pt x="517" y="0"/>
                  </a:lnTo>
                  <a:lnTo>
                    <a:pt x="465" y="4"/>
                  </a:lnTo>
                  <a:lnTo>
                    <a:pt x="413" y="17"/>
                  </a:lnTo>
                  <a:lnTo>
                    <a:pt x="364" y="37"/>
                  </a:lnTo>
                  <a:lnTo>
                    <a:pt x="316" y="64"/>
                  </a:lnTo>
                  <a:lnTo>
                    <a:pt x="272" y="100"/>
                  </a:lnTo>
                  <a:lnTo>
                    <a:pt x="228" y="141"/>
                  </a:lnTo>
                  <a:lnTo>
                    <a:pt x="189" y="189"/>
                  </a:lnTo>
                  <a:lnTo>
                    <a:pt x="151" y="241"/>
                  </a:lnTo>
                  <a:lnTo>
                    <a:pt x="118" y="301"/>
                  </a:lnTo>
                  <a:lnTo>
                    <a:pt x="89" y="364"/>
                  </a:lnTo>
                  <a:lnTo>
                    <a:pt x="62" y="433"/>
                  </a:lnTo>
                  <a:lnTo>
                    <a:pt x="41" y="505"/>
                  </a:lnTo>
                  <a:lnTo>
                    <a:pt x="22" y="580"/>
                  </a:lnTo>
                  <a:lnTo>
                    <a:pt x="10" y="659"/>
                  </a:lnTo>
                  <a:lnTo>
                    <a:pt x="2" y="740"/>
                  </a:lnTo>
                  <a:lnTo>
                    <a:pt x="0" y="826"/>
                  </a:lnTo>
                  <a:lnTo>
                    <a:pt x="2" y="911"/>
                  </a:lnTo>
                  <a:lnTo>
                    <a:pt x="10" y="992"/>
                  </a:lnTo>
                  <a:lnTo>
                    <a:pt x="22" y="1071"/>
                  </a:lnTo>
                  <a:lnTo>
                    <a:pt x="41" y="1146"/>
                  </a:lnTo>
                  <a:lnTo>
                    <a:pt x="62" y="1219"/>
                  </a:lnTo>
                  <a:lnTo>
                    <a:pt x="89" y="1287"/>
                  </a:lnTo>
                  <a:lnTo>
                    <a:pt x="118" y="1350"/>
                  </a:lnTo>
                  <a:lnTo>
                    <a:pt x="151" y="1408"/>
                  </a:lnTo>
                  <a:lnTo>
                    <a:pt x="189" y="1462"/>
                  </a:lnTo>
                  <a:lnTo>
                    <a:pt x="228" y="1508"/>
                  </a:lnTo>
                  <a:lnTo>
                    <a:pt x="272" y="1549"/>
                  </a:lnTo>
                  <a:lnTo>
                    <a:pt x="316" y="1585"/>
                  </a:lnTo>
                  <a:lnTo>
                    <a:pt x="364" y="1612"/>
                  </a:lnTo>
                  <a:lnTo>
                    <a:pt x="413" y="1632"/>
                  </a:lnTo>
                  <a:lnTo>
                    <a:pt x="465" y="1645"/>
                  </a:lnTo>
                  <a:lnTo>
                    <a:pt x="517" y="1649"/>
                  </a:lnTo>
                  <a:close/>
                </a:path>
              </a:pathLst>
            </a:custGeom>
            <a:solidFill>
              <a:srgbClr val="f9f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070160" y="2876400"/>
              <a:ext cx="1589040" cy="2528640"/>
            </a:xfrm>
            <a:custGeom>
              <a:avLst/>
              <a:gdLst/>
              <a:ahLst/>
              <a:rect l="l" t="t" r="r" b="b"/>
              <a:pathLst>
                <a:path w="1001" h="1593">
                  <a:moveTo>
                    <a:pt x="499" y="1593"/>
                  </a:moveTo>
                  <a:lnTo>
                    <a:pt x="551" y="1589"/>
                  </a:lnTo>
                  <a:lnTo>
                    <a:pt x="601" y="1576"/>
                  </a:lnTo>
                  <a:lnTo>
                    <a:pt x="649" y="1558"/>
                  </a:lnTo>
                  <a:lnTo>
                    <a:pt x="695" y="1531"/>
                  </a:lnTo>
                  <a:lnTo>
                    <a:pt x="739" y="1497"/>
                  </a:lnTo>
                  <a:lnTo>
                    <a:pt x="780" y="1456"/>
                  </a:lnTo>
                  <a:lnTo>
                    <a:pt x="818" y="1410"/>
                  </a:lnTo>
                  <a:lnTo>
                    <a:pt x="853" y="1360"/>
                  </a:lnTo>
                  <a:lnTo>
                    <a:pt x="886" y="1302"/>
                  </a:lnTo>
                  <a:lnTo>
                    <a:pt x="915" y="1242"/>
                  </a:lnTo>
                  <a:lnTo>
                    <a:pt x="940" y="1175"/>
                  </a:lnTo>
                  <a:lnTo>
                    <a:pt x="961" y="1106"/>
                  </a:lnTo>
                  <a:lnTo>
                    <a:pt x="978" y="1034"/>
                  </a:lnTo>
                  <a:lnTo>
                    <a:pt x="990" y="957"/>
                  </a:lnTo>
                  <a:lnTo>
                    <a:pt x="999" y="878"/>
                  </a:lnTo>
                  <a:lnTo>
                    <a:pt x="1001" y="797"/>
                  </a:lnTo>
                  <a:lnTo>
                    <a:pt x="999" y="715"/>
                  </a:lnTo>
                  <a:lnTo>
                    <a:pt x="990" y="636"/>
                  </a:lnTo>
                  <a:lnTo>
                    <a:pt x="978" y="559"/>
                  </a:lnTo>
                  <a:lnTo>
                    <a:pt x="961" y="487"/>
                  </a:lnTo>
                  <a:lnTo>
                    <a:pt x="940" y="416"/>
                  </a:lnTo>
                  <a:lnTo>
                    <a:pt x="915" y="352"/>
                  </a:lnTo>
                  <a:lnTo>
                    <a:pt x="886" y="289"/>
                  </a:lnTo>
                  <a:lnTo>
                    <a:pt x="853" y="233"/>
                  </a:lnTo>
                  <a:lnTo>
                    <a:pt x="818" y="181"/>
                  </a:lnTo>
                  <a:lnTo>
                    <a:pt x="780" y="135"/>
                  </a:lnTo>
                  <a:lnTo>
                    <a:pt x="739" y="96"/>
                  </a:lnTo>
                  <a:lnTo>
                    <a:pt x="695" y="62"/>
                  </a:lnTo>
                  <a:lnTo>
                    <a:pt x="649" y="35"/>
                  </a:lnTo>
                  <a:lnTo>
                    <a:pt x="601" y="17"/>
                  </a:lnTo>
                  <a:lnTo>
                    <a:pt x="551" y="4"/>
                  </a:lnTo>
                  <a:lnTo>
                    <a:pt x="499" y="0"/>
                  </a:lnTo>
                  <a:lnTo>
                    <a:pt x="447" y="4"/>
                  </a:lnTo>
                  <a:lnTo>
                    <a:pt x="400" y="17"/>
                  </a:lnTo>
                  <a:lnTo>
                    <a:pt x="350" y="35"/>
                  </a:lnTo>
                  <a:lnTo>
                    <a:pt x="304" y="62"/>
                  </a:lnTo>
                  <a:lnTo>
                    <a:pt x="260" y="96"/>
                  </a:lnTo>
                  <a:lnTo>
                    <a:pt x="221" y="135"/>
                  </a:lnTo>
                  <a:lnTo>
                    <a:pt x="181" y="181"/>
                  </a:lnTo>
                  <a:lnTo>
                    <a:pt x="146" y="233"/>
                  </a:lnTo>
                  <a:lnTo>
                    <a:pt x="115" y="289"/>
                  </a:lnTo>
                  <a:lnTo>
                    <a:pt x="86" y="352"/>
                  </a:lnTo>
                  <a:lnTo>
                    <a:pt x="61" y="416"/>
                  </a:lnTo>
                  <a:lnTo>
                    <a:pt x="40" y="487"/>
                  </a:lnTo>
                  <a:lnTo>
                    <a:pt x="23" y="559"/>
                  </a:lnTo>
                  <a:lnTo>
                    <a:pt x="11" y="636"/>
                  </a:lnTo>
                  <a:lnTo>
                    <a:pt x="2" y="715"/>
                  </a:lnTo>
                  <a:lnTo>
                    <a:pt x="0" y="797"/>
                  </a:lnTo>
                  <a:lnTo>
                    <a:pt x="2" y="878"/>
                  </a:lnTo>
                  <a:lnTo>
                    <a:pt x="11" y="957"/>
                  </a:lnTo>
                  <a:lnTo>
                    <a:pt x="23" y="1034"/>
                  </a:lnTo>
                  <a:lnTo>
                    <a:pt x="40" y="1106"/>
                  </a:lnTo>
                  <a:lnTo>
                    <a:pt x="61" y="1175"/>
                  </a:lnTo>
                  <a:lnTo>
                    <a:pt x="86" y="1242"/>
                  </a:lnTo>
                  <a:lnTo>
                    <a:pt x="115" y="1302"/>
                  </a:lnTo>
                  <a:lnTo>
                    <a:pt x="146" y="1360"/>
                  </a:lnTo>
                  <a:lnTo>
                    <a:pt x="181" y="1410"/>
                  </a:lnTo>
                  <a:lnTo>
                    <a:pt x="221" y="1456"/>
                  </a:lnTo>
                  <a:lnTo>
                    <a:pt x="260" y="1497"/>
                  </a:lnTo>
                  <a:lnTo>
                    <a:pt x="304" y="1531"/>
                  </a:lnTo>
                  <a:lnTo>
                    <a:pt x="350" y="1558"/>
                  </a:lnTo>
                  <a:lnTo>
                    <a:pt x="400" y="1576"/>
                  </a:lnTo>
                  <a:lnTo>
                    <a:pt x="447" y="1589"/>
                  </a:lnTo>
                  <a:lnTo>
                    <a:pt x="499" y="15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754520" y="3062160"/>
              <a:ext cx="253800" cy="2657160"/>
            </a:xfrm>
            <a:prstGeom prst="rect">
              <a:avLst/>
            </a:pr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36800" y="5414760"/>
              <a:ext cx="2327400" cy="601560"/>
            </a:xfrm>
            <a:custGeom>
              <a:avLst/>
              <a:gdLst/>
              <a:ahLst/>
              <a:rect l="l" t="t" r="r" b="b"/>
              <a:pathLst>
                <a:path w="1466" h="379">
                  <a:moveTo>
                    <a:pt x="1466" y="379"/>
                  </a:moveTo>
                  <a:lnTo>
                    <a:pt x="1458" y="339"/>
                  </a:lnTo>
                  <a:lnTo>
                    <a:pt x="1444" y="302"/>
                  </a:lnTo>
                  <a:lnTo>
                    <a:pt x="1423" y="266"/>
                  </a:lnTo>
                  <a:lnTo>
                    <a:pt x="1396" y="231"/>
                  </a:lnTo>
                  <a:lnTo>
                    <a:pt x="1362" y="198"/>
                  </a:lnTo>
                  <a:lnTo>
                    <a:pt x="1325" y="167"/>
                  </a:lnTo>
                  <a:lnTo>
                    <a:pt x="1283" y="137"/>
                  </a:lnTo>
                  <a:lnTo>
                    <a:pt x="1236" y="110"/>
                  </a:lnTo>
                  <a:lnTo>
                    <a:pt x="1184" y="86"/>
                  </a:lnTo>
                  <a:lnTo>
                    <a:pt x="1129" y="65"/>
                  </a:lnTo>
                  <a:lnTo>
                    <a:pt x="1069" y="46"/>
                  </a:lnTo>
                  <a:lnTo>
                    <a:pt x="1009" y="29"/>
                  </a:lnTo>
                  <a:lnTo>
                    <a:pt x="942" y="17"/>
                  </a:lnTo>
                  <a:lnTo>
                    <a:pt x="876" y="9"/>
                  </a:lnTo>
                  <a:lnTo>
                    <a:pt x="805" y="2"/>
                  </a:lnTo>
                  <a:lnTo>
                    <a:pt x="734" y="0"/>
                  </a:lnTo>
                  <a:lnTo>
                    <a:pt x="662" y="2"/>
                  </a:lnTo>
                  <a:lnTo>
                    <a:pt x="593" y="9"/>
                  </a:lnTo>
                  <a:lnTo>
                    <a:pt x="524" y="17"/>
                  </a:lnTo>
                  <a:lnTo>
                    <a:pt x="460" y="29"/>
                  </a:lnTo>
                  <a:lnTo>
                    <a:pt x="397" y="46"/>
                  </a:lnTo>
                  <a:lnTo>
                    <a:pt x="339" y="65"/>
                  </a:lnTo>
                  <a:lnTo>
                    <a:pt x="283" y="86"/>
                  </a:lnTo>
                  <a:lnTo>
                    <a:pt x="231" y="110"/>
                  </a:lnTo>
                  <a:lnTo>
                    <a:pt x="185" y="137"/>
                  </a:lnTo>
                  <a:lnTo>
                    <a:pt x="142" y="167"/>
                  </a:lnTo>
                  <a:lnTo>
                    <a:pt x="104" y="198"/>
                  </a:lnTo>
                  <a:lnTo>
                    <a:pt x="71" y="231"/>
                  </a:lnTo>
                  <a:lnTo>
                    <a:pt x="44" y="266"/>
                  </a:lnTo>
                  <a:lnTo>
                    <a:pt x="23" y="302"/>
                  </a:lnTo>
                  <a:lnTo>
                    <a:pt x="9" y="339"/>
                  </a:lnTo>
                  <a:lnTo>
                    <a:pt x="0" y="379"/>
                  </a:lnTo>
                  <a:lnTo>
                    <a:pt x="1466" y="379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58920" y="2850840"/>
              <a:ext cx="487440" cy="1177920"/>
            </a:xfrm>
            <a:custGeom>
              <a:avLst/>
              <a:gdLst/>
              <a:ahLst/>
              <a:rect l="l" t="t" r="r" b="b"/>
              <a:pathLst>
                <a:path w="307" h="742">
                  <a:moveTo>
                    <a:pt x="307" y="732"/>
                  </a:moveTo>
                  <a:lnTo>
                    <a:pt x="27" y="0"/>
                  </a:lnTo>
                  <a:lnTo>
                    <a:pt x="0" y="10"/>
                  </a:lnTo>
                  <a:lnTo>
                    <a:pt x="280" y="742"/>
                  </a:lnTo>
                  <a:lnTo>
                    <a:pt x="307" y="732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914560" y="2777760"/>
              <a:ext cx="164880" cy="1270080"/>
            </a:xfrm>
            <a:custGeom>
              <a:avLst/>
              <a:gdLst/>
              <a:ahLst/>
              <a:rect l="l" t="t" r="r" b="b"/>
              <a:pathLst>
                <a:path w="104" h="800">
                  <a:moveTo>
                    <a:pt x="75" y="0"/>
                  </a:moveTo>
                  <a:lnTo>
                    <a:pt x="0" y="798"/>
                  </a:lnTo>
                  <a:lnTo>
                    <a:pt x="30" y="800"/>
                  </a:lnTo>
                  <a:lnTo>
                    <a:pt x="104" y="2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38200" y="2777760"/>
              <a:ext cx="725400" cy="1184400"/>
            </a:xfrm>
            <a:custGeom>
              <a:avLst/>
              <a:gdLst/>
              <a:ahLst/>
              <a:rect l="l" t="t" r="r" b="b"/>
              <a:pathLst>
                <a:path w="457" h="746">
                  <a:moveTo>
                    <a:pt x="432" y="0"/>
                  </a:moveTo>
                  <a:lnTo>
                    <a:pt x="0" y="732"/>
                  </a:lnTo>
                  <a:lnTo>
                    <a:pt x="25" y="746"/>
                  </a:lnTo>
                  <a:lnTo>
                    <a:pt x="457" y="14"/>
                  </a:lnTo>
                  <a:lnTo>
                    <a:pt x="432" y="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303200">
              <a:off x="2650680" y="2741400"/>
              <a:ext cx="4265640" cy="752400"/>
            </a:xfrm>
            <a:custGeom>
              <a:avLst/>
              <a:gdLst/>
              <a:ahLst/>
              <a:rect l="l" t="t" r="r" b="b"/>
              <a:pathLst>
                <a:path w="2687" h="474">
                  <a:moveTo>
                    <a:pt x="2672" y="0"/>
                  </a:moveTo>
                  <a:lnTo>
                    <a:pt x="2687" y="100"/>
                  </a:lnTo>
                  <a:lnTo>
                    <a:pt x="13" y="474"/>
                  </a:lnTo>
                  <a:lnTo>
                    <a:pt x="0" y="374"/>
                  </a:lnTo>
                  <a:lnTo>
                    <a:pt x="2672" y="0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65600" y="2490480"/>
              <a:ext cx="455400" cy="452520"/>
            </a:xfrm>
            <a:custGeom>
              <a:avLst/>
              <a:gdLst/>
              <a:ahLst/>
              <a:rect l="l" t="t" r="r" b="b"/>
              <a:pathLst>
                <a:path w="287" h="285">
                  <a:moveTo>
                    <a:pt x="143" y="285"/>
                  </a:moveTo>
                  <a:lnTo>
                    <a:pt x="172" y="283"/>
                  </a:lnTo>
                  <a:lnTo>
                    <a:pt x="199" y="274"/>
                  </a:lnTo>
                  <a:lnTo>
                    <a:pt x="224" y="260"/>
                  </a:lnTo>
                  <a:lnTo>
                    <a:pt x="245" y="243"/>
                  </a:lnTo>
                  <a:lnTo>
                    <a:pt x="262" y="222"/>
                  </a:lnTo>
                  <a:lnTo>
                    <a:pt x="276" y="197"/>
                  </a:lnTo>
                  <a:lnTo>
                    <a:pt x="285" y="170"/>
                  </a:lnTo>
                  <a:lnTo>
                    <a:pt x="287" y="141"/>
                  </a:lnTo>
                  <a:lnTo>
                    <a:pt x="285" y="112"/>
                  </a:lnTo>
                  <a:lnTo>
                    <a:pt x="276" y="87"/>
                  </a:lnTo>
                  <a:lnTo>
                    <a:pt x="262" y="62"/>
                  </a:lnTo>
                  <a:lnTo>
                    <a:pt x="245" y="41"/>
                  </a:lnTo>
                  <a:lnTo>
                    <a:pt x="224" y="25"/>
                  </a:lnTo>
                  <a:lnTo>
                    <a:pt x="199" y="10"/>
                  </a:lnTo>
                  <a:lnTo>
                    <a:pt x="172" y="2"/>
                  </a:lnTo>
                  <a:lnTo>
                    <a:pt x="143" y="0"/>
                  </a:lnTo>
                  <a:lnTo>
                    <a:pt x="114" y="2"/>
                  </a:lnTo>
                  <a:lnTo>
                    <a:pt x="87" y="10"/>
                  </a:lnTo>
                  <a:lnTo>
                    <a:pt x="62" y="25"/>
                  </a:lnTo>
                  <a:lnTo>
                    <a:pt x="41" y="41"/>
                  </a:lnTo>
                  <a:lnTo>
                    <a:pt x="25" y="62"/>
                  </a:lnTo>
                  <a:lnTo>
                    <a:pt x="10" y="87"/>
                  </a:lnTo>
                  <a:lnTo>
                    <a:pt x="2" y="112"/>
                  </a:lnTo>
                  <a:lnTo>
                    <a:pt x="0" y="141"/>
                  </a:lnTo>
                  <a:lnTo>
                    <a:pt x="2" y="170"/>
                  </a:lnTo>
                  <a:lnTo>
                    <a:pt x="10" y="197"/>
                  </a:lnTo>
                  <a:lnTo>
                    <a:pt x="25" y="222"/>
                  </a:lnTo>
                  <a:lnTo>
                    <a:pt x="41" y="243"/>
                  </a:lnTo>
                  <a:lnTo>
                    <a:pt x="62" y="260"/>
                  </a:lnTo>
                  <a:lnTo>
                    <a:pt x="87" y="274"/>
                  </a:lnTo>
                  <a:lnTo>
                    <a:pt x="114" y="283"/>
                  </a:lnTo>
                  <a:lnTo>
                    <a:pt x="143" y="285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11640" y="3643200"/>
              <a:ext cx="501840" cy="1195200"/>
            </a:xfrm>
            <a:custGeom>
              <a:avLst/>
              <a:gdLst/>
              <a:ahLst/>
              <a:rect l="l" t="t" r="r" b="b"/>
              <a:pathLst>
                <a:path w="316" h="753">
                  <a:moveTo>
                    <a:pt x="27" y="753"/>
                  </a:moveTo>
                  <a:lnTo>
                    <a:pt x="316" y="0"/>
                  </a:lnTo>
                  <a:lnTo>
                    <a:pt x="281" y="10"/>
                  </a:lnTo>
                  <a:lnTo>
                    <a:pt x="0" y="742"/>
                  </a:lnTo>
                  <a:lnTo>
                    <a:pt x="27" y="753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514920" y="3643200"/>
              <a:ext cx="168120" cy="1271520"/>
            </a:xfrm>
            <a:custGeom>
              <a:avLst/>
              <a:gdLst/>
              <a:ahLst/>
              <a:rect l="l" t="t" r="r" b="b"/>
              <a:pathLst>
                <a:path w="106" h="801">
                  <a:moveTo>
                    <a:pt x="0" y="2"/>
                  </a:moveTo>
                  <a:lnTo>
                    <a:pt x="77" y="801"/>
                  </a:lnTo>
                  <a:lnTo>
                    <a:pt x="106" y="799"/>
                  </a:lnTo>
                  <a:lnTo>
                    <a:pt x="29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514920" y="3498480"/>
              <a:ext cx="773280" cy="1265400"/>
            </a:xfrm>
            <a:custGeom>
              <a:avLst/>
              <a:gdLst/>
              <a:ahLst/>
              <a:rect l="l" t="t" r="r" b="b"/>
              <a:pathLst>
                <a:path w="487" h="797">
                  <a:moveTo>
                    <a:pt x="0" y="15"/>
                  </a:moveTo>
                  <a:lnTo>
                    <a:pt x="462" y="797"/>
                  </a:lnTo>
                  <a:lnTo>
                    <a:pt x="487" y="782"/>
                  </a:lnTo>
                  <a:lnTo>
                    <a:pt x="25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50920" y="4001760"/>
              <a:ext cx="1679400" cy="865080"/>
            </a:xfrm>
            <a:custGeom>
              <a:avLst/>
              <a:gdLst/>
              <a:ahLst/>
              <a:rect l="l" t="t" r="r" b="b"/>
              <a:pathLst>
                <a:path w="1058" h="545">
                  <a:moveTo>
                    <a:pt x="0" y="0"/>
                  </a:moveTo>
                  <a:lnTo>
                    <a:pt x="0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" y="68"/>
                  </a:lnTo>
                  <a:lnTo>
                    <a:pt x="10" y="120"/>
                  </a:lnTo>
                  <a:lnTo>
                    <a:pt x="23" y="172"/>
                  </a:lnTo>
                  <a:lnTo>
                    <a:pt x="41" y="220"/>
                  </a:lnTo>
                  <a:lnTo>
                    <a:pt x="64" y="268"/>
                  </a:lnTo>
                  <a:lnTo>
                    <a:pt x="91" y="312"/>
                  </a:lnTo>
                  <a:lnTo>
                    <a:pt x="120" y="351"/>
                  </a:lnTo>
                  <a:lnTo>
                    <a:pt x="156" y="389"/>
                  </a:lnTo>
                  <a:lnTo>
                    <a:pt x="193" y="424"/>
                  </a:lnTo>
                  <a:lnTo>
                    <a:pt x="233" y="453"/>
                  </a:lnTo>
                  <a:lnTo>
                    <a:pt x="276" y="480"/>
                  </a:lnTo>
                  <a:lnTo>
                    <a:pt x="324" y="503"/>
                  </a:lnTo>
                  <a:lnTo>
                    <a:pt x="372" y="522"/>
                  </a:lnTo>
                  <a:lnTo>
                    <a:pt x="424" y="534"/>
                  </a:lnTo>
                  <a:lnTo>
                    <a:pt x="476" y="543"/>
                  </a:lnTo>
                  <a:lnTo>
                    <a:pt x="530" y="545"/>
                  </a:lnTo>
                  <a:lnTo>
                    <a:pt x="584" y="543"/>
                  </a:lnTo>
                  <a:lnTo>
                    <a:pt x="636" y="534"/>
                  </a:lnTo>
                  <a:lnTo>
                    <a:pt x="686" y="522"/>
                  </a:lnTo>
                  <a:lnTo>
                    <a:pt x="736" y="503"/>
                  </a:lnTo>
                  <a:lnTo>
                    <a:pt x="782" y="480"/>
                  </a:lnTo>
                  <a:lnTo>
                    <a:pt x="825" y="453"/>
                  </a:lnTo>
                  <a:lnTo>
                    <a:pt x="865" y="424"/>
                  </a:lnTo>
                  <a:lnTo>
                    <a:pt x="904" y="389"/>
                  </a:lnTo>
                  <a:lnTo>
                    <a:pt x="938" y="351"/>
                  </a:lnTo>
                  <a:lnTo>
                    <a:pt x="969" y="312"/>
                  </a:lnTo>
                  <a:lnTo>
                    <a:pt x="994" y="268"/>
                  </a:lnTo>
                  <a:lnTo>
                    <a:pt x="1017" y="220"/>
                  </a:lnTo>
                  <a:lnTo>
                    <a:pt x="1035" y="172"/>
                  </a:lnTo>
                  <a:lnTo>
                    <a:pt x="1048" y="120"/>
                  </a:lnTo>
                  <a:lnTo>
                    <a:pt x="1056" y="68"/>
                  </a:lnTo>
                  <a:lnTo>
                    <a:pt x="1058" y="14"/>
                  </a:lnTo>
                  <a:lnTo>
                    <a:pt x="1058" y="10"/>
                  </a:lnTo>
                  <a:lnTo>
                    <a:pt x="1058" y="6"/>
                  </a:lnTo>
                  <a:lnTo>
                    <a:pt x="1058" y="4"/>
                  </a:lnTo>
                  <a:lnTo>
                    <a:pt x="10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95640" y="4794120"/>
              <a:ext cx="1687680" cy="863640"/>
            </a:xfrm>
            <a:custGeom>
              <a:avLst/>
              <a:gdLst/>
              <a:ahLst/>
              <a:rect l="l" t="t" r="r" b="b"/>
              <a:pathLst>
                <a:path w="1063" h="544">
                  <a:moveTo>
                    <a:pt x="2" y="0"/>
                  </a:moveTo>
                  <a:lnTo>
                    <a:pt x="2" y="4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" y="68"/>
                  </a:lnTo>
                  <a:lnTo>
                    <a:pt x="11" y="120"/>
                  </a:lnTo>
                  <a:lnTo>
                    <a:pt x="25" y="172"/>
                  </a:lnTo>
                  <a:lnTo>
                    <a:pt x="42" y="220"/>
                  </a:lnTo>
                  <a:lnTo>
                    <a:pt x="65" y="268"/>
                  </a:lnTo>
                  <a:lnTo>
                    <a:pt x="92" y="311"/>
                  </a:lnTo>
                  <a:lnTo>
                    <a:pt x="123" y="351"/>
                  </a:lnTo>
                  <a:lnTo>
                    <a:pt x="156" y="388"/>
                  </a:lnTo>
                  <a:lnTo>
                    <a:pt x="194" y="424"/>
                  </a:lnTo>
                  <a:lnTo>
                    <a:pt x="235" y="453"/>
                  </a:lnTo>
                  <a:lnTo>
                    <a:pt x="279" y="480"/>
                  </a:lnTo>
                  <a:lnTo>
                    <a:pt x="327" y="503"/>
                  </a:lnTo>
                  <a:lnTo>
                    <a:pt x="375" y="522"/>
                  </a:lnTo>
                  <a:lnTo>
                    <a:pt x="427" y="534"/>
                  </a:lnTo>
                  <a:lnTo>
                    <a:pt x="479" y="542"/>
                  </a:lnTo>
                  <a:lnTo>
                    <a:pt x="533" y="544"/>
                  </a:lnTo>
                  <a:lnTo>
                    <a:pt x="587" y="542"/>
                  </a:lnTo>
                  <a:lnTo>
                    <a:pt x="639" y="534"/>
                  </a:lnTo>
                  <a:lnTo>
                    <a:pt x="691" y="522"/>
                  </a:lnTo>
                  <a:lnTo>
                    <a:pt x="739" y="503"/>
                  </a:lnTo>
                  <a:lnTo>
                    <a:pt x="786" y="480"/>
                  </a:lnTo>
                  <a:lnTo>
                    <a:pt x="830" y="453"/>
                  </a:lnTo>
                  <a:lnTo>
                    <a:pt x="870" y="424"/>
                  </a:lnTo>
                  <a:lnTo>
                    <a:pt x="907" y="388"/>
                  </a:lnTo>
                  <a:lnTo>
                    <a:pt x="942" y="351"/>
                  </a:lnTo>
                  <a:lnTo>
                    <a:pt x="972" y="311"/>
                  </a:lnTo>
                  <a:lnTo>
                    <a:pt x="999" y="268"/>
                  </a:lnTo>
                  <a:lnTo>
                    <a:pt x="1021" y="220"/>
                  </a:lnTo>
                  <a:lnTo>
                    <a:pt x="1040" y="172"/>
                  </a:lnTo>
                  <a:lnTo>
                    <a:pt x="1053" y="120"/>
                  </a:lnTo>
                  <a:lnTo>
                    <a:pt x="1061" y="68"/>
                  </a:lnTo>
                  <a:lnTo>
                    <a:pt x="1063" y="14"/>
                  </a:lnTo>
                  <a:lnTo>
                    <a:pt x="1063" y="10"/>
                  </a:lnTo>
                  <a:lnTo>
                    <a:pt x="1063" y="8"/>
                  </a:lnTo>
                  <a:lnTo>
                    <a:pt x="1063" y="4"/>
                  </a:lnTo>
                  <a:lnTo>
                    <a:pt x="106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03600" y="5606640"/>
              <a:ext cx="1131840" cy="79560"/>
            </a:xfrm>
            <a:custGeom>
              <a:avLst/>
              <a:gdLst/>
              <a:ahLst/>
              <a:rect l="l" t="t" r="r" b="b"/>
              <a:pathLst>
                <a:path w="713" h="50">
                  <a:moveTo>
                    <a:pt x="713" y="50"/>
                  </a:moveTo>
                  <a:lnTo>
                    <a:pt x="703" y="44"/>
                  </a:lnTo>
                  <a:lnTo>
                    <a:pt x="690" y="37"/>
                  </a:lnTo>
                  <a:lnTo>
                    <a:pt x="680" y="31"/>
                  </a:lnTo>
                  <a:lnTo>
                    <a:pt x="667" y="25"/>
                  </a:lnTo>
                  <a:lnTo>
                    <a:pt x="657" y="19"/>
                  </a:lnTo>
                  <a:lnTo>
                    <a:pt x="644" y="12"/>
                  </a:lnTo>
                  <a:lnTo>
                    <a:pt x="632" y="6"/>
                  </a:lnTo>
                  <a:lnTo>
                    <a:pt x="619" y="0"/>
                  </a:lnTo>
                  <a:lnTo>
                    <a:pt x="0" y="27"/>
                  </a:lnTo>
                  <a:lnTo>
                    <a:pt x="713" y="50"/>
                  </a:lnTo>
                  <a:close/>
                </a:path>
              </a:pathLst>
            </a:custGeom>
            <a:solidFill>
              <a:srgbClr val="282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11600" y="5784480"/>
              <a:ext cx="1222200" cy="88920"/>
            </a:xfrm>
            <a:custGeom>
              <a:avLst/>
              <a:gdLst/>
              <a:ahLst/>
              <a:rect l="l" t="t" r="r" b="b"/>
              <a:pathLst>
                <a:path w="770" h="56">
                  <a:moveTo>
                    <a:pt x="770" y="56"/>
                  </a:moveTo>
                  <a:lnTo>
                    <a:pt x="759" y="42"/>
                  </a:lnTo>
                  <a:lnTo>
                    <a:pt x="749" y="27"/>
                  </a:lnTo>
                  <a:lnTo>
                    <a:pt x="737" y="13"/>
                  </a:lnTo>
                  <a:lnTo>
                    <a:pt x="722" y="0"/>
                  </a:lnTo>
                  <a:lnTo>
                    <a:pt x="0" y="29"/>
                  </a:lnTo>
                  <a:lnTo>
                    <a:pt x="770" y="56"/>
                  </a:lnTo>
                  <a:close/>
                </a:path>
              </a:pathLst>
            </a:custGeom>
            <a:solidFill>
              <a:srgbClr val="282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195640" y="4149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IÑ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867280" y="48690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SCUEL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0:23:14Z</dcterms:created>
  <dc:creator>ONCE</dc:creator>
  <dc:description/>
  <dc:language>en-US</dc:language>
  <cp:lastModifiedBy>usuario</cp:lastModifiedBy>
  <dcterms:modified xsi:type="dcterms:W3CDTF">2008-10-01T14:25:47Z</dcterms:modified>
  <cp:revision>68</cp:revision>
  <dc:subject/>
  <dc:title>INCLUSIÓN SOCIAL DE JÓVENES CON DISCAPACIDAD VISUAL DESDE EL ÁMBITO EDUCATIVO</dc:title>
</cp:coreProperties>
</file>